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84A-2668-4EDC-8689-32DEB603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A41-C736-4A1C-8562-C562687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606-43E3-43CA-B407-4D4F5A2A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566-2AD4-4650-B4DA-D4BEC3FB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1F5-0E25-4EC4-AE2C-F9B4C899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A06D-3ED8-4A6E-AE18-82C276ED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B28C-DB5E-495C-B6D4-1A705453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188-3A76-4313-B6BD-0FE0984E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C4F-F148-4372-99AB-E7C49FC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4848-9401-4B0C-BB3D-16B5385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E91C-FF70-4D79-91E3-AC851957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373-D3C2-48E0-94DB-7431D297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3BC-59C7-4124-982D-EE764A5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F903-C05D-412B-80FF-D99A242E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45BE-2727-4691-B4D5-0762A9A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28F9-20CD-4B13-BD19-3D167890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23B-82FB-4202-904F-3B061DC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E1E-9432-49AA-A9F0-37D759D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617-93FC-47D9-947D-44D5E9B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8EF-379B-463E-B3FD-4E67027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70E-A916-44DD-9E0F-1BE3426B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508-A29F-4FE1-867A-E75C455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36A-DFC6-4420-83CE-82A5437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BB4-EA22-4F3C-BC33-B1D9B3F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7BB-051F-492C-B7DF-D1B2705832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B92-94BA-4383-BB9D-7096D64925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www.slovnyk.ua/translit.php" TargetMode="External"/><Relationship Id="rId3" Type="http://schemas.openxmlformats.org/officeDocument/2006/relationships/hyperlink" Target="http://www.slovnyk.ua/translit.php" TargetMode="External"/><Relationship Id="rId4" Type="http://schemas.openxmlformats.org/officeDocument/2006/relationships/hyperlink" Target="http://www.slovnyk.ua/translit.php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asybib.com/" TargetMode="External"/><Relationship Id="rId2" Type="http://schemas.openxmlformats.org/officeDocument/2006/relationships/hyperlink" Target="http://www.easybib.com/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easybib.com/" TargetMode="External"/><Relationship Id="rId5" Type="http://schemas.openxmlformats.org/officeDocument/2006/relationships/hyperlink" Target="http://www.citationmachine.net/" TargetMode="External"/><Relationship Id="rId6" Type="http://schemas.openxmlformats.org/officeDocument/2006/relationships/hyperlink" Target="http://www.citationmachine.net/" TargetMode="External"/><Relationship Id="rId7" Type="http://schemas.openxmlformats.org/officeDocument/2006/relationships/hyperlink" Target="http://www.citationmachine.net/" TargetMode="External"/><Relationship Id="rId8" Type="http://schemas.openxmlformats.org/officeDocument/2006/relationships/hyperlink" Target="http://www.citationmachine.net/" TargetMode="External"/><Relationship Id="rId9" Type="http://schemas.openxmlformats.org/officeDocument/2006/relationships/hyperlink" Target="http://www.bibme.org/" TargetMode="External"/><Relationship Id="rId10" Type="http://schemas.openxmlformats.org/officeDocument/2006/relationships/hyperlink" Target="http://www.bibme.org/" TargetMode="External"/><Relationship Id="rId11" Type="http://schemas.openxmlformats.org/officeDocument/2006/relationships/hyperlink" Target="http://www.bibme.org/" TargetMode="External"/><Relationship Id="rId12" Type="http://schemas.openxmlformats.org/officeDocument/2006/relationships/hyperlink" Target="http://www.bibme.org/" TargetMode="External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citefast.com/?s=APA" TargetMode="External"/><Relationship Id="rId2" Type="http://schemas.openxmlformats.org/officeDocument/2006/relationships/hyperlink" Target="https://www.citefast.com/?s=APA" TargetMode="External"/><Relationship Id="rId3" Type="http://schemas.openxmlformats.org/officeDocument/2006/relationships/hyperlink" Target="https://www.citefast.com/?s=APA" TargetMode="External"/><Relationship Id="rId4" Type="http://schemas.openxmlformats.org/officeDocument/2006/relationships/hyperlink" Target="https://www.citefast.com/?s=APA" TargetMode="External"/><Relationship Id="rId5" Type="http://schemas.openxmlformats.org/officeDocument/2006/relationships/hyperlink" Target="https://www.citefast.com/?s=APA" TargetMode="External"/><Relationship Id="rId6" Type="http://schemas.openxmlformats.org/officeDocument/2006/relationships/hyperlink" Target="https://www.citavi.com/en" TargetMode="External"/><Relationship Id="rId7" Type="http://schemas.openxmlformats.org/officeDocument/2006/relationships/hyperlink" Target="https://www.citavi.com/en" TargetMode="External"/><Relationship Id="rId8" Type="http://schemas.openxmlformats.org/officeDocument/2006/relationships/hyperlink" Target="https://www.citavi.com/en" TargetMode="External"/><Relationship Id="rId9" Type="http://schemas.openxmlformats.org/officeDocument/2006/relationships/hyperlink" Target="https://www.citavi.com/en" TargetMode="External"/><Relationship Id="rId10" Type="http://schemas.openxmlformats.org/officeDocument/2006/relationships/hyperlink" Target="https://www.citavi.com/en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ttobib.com/" TargetMode="External"/><Relationship Id="rId2" Type="http://schemas.openxmlformats.org/officeDocument/2006/relationships/hyperlink" Target="http://www.ottobib.com/" TargetMode="External"/><Relationship Id="rId3" Type="http://schemas.openxmlformats.org/officeDocument/2006/relationships/hyperlink" Target="http://www.ottobib.com/" TargetMode="External"/><Relationship Id="rId4" Type="http://schemas.openxmlformats.org/officeDocument/2006/relationships/hyperlink" Target="http://www.ottobib.com/" TargetMode="External"/><Relationship Id="rId5" Type="http://schemas.openxmlformats.org/officeDocument/2006/relationships/hyperlink" Target="http://www.docear.org/" TargetMode="External"/><Relationship Id="rId6" Type="http://schemas.openxmlformats.org/officeDocument/2006/relationships/hyperlink" Target="http://www.docear.org/" TargetMode="External"/><Relationship Id="rId7" Type="http://schemas.openxmlformats.org/officeDocument/2006/relationships/hyperlink" Target="http://www.docear.org/" TargetMode="External"/><Relationship Id="rId8" Type="http://schemas.openxmlformats.org/officeDocument/2006/relationships/hyperlink" Target="http://www.docear.org/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endeley.com/" TargetMode="External"/><Relationship Id="rId2" Type="http://schemas.openxmlformats.org/officeDocument/2006/relationships/hyperlink" Target="http://www.mendeley.com/" TargetMode="External"/><Relationship Id="rId3" Type="http://schemas.openxmlformats.org/officeDocument/2006/relationships/hyperlink" Target="http://www.mendeley.com/" TargetMode="External"/><Relationship Id="rId4" Type="http://schemas.openxmlformats.org/officeDocument/2006/relationships/hyperlink" Target="https://www.citemaker.com/" TargetMode="External"/><Relationship Id="rId5" Type="http://schemas.openxmlformats.org/officeDocument/2006/relationships/hyperlink" Target="https://www.citemaker.com/" TargetMode="External"/><Relationship Id="rId6" Type="http://schemas.openxmlformats.org/officeDocument/2006/relationships/hyperlink" Target="https://www.citemaker.com/" TargetMode="External"/><Relationship Id="rId7" Type="http://schemas.openxmlformats.org/officeDocument/2006/relationships/hyperlink" Target="https://www.citemaker.com/" TargetMode="External"/><Relationship Id="rId8" Type="http://schemas.openxmlformats.org/officeDocument/2006/relationships/hyperlink" Target="https://www.citemaker.com/" TargetMode="External"/><Relationship Id="rId9" Type="http://schemas.openxmlformats.org/officeDocument/2006/relationships/hyperlink" Target="https://www.citemaker.com/" TargetMode="External"/><Relationship Id="rId10" Type="http://schemas.openxmlformats.org/officeDocument/2006/relationships/hyperlink" Target="https://www.citemaker.com/" TargetMode="External"/><Relationship Id="rId11" Type="http://schemas.openxmlformats.org/officeDocument/2006/relationships/hyperlink" Target="https://www.citemaker.com/" TargetMode="External"/><Relationship Id="rId12" Type="http://schemas.openxmlformats.org/officeDocument/2006/relationships/hyperlink" Target="https://www.citemaker.com/" TargetMode="External"/><Relationship Id="rId13" Type="http://schemas.openxmlformats.org/officeDocument/2006/relationships/hyperlink" Target="https://www.cite/" TargetMode="External"/><Relationship Id="rId14" Type="http://schemas.openxmlformats.org/officeDocument/2006/relationships/hyperlink" Target="https://www.cite/" TargetMode="External"/><Relationship Id="rId15" Type="http://schemas.openxmlformats.org/officeDocument/2006/relationships/hyperlink" Target="https://www.cite/" TargetMode="External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esearchomatic.com/" TargetMode="External"/><Relationship Id="rId2" Type="http://schemas.openxmlformats.org/officeDocument/2006/relationships/hyperlink" Target="https://www.mybib.com/" TargetMode="External"/><Relationship Id="rId3" Type="http://schemas.openxmlformats.org/officeDocument/2006/relationships/hyperlink" Target="https://www.mybib.com/" TargetMode="External"/><Relationship Id="rId4" Type="http://schemas.openxmlformats.org/officeDocument/2006/relationships/hyperlink" Target="https://www.mybib.com/" TargetMode="External"/><Relationship Id="rId5" Type="http://schemas.openxmlformats.org/officeDocument/2006/relationships/hyperlink" Target="https://www.mybib.com/" TargetMode="External"/><Relationship Id="rId6" Type="http://schemas.openxmlformats.org/officeDocument/2006/relationships/hyperlink" Target="https://www.mybib.com/" TargetMode="External"/><Relationship Id="rId7" Type="http://schemas.openxmlformats.org/officeDocument/2006/relationships/hyperlink" Target="https://www.grafiati.com/uk/" TargetMode="External"/><Relationship Id="rId8" Type="http://schemas.openxmlformats.org/officeDocument/2006/relationships/hyperlink" Target="https://www.grafiati.com.uk/" TargetMode="External"/><Relationship Id="rId9" Type="http://schemas.openxmlformats.org/officeDocument/2006/relationships/hyperlink" Target="https://www.grafiati.com.uk/" TargetMode="External"/><Relationship Id="rId10" Type="http://schemas.openxmlformats.org/officeDocument/2006/relationships/hyperlink" Target="https://www.grafiati.com.uk/" TargetMode="External"/><Relationship Id="rId11" Type="http://schemas.openxmlformats.org/officeDocument/2006/relationships/hyperlink" Target="https://www.grafiati.com.uk/" TargetMode="External"/><Relationship Id="rId12" Type="http://schemas.openxmlformats.org/officeDocument/2006/relationships/hyperlink" Target="https://www.grafiati.com.uk/" TargetMode="External"/><Relationship Id="rId13" Type="http://schemas.openxmlformats.org/officeDocument/2006/relationships/hyperlink" Target="https://www.grafiati.com.uk/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spu.edu/FileDownload.ashx/International%20style%20citations_2017.pdf?id=d1b22a28-96eb-4ca4-9ac7-8e29a393b9fb" TargetMode="External"/><Relationship Id="rId2" Type="http://schemas.openxmlformats.org/officeDocument/2006/relationships/hyperlink" Target="http://www.kspu.edu/FileDownload.ashx/International%20style%20citations_2017.pdf?id=d1b22a28-96eb-4ca4-9ac7-8e29a393b9fb" TargetMode="External"/><Relationship Id="rId3" Type="http://schemas.openxmlformats.org/officeDocument/2006/relationships/hyperlink" Target="http://www.kspu.edu/FileDownload.ashx/International%20style%20citations_2017.pdf?id=d1b22a28-96eb-4ca4-9ac7-8e29a393b9fb" TargetMode="External"/><Relationship Id="rId4" Type="http://schemas.openxmlformats.org/officeDocument/2006/relationships/hyperlink" Target="http://www.kspu.edu/FileDownload.ashx/International%20style%20citations_2017.pdf?id=d1b22a28-96eb-4ca4-9ac7-8e29a393b9fb" TargetMode="External"/><Relationship Id="rId5" Type="http://schemas.openxmlformats.org/officeDocument/2006/relationships/hyperlink" Target="http://www.kspu.edu/FileDownload.ashx/International%20style%20citations_2017.pdf?id=d1b22a28-96eb-4ca4-9ac7-8e29a393b9fb" TargetMode="External"/><Relationship Id="rId6" Type="http://schemas.openxmlformats.org/officeDocument/2006/relationships/hyperlink" Target="http://www.kspu.edu/FileDownload.ashx/International%20style%20citations_2017.pdf?id=d1b22a28-96eb-4ca4-9ac7-8e29a393b9fb" TargetMode="External"/><Relationship Id="rId7" Type="http://schemas.openxmlformats.org/officeDocument/2006/relationships/hyperlink" Target="http://www.kspu.edu/FileDownload.ashx/International%20style%20citations_2017.pdf?id=d1b22a28-96eb-4ca4-9ac7-8e29a393b9fb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422/96-&#1074;&#1088;#Text" TargetMode="External"/><Relationship Id="rId2" Type="http://schemas.openxmlformats.org/officeDocument/2006/relationships/hyperlink" Target="https://zakon.rada.gov.ua/laws/show/504/96-&#1074;&#1088;#Text" TargetMode="External"/><Relationship Id="rId3" Type="http://schemas.openxmlformats.org/officeDocument/2006/relationships/hyperlink" Target="https://zakon.rada.gov.ua/laws/show/504/96-&#1074;&#1088;#Text" TargetMode="External"/><Relationship Id="rId4" Type="http://schemas.openxmlformats.org/officeDocument/2006/relationships/hyperlink" Target="https://zakon.rada.gov.ua/laws/show/504/96-&#1074;&#1088;#Text" TargetMode="External"/><Relationship Id="rId5" Type="http://schemas.openxmlformats.org/officeDocument/2006/relationships/hyperlink" Target="https://zakon.rada.gov.ua/laws/show/504/96-&#1074;&#1088;#Text" TargetMode="External"/><Relationship Id="rId6" Type="http://schemas.openxmlformats.org/officeDocument/2006/relationships/hyperlink" Target="https://zakon.rada.gov.ua/laws/show/504/96-&#1074;&#1088;#Text" TargetMode="External"/><Relationship Id="rId7" Type="http://schemas.openxmlformats.org/officeDocument/2006/relationships/hyperlink" Target="https://zakon.rada.gov.ua/laws/show/504/96-&#1074;&#1088;#Text" TargetMode="External"/><Relationship Id="rId8" Type="http://schemas.openxmlformats.org/officeDocument/2006/relationships/hyperlink" Target="https://zakon.rada.gov.ua/laws/show/504/96-&#1074;&#1088;#Text" TargetMode="External"/><Relationship Id="rId9" Type="http://schemas.openxmlformats.org/officeDocument/2006/relationships/hyperlink" Target="https://zakon.rada.gov.ua/laws/show/504/96-&#1074;&#1088;#Text" TargetMode="External"/><Relationship Id="rId10" Type="http://schemas.openxmlformats.org/officeDocument/2006/relationships/hyperlink" Target="https://zakon.rada.gov.ua/laws/show/422/96-&#1074;&#1088;#Text" TargetMode="External"/><Relationship Id="rId11" Type="http://schemas.openxmlformats.org/officeDocument/2006/relationships/hyperlink" Target="https://zakon.rada.gov.ua/laws/show/422/96-&#1074;&#1088;#Text" TargetMode="External"/><Relationship Id="rId12" Type="http://schemas.openxmlformats.org/officeDocument/2006/relationships/hyperlink" Target="https://zakon.rada.gov.ua/laws/show/422/96-&#1074;&#1088;#Text" TargetMode="External"/><Relationship Id="rId13" Type="http://schemas.openxmlformats.org/officeDocument/2006/relationships/hyperlink" Target="https://zakon.rada.gov.ua/laws/show/422/96-&#1074;&#1088;#Text" TargetMode="External"/><Relationship Id="rId14" Type="http://schemas.openxmlformats.org/officeDocument/2006/relationships/hyperlink" Target="https://zakon.rada.gov.ua/laws/show/422/96-&#1074;&#1088;#Text" TargetMode="External"/><Relationship Id="rId15" Type="http://schemas.openxmlformats.org/officeDocument/2006/relationships/hyperlink" Target="https://zakon.rada.gov.ua/laws/show/422/96-&#1074;&#1088;#Text" TargetMode="External"/><Relationship Id="rId16" Type="http://schemas.openxmlformats.org/officeDocument/2006/relationships/hyperlink" Target="https://zakon.rada.gov.ua/laws/show/422/96-&#1074;&#1088;#Text" TargetMode="External"/><Relationship Id="rId17" Type="http://schemas.openxmlformats.org/officeDocument/2006/relationships/hyperlink" Target="https://zakon.rada.gov.ua/laws/show/422/96-&#1074;&#1088;#Text" TargetMode="External"/><Relationship Id="rId18" Type="http://schemas.openxmlformats.org/officeDocument/2006/relationships/hyperlink" Target="https://zakon.rada.gov.ua/laws/show/504/96-&#1074;&#1088;#Text" TargetMode="External"/><Relationship Id="rId19" Type="http://schemas.openxmlformats.org/officeDocument/2006/relationships/hyperlink" Target="https://zakon.rada.gov.ua/laws/show/504/96-&#1074;&#1088;#Text" TargetMode="External"/><Relationship Id="rId20" Type="http://schemas.openxmlformats.org/officeDocument/2006/relationships/hyperlink" Target="https://zakon.rada.gov.ua/laws/show/504/96-&#1074;&#1088;#Text" TargetMode="External"/><Relationship Id="rId21" Type="http://schemas.openxmlformats.org/officeDocument/2006/relationships/hyperlink" Target="https://zakon.rada.gov.ua/laws/show/504/96-&#1074;&#1088;#Text" TargetMode="External"/><Relationship Id="rId22" Type="http://schemas.openxmlformats.org/officeDocument/2006/relationships/hyperlink" Target="https://zakon.rada.gov.ua/laws/show/504/96-&#1074;&#1088;#Text" TargetMode="External"/><Relationship Id="rId23" Type="http://schemas.openxmlformats.org/officeDocument/2006/relationships/hyperlink" Target="https://zakon.rada.gov.ua/laws/show/504/96-&#1074;&#1088;#Text" TargetMode="External"/><Relationship Id="rId24" Type="http://schemas.openxmlformats.org/officeDocument/2006/relationships/hyperlink" Target="https://zakon.rada.gov.ua/laws/show/504/96-&#1074;&#1088;#Text" TargetMode="External"/><Relationship Id="rId25" Type="http://schemas.openxmlformats.org/officeDocument/2006/relationships/hyperlink" Target="https://zakon.rada.gov.ua/laws/show/504/96-&#1074;&#1088;#Text" TargetMode="External"/><Relationship Id="rId2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burago.com.ua/frizman-l-g-&#8226;-dve-poyemy-nauma-korzhavin/" TargetMode="External"/><Relationship Id="rId2" Type="http://schemas.openxmlformats.org/officeDocument/2006/relationships/hyperlink" Target="https://burago.com.ua/frizman-l-g-&#8226;-dve-poyemy-nauma-korzhavin/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naukova_biblioteka@hnpu.edu.ua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ela.kpi.ua/handle/123456789/18681" TargetMode="External"/><Relationship Id="rId2" Type="http://schemas.openxmlformats.org/officeDocument/2006/relationships/hyperlink" Target="https://www.slideshare.net/naukmalibrary/ss-70260091" TargetMode="External"/><Relationship Id="rId3" Type="http://schemas.openxmlformats.org/officeDocument/2006/relationships/hyperlink" Target="http://zakon2.rada.gov.ua/laws/show/z0155-17" TargetMode="External"/><Relationship Id="rId4" Type="http://schemas.openxmlformats.org/officeDocument/2006/relationships/hyperlink" Target="http://zakon2.rada.gov.ua/laws/show/z0155-17" TargetMode="External"/><Relationship Id="rId5" Type="http://schemas.openxmlformats.org/officeDocument/2006/relationships/hyperlink" Target="http://zakon2.rada.gov.ua/laws/show/z0155-17" TargetMode="External"/><Relationship Id="rId6" Type="http://schemas.openxmlformats.org/officeDocument/2006/relationships/hyperlink" Target="http://zakon2.rada.gov.ua/laws/show/z0155-17" TargetMode="External"/><Relationship Id="rId7" Type="http://schemas.openxmlformats.org/officeDocument/2006/relationships/hyperlink" Target="http://zakon2.rada.gov.ua/laws/show/z0155-17" TargetMode="External"/><Relationship Id="rId8" Type="http://schemas.openxmlformats.org/officeDocument/2006/relationships/hyperlink" Target="http://zakon2.rada.gov.ua/laws/show/z0155-17" TargetMode="External"/><Relationship Id="rId9" Type="http://schemas.openxmlformats.org/officeDocument/2006/relationships/hyperlink" Target="http://zakon2.rada.gov.ua/laws/show/z0155-17" TargetMode="External"/><Relationship Id="rId10" Type="http://schemas.openxmlformats.org/officeDocument/2006/relationships/hyperlink" Target="http://zakon2.rada.gov.ua/laws/show/z0155-17" TargetMode="External"/><Relationship Id="rId11" Type="http://schemas.openxmlformats.org/officeDocument/2006/relationships/hyperlink" Target="http://zakon2.rada.gov.ua/laws/show/z0155-17" TargetMode="External"/><Relationship Id="rId12" Type="http://schemas.openxmlformats.org/officeDocument/2006/relationships/hyperlink" Target="http://zakon2.rada.gov.ua/laws/show/z0155-17" TargetMode="External"/><Relationship Id="rId13" Type="http://schemas.openxmlformats.org/officeDocument/2006/relationships/hyperlink" Target="http://zakon2.rada.gov.ua/laws/show/z0155-17" TargetMode="External"/><Relationship Id="rId14" Type="http://schemas.openxmlformats.org/officeDocument/2006/relationships/hyperlink" Target="http://zakon2.rada.gov.ua/laws/show/z0155-17" TargetMode="External"/><Relationship Id="rId15" Type="http://schemas.openxmlformats.org/officeDocument/2006/relationships/hyperlink" Target="http://zakon2.rada.gov.ua/laws/show/z0155-17" TargetMode="External"/><Relationship Id="rId16" Type="http://schemas.openxmlformats.org/officeDocument/2006/relationships/hyperlink" Target="http://zakon2.rada.gov.ua/laws/show/z0155-17" TargetMode="External"/><Relationship Id="rId17" Type="http://schemas.openxmlformats.org/officeDocument/2006/relationships/hyperlink" Target="http://zakon2.rada.gov.ua/laws/show/z0155-17" TargetMode="External"/><Relationship Id="rId18" Type="http://schemas.openxmlformats.org/officeDocument/2006/relationships/hyperlink" Target="http://zakon2.rada.gov.ua/laws/show/z0155-17" TargetMode="External"/><Relationship Id="rId19" Type="http://schemas.openxmlformats.org/officeDocument/2006/relationships/hyperlink" Target="https://apastyle.apa.org/instructional-aids/whats-new-7e-guide.pdf" TargetMode="External"/><Relationship Id="rId20" Type="http://schemas.openxmlformats.org/officeDocument/2006/relationships/hyperlink" Target="https://apastyle.apa.org/instructional-aids/whats-new-7e-guide.pdf" TargetMode="External"/><Relationship Id="rId21" Type="http://schemas.openxmlformats.org/officeDocument/2006/relationships/hyperlink" Target="https://apastyle.apa.org/instructional-aids/whats-new-7e-guide.pdf" TargetMode="External"/><Relationship Id="rId22" Type="http://schemas.openxmlformats.org/officeDocument/2006/relationships/hyperlink" Target="https://apastyle.apa.org/instructional-aids/whats-new-7e-guide.pdf" TargetMode="External"/><Relationship Id="rId23" Type="http://schemas.openxmlformats.org/officeDocument/2006/relationships/hyperlink" Target="https://apastyle.apa.org/instructional-aids/whats-new-7e-guide.pdf" TargetMode="External"/><Relationship Id="rId2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tina.zvp@gmail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bbc.co.uk/news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76136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Правила складання  цитувань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та списку використаних джерел у наукових роботах з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міжнародним стилем АР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(з урахуванням вимог 7-ої редакції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30404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Наукова бібліоте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арафраз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ереказ тексту автора своїми словами (не береться в лапк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ізвище(а) автора(ів) може з'явити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іцула вважає закономірністю навчального процесу виховуючий характер навчання (2002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раф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ужках після парафрази разом із роком видання (через кому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ховуючий характер навчання є закономірністю навчального процесу (Фіцула, 2002)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Цитата всередині рядка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  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тексту до 40 слів, береться в лап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, а після цитати у круглих дужках зазначається сторінковий інтерва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 писала Волкова (2007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жках після цитати разом із роком видання та сторінковим інтервалом (через ком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вання особистості 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лкова, 2007, с. 39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Блоковая цит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ається з більше, ніж трьох рядків текст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ить понад 40 с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ється в тексті з нового рядка з абзацним відступом для всієї цитати, не береться в лап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жрядковий інтервал – подвійний. Після тексту цитати ставиться крапка і вказується вихідне джерело в дужк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иклад блокової цита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здорового способу життя також слі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ти такі критерії, як гармоній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єднання біологічного і соціального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і, неспецифічні й активні способ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ії організму і психіки людини д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приятливих умов природи та соціального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овища, ставлення до себе, до іншої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и, життєві цілі, цінності тощо. (Грибан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2, 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ітерату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у розмістити посереди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яд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. Відступ має бути розміром у 5–7 пробілів або 1,25 с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рядковий інтервал — подвійний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джерела зі списку літератури мають бути наведені в тексті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посилання, які наведені в тексті, також мають бути включені до списку літератури (виключення — неопубліковані матеріа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ні бібліографічні описи джерел в списку розташовуються в алфавітному порядку прізвищ авторі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, де наведені два джерела з тими самими авторами і тією ж датою, додають до року видання маленьку літеру — суфікс (наприклад, 2003a, 2003b …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и організацій надають повністю, якщо вони не широко відомі (наприклад, AПA для Американської психологічної асоціації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ірте правильність відображення основних деталей фактичного джерела — таким чином ви підтверджуєте, що ви прочитали джерело, коли ви його наводите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тримуйтесь обраного стилю посилань впродовж усієї публікац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References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i="1" lang="uk-UA" sz="3200" spc="-1" strike="noStrike" u="sng">
                <a:solidFill>
                  <a:srgbClr val="3333cc"/>
                </a:solidFill>
                <a:uFillTx/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список літератури та джерел в абетковому порядку, виконаний латинським шрифт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ssociation) style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руктура бібліографічних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посилань у (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eferences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статті у варіанті, що транслітерується, і переклад назви статті англійською мовою в квадратних дуж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джерела (транслітерація) і переклад назви джерела англійською мово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ідні да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Вимоги до здобувач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каз МОН України № 1220 від 23.09.2019 «Про опублікування результатів дисертацій на здобуття наукових ступенів доктора і кандидата нау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римання наукового ступеня слід опублікувати «не менше ніж три статті, а з 01 вересня 2022 року не менше ніж п’ять статей з наукового напряму, за яким підготовлено дисертацію здобувача, опублікованих щонайменше у двох різних періодичних виданнях, включених до категорії «А» «Переліку наукових фахових видань України», або в зарубіжних виданнях, проіндексованих у базах даних Web of Science Core Collection та/або Scopus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исок літератур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водиться окремим бло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н відтворює  посилання або список джерел з латинським алфавітом та наводить список кириличних джерел у транслітерованому вигляд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і кількість джерел у списку літератури залиш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 незмінним. Посилання на англомовні джерела не транслітерую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що вітчизняний журнал видається в перекладі на англійську мову, використов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нгл. варіанти назви журналу та статті. Вказується діапазон сторінок перекладної версії журна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ізвища іноземних авторів подають в оригіналі, не застосовуючи транслітераці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що авторів кілька, то перед прізвищем останнього з них замість коми ставиться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знак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(амперсан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лі наводять у транслітерації назву статті або назву розділу, якщо це посилання на розділ колективної монограф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жна транслітерована назва бібліографічного посилання має бути набрана курсивом і розширена англомовним перекла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анслітерована назва журналу, газети чи монографії вказується курси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писі підручників і навчальних посібників інформація про вид видання в References зайва, її зазначати не потрібно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Алгоритм оформлення блоку «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ferences</a:t>
            </a: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піюємо повністю список джерел в блок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анслітеруємо описи кириличних джерел, застосовуючи автоматичні транслітерато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водимо описи кириличних джерел (заголовок статті та назву джерела)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бираємо спеціальні знаки (дві навскісні риски // , одна навскісна риска /, тире -, крапка тире ;) в транслітерованому опис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квадратних дужках після транслітерації пишемо переклад заголовку статті і назву джерела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_x000b_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Онлайн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ові транслітератор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/www.slovnyk.ua/transli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ндартна українська транслітерація — на порталі «Словник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opys.org.ua/links/intrans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Транслітератор на порталі «Ізборник»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trans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анслітерація кириличних тексті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Easybi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easybib.com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вно безкоштовний онлайн інструмент для бібліографії та цитувань. Крім автоматичного формування посилань надає можливість власноруч створювати посилання та додавати анотації. Понад 7 тис. стилів цитування, деякі з них доступні лише в платній верс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Citation Machin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citationmachine.net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, Chicago та бібліотека із 7 тис. додаткових стилів цитування, різнорідність джерел: журнали, книги, веб-сайти, перевірка на плагіат (за умови підписки)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BibM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www.bibme.org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 або Chicago, різнорідність джерел: журнали, книги, веб- сайти, перевірка на плагіат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efas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itefast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s=A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. Стилі цитувань: APA, MLA і Chicago, різнорідність джерел: журнали, газети, книги, веб-с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a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www.citavi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надає можливість вибрати спосіб додавання посилань, доступна безкоштовна версі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OttoBi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ttobib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, який використовується спеціально для книжкових ресурсів. Достатньо вказати ISBN книги для створення бібліографії. Стилі цитувань: MLA, APA, Chicago, Turabian, Wikipedia і Bib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Docea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docear.org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допомагає організовувати, створювати та використовувати дослідницькі матері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mendele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коштовний бібліографічний менеджер, наукова соціальна мережа, за допомогою якої можливо впорядкувати свої наукові дослідження, презентувати свою роботу, знайти співавторів серед більше ніж п’ять мільйонів дослідників в усьому світі та правильно оформити бібліографічні посилання в наукових робот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iteMak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www.cit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m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a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ker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com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матично генерує цитати в MLA, APA, Harvard та Oxford стилях для вебсайті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itethisfot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www.ci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forme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коштовний генератор посилань, дозволяє працювати з багатьма сти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s://www.zotero.or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є можливість створити бібліографію із застосуванням наступних стил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AAA, APA, Chicago, IEEE, Harvard, MLA, Vancouv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ResearchoMatic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s://www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earchomatic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грама для цитування джерел у всіх основних стилях цитування, включаючи IEEE, MLA, APA, Chicago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Bib – 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mybib.co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генератор посилань в стилях APA, MLA, Chicago,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Grafi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www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grafiati.com.u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сервіс автоматичного оформлення посилань і створення списків використаних джерел за українськими та міжнародними стандартами: ДСТУ 8302:2015, ДСТУ ГОСТ 7.1:200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A, MLA, Chicago та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Методичні рекомендації з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іжнародних правил цитування та посилання в наукових робот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. рек. [Електронний ресурс] / авт.-уклад.: О. Боженко, Ю. Корян, М. Федорець ; редкол.: В. С. Пашкова, О. В. Воскобойнікова-Гузєва, Я. Є. Сошинська, О. М. Бруй ; УБА, Нац. техн. ун-т України «Київ. політех. ін-т ім. Ігоря Сікорського», Наук.-техн. б-ка ім. Г. І. Денисенка. – Київ : УБА, 2016. – 117 с. – Режим доступу: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kspu.edu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FileDownload.ashx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International%20style%20citations_2017.pdf?id=d1b22a28-96eb-4ca4-9ac7-8e29a393b9f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Вимоги до оформлення 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наукових робі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Наказ МОН України № 40 від 12.01.2017 р.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Вимоги до оформлення дисертації»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використаних джерел у дисертації може оформлятися з урахуванням Національного стандарту України ДСТУ 8302:2015 «Інформація та документація. Бібліографічне посилання. Загальні положення та правила складання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із стилів, віднесених до рекомендованого переліку стилів оформлення списку наукових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ікаці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Загальні вимоги до складанн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бібліографічного опис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ви книг, збірників або журналів обов’язков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іляти курсиво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тому й номер випуску необхідно наводити без пропуску між ним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писі дисертації та автореферату дисертації, крім даних про автора та назви відповідної роботи,  необхідно вказати тип роботи та університет, у якому відбувся захист робот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що статтю, на яку ви посилаєтеся, опубліковано онлайн, слід також наводити відповідну адресу DOI або, у разі її відсутності, адресу URL, за якою можна переглянути відповідний матеріал. Якщо номер DOI наведено в друкованій версії статті, його також слід зазначати в посиланні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Увага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 навод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у бібліографічному описі такі параметр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ількість сторінок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істо виданн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ISB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i="1" lang="uk-UA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осміна, Р. М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ухгалтерський облі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а шко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osmina, R. M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ukhhalterskyi obl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ccounting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yshcha shkola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Попова, Л. Д.,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Юр’єва, К. 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1999)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. О. Сухомлинський про особистість вчителя та його загальнопедагогічну підготов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РЦНІ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opo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L. D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Yurie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K. A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999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V. O. Sukhomlynskyi pro osobystist vchytelia ta yoho zahalnopedahohichnu pidhotovk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V. O. Sukhomlinsky on the teacher's personality and his general pedagogical training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RTsN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П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 «&amp;» (амперсанд) слід ставити лиш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даними останнього авт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ришко, В. М., Сищиков, Д. В., Піскова, О. М., Данильчук О. В.,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Машталер, Н. 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ажкі метали: надходження в грунти, транслокація у рослинах та екологічна небезп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Донба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Hryshko, V. M., Syshchykov, D. V., Piskova, O. M., Danylchuk, O. V.,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Mashtaler, N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azhki metaly: nadkhodzhennia v hrunty, translokatsiia u roslynakh ta ekolohichna nebezpek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Heavy metals: entry into soils, translocation in plants and environmental hazards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Donb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3333cc"/>
                </a:solidFill>
                <a:uFillTx/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водять дані перших дев’ятнадцяти авторів, після яких ставлять знак пропуску «три крапки» («…»), а тоді – дані останнього автора. Знака «&amp;» не вживають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Андрущенко, О. А., Білоусова, Л. І., Білоцерківський, В. Я., Волкова, О. Г., Гнізділова, О. А., Євдокимов, В. І., Жукова, Н. Г., Золотухіна, С. Т., Зоря, В. Д., Кузнецова, О. А., Култаєва, М. Д., Маленко, О. О., Маслов, М. П., Микитюк, О. М., Олексенко, О. А., Прокопенко, А. І., Прокопенко, І. Ф., Процевський, О. І., … Худолій, О. 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Наукові школи Харківського національного педагогічного університету імені Г. С. Сковоро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І. Ф. Прокопенко (Ред.). ХНП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cc"/>
                </a:solidFill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Andrushchenko, O. A., Bilousova, L. I., Bilotserkivskyi, V. Ya., Volkova, O. H., Hnizdilova, O. A., Yevdokymov, V. I., Zhukova, N. H., Zolotukhina, S. T., Zoria, V. D., Kuznetsova, O. A., Kultaieva, M. D., Malenko, O. O., Maslov, M. P., Mykytiuk, O. M., Oleksenko, O. A., Prokopenko, A. I., Prokopenko, I. F., Protsevskyi, O. I., … Khudolii, O. M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Naukovi shkoly Kharkivskoho natsionalnoho pedahohichnoho universytetu imeni H. S. Skovorody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Scientific schools of Kharkiv National Pedagogical University named after GS Skovorod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I. F. Prokopenko (Red.). KhNP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Якщо в тексті є посилання на книги одного і того ж автора біля року видання  маленькими англійськими літерами позначаємо a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…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а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 кругах литературоведов. Мемуарные очер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Издательский дом Дмитрия Бура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Иван Франко: взгляд на литератур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 Издательский дом Дмитрия Бура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a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 krugah literaturovedov. Memuarnye ocherk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b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van Franko: vzglyad na literatu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ібо, Є. П., Заверуха, Н. М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царний, В. В. (2012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пека життєдіяль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Є. П. Желібо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е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. (6-те вид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раве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helibo, Ye. P., Zaverukha, N. M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atsarnyi, V. V. (2012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Bezpeka zhyttiediial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Life Safety]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Ye. P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Zhelibo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Е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6th e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Karav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єлєвцов, М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Ре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рофесори Харківського національного педагогічного університету імені Г. С. Сковоро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ідомі ім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ielievtsov, M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Red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rofesory Kharkivskoho natsionalnoho pedahohichnoho universytetu imeni H. S. Skovorod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ofessors of GS Skovoroda Kharkiv National Pedagogical Universi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idomi i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ологія українського міф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06)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 3 т. Т.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темічні мі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Богда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ntolohiia ukrainskoho mif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nthology of krainian myth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n 3 vols. Vol.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Totemichni m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Totemic myths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Bohd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иньова, В. М.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Лозова, В.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Укла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995).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дагогічна практи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ХДП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ynova, V. M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Lozova, V.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5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dahohichna praktyka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edagogical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hDP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анкувер стил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Vancouver style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едицина та фізич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арвардський стиль посиланн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Harvard Referencing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інституту фіз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IP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хімічного товариств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CS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хімія та інші природнич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ї психологічної асоціаці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P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якого – суспільні науки (соціологія, право, психологія, істор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соціації сучасної мов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ML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 якого – гуманітарні науки (мистецтво, література, філософія, реліг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зова, В. І. (1978). Використання проблемних запитань і завдань для перевірки знань учнів. 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Питання проблемного навчання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87–100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адянська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ozova, V. I. (1978). Vykorystannia problemnykh zapytan i zavdan dlia perevirky znan uchni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Using problem questions and tasks to test students' knowle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Pytannia problemnoho navchanni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ssues of problem-based lear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87–100). Radianska shk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анова, М. (2007). Виховання духовно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и студентів вищих навчальних заклад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ідна школ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(5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hanova, M. (2007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khovannia dukhovnoi kultury studentiv vyshchykh navchalnykh zakladiv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Education of spiritual culture of students of higher educational instit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Ridna shkol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ff0000"/>
                </a:solidFill>
                <a:latin typeface="Arial"/>
              </a:rPr>
              <a:t>Native school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копенко,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січня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Щаслива школа, якщо щасливий учитель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Освіта,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(3–4), 2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Prokopenko,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sichnia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Shchaslyva shkola, yakshcho shchaslyvyi uchyt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appy school if happy teac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Osvita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Education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 (3–4),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лтаєв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. Д. (Ред.)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2013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жовтня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віта і доля нації. Освіта, світоглядна культура, життєтворчі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атеріали XІV Міжнар. наук.-практ. конф., Харків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НП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ultaiev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M. D. (Еd.)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013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hovtni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Osvita i dolia natsii. Osvita, svitohliadna kultura, zhyttietvorchi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ducation and the fate of the nation. Education, worldview culture, life creation]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erialy XIV Mizhnar. nauk.-prakt. konf., Kharki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hNPU.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12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йчук, Ю. Д.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Бородіна, О. С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квітня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ецифіка діяльності вчителя основ здоров’я в умовах інклюзивного навчання. 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Педагогічні технології формування культури здоров’я особистості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: матеріали Всеукр. наук.-практ. конф. молодих учених і студ. Черніг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с. 3–5). ЧНПУ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Bojchuk, Yu. D.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Borodina, O. S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kvitnia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Spetsyfika diialnosti vchytelia osnov zdorovia v umovakh inkliuzyvnoho navchan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specifics of the teacher of the basics of health in the minds of inclusive navchannya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ff0000"/>
                </a:solidFill>
                <a:latin typeface="Arial"/>
              </a:rPr>
              <a:t>Pedahohichni tekhnolohii formuvannia kultury zdorovia osobystosti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edagogical technologies for the formation of a culture of health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y Vseukr. nauk.-prakt. konf. molodykh uchenykh i stud. Chernihiv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–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ChNP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ербак, І. М. (2014).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ідготовка майбутніх учителів природничих спеціальностей до створення еколого-орієнтованого освітнього середовища в загальноосвітній школ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ис. канд. пед. наук, Харків. нац. пед. ун-т ім. Г. С. Сковород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Scherbak, I. M. (201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dhotovka maibutnikh uchyteliv pryrodnychykh spetsialnostei do stvorennia ekoloho-oriientovanoho osvitnoho seredovyshcha v zahalnoosvitnii shkoli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Preparation of future teachers of natural specialties for the creation of an environmentally-oriented educational environment in secondary school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didate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harkivskyi natsionalnyi pedahohichnyi universyt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. H. S. Skovorody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стахова, М. 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озвиток професійної компетентності з безпеки життєдіяльності вчителів у системі післядипломної педагогічної осві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канд. пед. наук, Укр. інж.-пед. акад.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stakhova, M. S. (2016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ozvytok profesiinoi kompetentnosti z bezpeky zhyttiediialnosti vchyteliv u systemi pisliadyplomnoi pedahohichnoi osvit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evelopment of professional competence in life safety of teachers in the system of postgraduate pedagogical education]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nded abstract of Candidate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krainska inzhenerno-pedahohichna akademiia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ерховна Рада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2006, 16 жовтня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 Конституційний Суд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кон України. (№ 422/96-ВР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zakon.rada.gov.ua/laws/show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 України «Про відпустки» № 504/96-ВР (2020).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504/96-%D0%B2%D1%80#Tex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Verkhovna Rada Ukrainy (2006, 16 zhovtnia)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Pro Konstytutsiinyi Sud Ukrainy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Pro Konstytutsiinyi Court of Ukra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Zakon Ukrainy. (№ 422/96-VR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Zakon Ukrainy «Pro vidpustky»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bout vacatio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 504/96-VR (2020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4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5"/>
              </a:rPr>
              <a:t>/504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изман, Л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поэмы Наума Коржав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.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yzman, L. H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Dve poemy Nauma Korzhavin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Two poems by Naum Korzhavin]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Скороченн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УКРАЇН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дати – (б.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ько – б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 (и) – (Ре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ладач (і) – (Укла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адач – (Пер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 – 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пуск – Ви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– Г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НГЛІЙ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 date – (n.d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irca – 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ditor – (Ed.) Editors – (Ed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iler – (Comp.) Compilers – (Comp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ranslator – (Tran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olume – Vo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sue – I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apter – С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Інституту інженерів з електротехніки та електроні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IEEE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інженерія, електроніка, телекомунікації, інформатика та інформаційні технології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Оксфордського університету для цитування юридичних документ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OSCOLA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юриспруденці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автор-да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Author-Dat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чні, природничі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виноски та бібліографі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Notes and Bibliography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(мистецтво, література, філософія, релігія тощо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Springer Math Phys Sty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атематика, фізика, статист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бібліотека ХНПУ імені Г. С. Сковороди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naukova_biblioteka@hnpu.edu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дає платні послуги з редагування бібліографічних списків літератури для наукових працівникі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Відповідальні особ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робкіна Олена Геннадії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директор Наукової бібліоте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еудачина Тетян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довід.-бібліогр. відділ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омановська Ольг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наук.-метод. відді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Список використаної  літератур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/ авт.-уклад.: О. Боженко, Ю. Корян, М. Федоре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о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УБ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України «Киї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і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і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ікорського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ук.- техн. б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 ім. Г. І. Денисенк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иїв : УБА, 2016. – 117 с.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ela.kpi.ua/handle/123456789/1868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жнародні стилі оформлення бібліографічних посилань [Електронний ресурс] : презентація / Наук. б-ка НаУКМА ; уклад. О. Кордюкова. – Київ : НБ НаУКМА, 2012. – 82 сл. – Режим доступу: 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https://www.slideshare.net/naukmalibrary/ss-7026009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zakon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2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rad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gov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u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laws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show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z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0155-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merican Psychological Association. (2020b).Guide to What’s New in the Publication Manual of the American Psychological Association, Seventh Edition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https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apastyle.apa.org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instructional-aid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whats-new-7e-guide.p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Наукова бібліотека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ХНПУ імені Г. С. Сковород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cc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Укл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харченко В.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в. сектор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Наукової бібліоте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-mail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ina.zvp@gmail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писку літератури зазначалось максимум 7 авторів для однієї робо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 ін.» використовувалося тільки після п'яти або більше авторів в цитуванні в текст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и вказували місце видання, а також ім’я видавця (наприклад, Харків :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виступала в ролі і автора і видавця, зазначалась двічі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ій статті можуть бути перераховані в списку літератури до 20 авторі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цитуванні в тексті роботи трьох або більше авторів вказується тільки перший автор, а потім «та ін.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у потрібно вказувати лише видавництво (наприклад,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і видавець збігаються, вказувати видавця не потріб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и завжди стояло "Отримано з"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явності URL не вказувалась дата зверне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були активними гіперпосиланнями (наприклад, https://www.bbc.co.uk/news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 більше не потрібно зазначати „Отримано з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користанні нестабільного URL, потрібно вказати дату звернення в наступному форматі: Отримано Липня 31, 2020 з https: // ww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мають бути активними гіперпосиланнями (наприклад,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www.bbc.co.uk/ne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), якщо з документом можна ознайомитись в Інтернеті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повинні бути активними гіперпосиланнями, якщо кінцевий документ у друкованому форматі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Цитування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Обов’язкове цитування</a:t>
            </a:r>
            <a:r>
              <a:rPr b="0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у своїй публікації часто згадується будь-яка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безпосередньо цитується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використовується перефразуван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Загальні положенн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APA стиль передбачає використання посилань у тексті роботи щоразу, коли  цитується джерело, будь то парафраз, пряма цитата чи блокова цитата</a:t>
            </a:r>
            <a:r>
              <a:rPr b="0" lang="uk-UA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итування, які з'являються в тексті роботи, повинні бути відзначені в списку використаних джере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жен запис у списку використаних джерел має бути згаданим в тексті роботи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ування оформлюється за допомогою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внутрішньотекстов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илання 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озатекстового спис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жере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Цитування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Внутрішньотекстове посил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містить інформацію про</a:t>
            </a:r>
            <a:r>
              <a:rPr b="0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ізвище автора або авторів (в порядку їх переліку у фактичній публікації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ік видання джерел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ери сторінок або абзаців для прямого цитування і для перефразування, де це доре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4T13:29:36Z</dcterms:created>
  <dc:creator>User</dc:creator>
  <dc:description/>
  <dc:language>en-US</dc:language>
  <cp:lastModifiedBy>user227b</cp:lastModifiedBy>
  <dcterms:modified xsi:type="dcterms:W3CDTF">2022-02-11T11:05:59Z</dcterms:modified>
  <cp:revision>137</cp:revision>
  <dc:subject/>
  <dc:title>Слайд 1</dc:title>
</cp:coreProperties>
</file>