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089-51F8-4993-8FA1-3ADE50F32A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BF42-89C8-4BFA-A88F-A6B673FDB8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F1C-75E3-4F04-A841-48316F72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548-5B2D-4EA1-8CEF-6AD1C590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51D-2070-4B44-ADD7-E7057260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49B-04E7-4814-AFB4-D8177221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8716-4424-4423-9BF0-A196CF15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3B5B-5B50-47BC-9C5C-C6F7042F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A05C-A0E7-42DF-85D3-ECD72DF7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85C3-8389-4D1D-9D91-66BCA340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4444-35D9-451E-9F8E-E900482E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D5B8-DDC8-4AE0-A14C-EE415F2D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CB7B-3D92-4170-A84A-ACB7EC4B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A28-D032-447F-8BD3-D6A93CC6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AD50-5784-4402-9DD4-A93C1239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6279-2B85-4289-BB5C-5D1E17A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A7A9-612A-4A55-B747-14F6569C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A6FF-D395-48A4-A12B-CE18E3FE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8A1E-BEFF-44D7-B606-1BC9A6DD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D92-846B-48D4-93DB-75C1B397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169-B8BD-416E-B417-0BC536A3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732-3532-4F25-BA07-49B4DF1E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154-D9A4-465C-9C99-B25AF9F5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AE9-9E70-4082-B92E-C7C7E3FC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CCC-8DF2-4DA6-897C-6400BCFC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AF2-FE82-4065-B436-CF67D02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E5D5-8B29-4393-A485-26A3A33F66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5CCD-05F5-452A-BA8B-A44B265B99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ua.unicheck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ovnyk.ua/services/translit.php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litopys.org.ua/links/intrans.htm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s://www.slideshare.net/NB_MDU/academic-integrity-98065167" TargetMode="External"/><Relationship Id="rId2" Type="http://schemas.openxmlformats.org/officeDocument/2006/relationships/hyperlink" Target="https://library.sumdu.edu.ua/uk/doslidnyku/akademichne-pismo/tsytuvannia-ta-posylannia/heneratory-posylan.html" TargetMode="External"/><Relationship Id="rId3" Type="http://schemas.openxmlformats.org/officeDocument/2006/relationships/hyperlink" Target="https://library.sumdu.edu.ua/uk/doslidnyku/akademichne-pismo/tsytuvannia-ta-posylannia/heneratory-posylan.html" TargetMode="External"/><Relationship Id="rId4" Type="http://schemas.openxmlformats.org/officeDocument/2006/relationships/hyperlink" Target="https://library.sumdu.edu.ua/uk/doslidnyku/akademichne-pismo/tsytuvannia-ta-posylannia/heneratory-posylan.html" TargetMode="External"/><Relationship Id="rId5" Type="http://schemas.openxmlformats.org/officeDocument/2006/relationships/hyperlink" Target="https://library.sumdu.edu.ua/uk/doslidnyku/akademichne-pismo/tsytuvannia-ta-posylannia/heneratory-posylan.html" TargetMode="External"/><Relationship Id="rId6" Type="http://schemas.openxmlformats.org/officeDocument/2006/relationships/hyperlink" Target="https://library.sumdu.edu.ua/uk/doslidnyku/akademichne-pismo/tsytuvannia-ta-posylannia/heneratory-posylan.html" TargetMode="External"/><Relationship Id="rId7" Type="http://schemas.openxmlformats.org/officeDocument/2006/relationships/hyperlink" Target="https://library.sumdu.edu.ua/uk/doslidnyku/akademichne-pismo/tsytuvannia-ta-posylannia/heneratory-posylan.html" TargetMode="External"/><Relationship Id="rId8" Type="http://schemas.openxmlformats.org/officeDocument/2006/relationships/hyperlink" Target="https://library.sumdu.edu.ua/uk/doslidnyku/akademichne-pismo/tsytuvannia-ta-posylannia/heneratory-posylan.html" TargetMode="External"/><Relationship Id="rId9" Type="http://schemas.openxmlformats.org/officeDocument/2006/relationships/hyperlink" Target="https://library.sumdu.edu.ua/uk/doslidnyku/akademichne-pismo/tsytuvannia-ta-posylannia/heneratory-posylan.html" TargetMode="External"/><Relationship Id="rId10" Type="http://schemas.openxmlformats.org/officeDocument/2006/relationships/hyperlink" Target="https://library.sumdu.edu.ua/uk/doslidnyku/akademichne-pismo/tsytuvannia-ta-posylannia/heneratory-posylan.html" TargetMode="External"/><Relationship Id="rId11" Type="http://schemas.openxmlformats.org/officeDocument/2006/relationships/hyperlink" Target="https://library.sumdu.edu.ua/uk/doslidnyku/akademichne-pismo/tsytuvannia-ta-posylannia/heneratory-posylan.html" TargetMode="External"/><Relationship Id="rId12" Type="http://schemas.openxmlformats.org/officeDocument/2006/relationships/hyperlink" Target="https://library.sumdu.edu.ua/uk/doslidnyku/akademichne-pismo/tsytuvannia-ta-posylannia/heneratory-posylan.html" TargetMode="External"/><Relationship Id="rId13" Type="http://schemas.openxmlformats.org/officeDocument/2006/relationships/hyperlink" Target="https://library.sumdu.edu.ua/uk/doslidnyku/akademichne-pismo/tsytuvannia-ta-posylannia/heneratory-posylan.html" TargetMode="External"/><Relationship Id="rId14" Type="http://schemas.openxmlformats.org/officeDocument/2006/relationships/hyperlink" Target="https://library.sumdu.edu.ua/uk/doslidnyku/akademichne-pismo/tsytuvannia-ta-posylannia/heneratory-posylan.html" TargetMode="External"/><Relationship Id="rId15" Type="http://schemas.openxmlformats.org/officeDocument/2006/relationships/hyperlink" Target="https://library.sumdu.edu.ua/uk/doslidnyku/akademichne-pismo/tsytuvannia-ta-posylannia/heneratory-posylan.html" TargetMode="External"/><Relationship Id="rId16" Type="http://schemas.openxmlformats.org/officeDocument/2006/relationships/hyperlink" Target="https://library.sumdu.edu.ua/uk/doslidnyku/akademichne-pismo/tsytuvannia-ta-posylannia/heneratory-posylan.html" TargetMode="External"/><Relationship Id="rId17" Type="http://schemas.openxmlformats.org/officeDocument/2006/relationships/hyperlink" Target="https://library.sumdu.edu.ua/uk/doslidnyku/akademichne-pismo/tsytuvannia-ta-posylannia/heneratory-posylan.html" TargetMode="External"/><Relationship Id="rId18" Type="http://schemas.openxmlformats.org/officeDocument/2006/relationships/hyperlink" Target="https://library.sumdu.edu.ua/uk/doslidnyku/akademichne-pismo/tsytuvannia-ta-posylannia/heneratory-posylan.html" TargetMode="External"/><Relationship Id="rId19" Type="http://schemas.openxmlformats.org/officeDocument/2006/relationships/hyperlink" Target="https://library.sumdu.edu.ua/uk/doslidnyku/akademichne-pismo/tsytuvannia-ta-posylannia/heneratory-posylan.html" TargetMode="External"/><Relationship Id="rId20" Type="http://schemas.openxmlformats.org/officeDocument/2006/relationships/hyperlink" Target="https://library.sumdu.edu.ua/uk/doslidnyku/akademichne-pismo/tsytuvannia-ta-posylannia/heneratory-posylan.html" TargetMode="External"/><Relationship Id="rId21" Type="http://schemas.openxmlformats.org/officeDocument/2006/relationships/hyperlink" Target="https://library.sumdu.edu.ua/uk/doslidnyku/akademichne-pismo/tsytuvannia-ta-posylannia/heneratory-posylan.html" TargetMode="External"/><Relationship Id="rId22" Type="http://schemas.openxmlformats.org/officeDocument/2006/relationships/hyperlink" Target="https://library.sumdu.edu.ua/uk/doslidnyku/akademichne-pismo/tsytuvannia-ta-posylannia/heneratory-posylan.html" TargetMode="External"/><Relationship Id="rId23" Type="http://schemas.openxmlformats.org/officeDocument/2006/relationships/hyperlink" Target="https://library.sumdu.edu.ua/uk/doslidnyku/akademichne-pismo/tsytuvannia-ta-posylannia/heneratory-posylan.html" TargetMode="External"/><Relationship Id="rId24" Type="http://schemas.openxmlformats.org/officeDocument/2006/relationships/hyperlink" Target="https://library.sumdu.edu.ua/uk/doslidnyku/akademichne-pismo/tsytuvannia-ta-posylannia/heneratory-posylan.html" TargetMode="External"/><Relationship Id="rId25" Type="http://schemas.openxmlformats.org/officeDocument/2006/relationships/hyperlink" Target="https://library.sumdu.edu.ua/uk/doslidnyku/akademichne-pismo/tsytuvannia-ta-posylannia/heneratory-posylan.html" TargetMode="External"/><Relationship Id="rId26" Type="http://schemas.openxmlformats.org/officeDocument/2006/relationships/hyperlink" Target="https://library.sumdu.edu.ua/uk/doslidnyku/akademichne-pismo/tsytuvannia-ta-posylannia/heneratory-posylan.html" TargetMode="External"/><Relationship Id="rId27" Type="http://schemas.openxmlformats.org/officeDocument/2006/relationships/hyperlink" Target="https://library.sumdu.edu.ua/uk/doslidnyku/akademichne-pismo/tsytuvannia-ta-posylannia/heneratory-posylan.html" TargetMode="External"/><Relationship Id="rId28" Type="http://schemas.openxmlformats.org/officeDocument/2006/relationships/hyperlink" Target="https://library.sumdu.edu.ua/uk/doslidnyku/akademichne-pismo/tsytuvannia-ta-posylannia/heneratory-posylan.html" TargetMode="External"/><Relationship Id="rId29" Type="http://schemas.openxmlformats.org/officeDocument/2006/relationships/hyperlink" Target="https://library.sumdu.edu.ua/uk/doslidnyku/akademichne-pismo/tsytuvannia-ta-posylannia/heneratory-posylan.html" TargetMode="External"/><Relationship Id="rId30" Type="http://schemas.openxmlformats.org/officeDocument/2006/relationships/hyperlink" Target="https://library.sumdu.edu.ua/uk/doslidnyku/akademichne-pismo/tsytuvannia-ta-posylannia/heneratory-posylan.html" TargetMode="External"/><Relationship Id="rId3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1376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рківський національний педагогічний університет імені Г. С. Сковороди </a:t>
            </a:r>
            <a:br>
              <a:rPr sz="2400"/>
            </a:b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укова бібліотек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03280" y="1844280"/>
            <a:ext cx="7313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 доброчесність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: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ування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ласної професійної культур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ля магістрів і аспіранті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кладач О. І. Романовсь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5444640"/>
            <a:ext cx="73137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рк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5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 України «Про освіту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ід 05. 09.2017 № 2145-VIII</a:t>
            </a: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визначає о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сновні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принципи академічної доброчесност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особливості дотримання академічної доброчесност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види порушень академічної доброчесност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види академічної відповідальн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 України «Про вищу освіту»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ід 01.07.2014 № 1556-VII</a:t>
            </a:r>
            <a:r>
              <a:rPr b="0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із змін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изначає зміст академічної доброчесності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академічного плагіату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 України «Про авторське право та суміжні права»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від 23 грудня 1993 року № 3793-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XII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 із змін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значає юридичну відповідальність за плагіат згідно з адміністративним, цивільним та кримінальним законодавством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єкт Закону України про академічну доброчесні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значає основні засади забезпечення академічної доброчесності у сфер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світи і наук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УШЕННЯ  АКАДЕМІЧНОЇ ДОБРОЧЕСНОСТІ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абрикаці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фальсифікація результатів досліджень, посилань, або будь-яких інших даних, що стосуються освітнього провес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ман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надання завідомо неправдивої інформації стосовно власної освітньої (наукової, творчої) діяльності чи організації освітньої процес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исуванн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використання без відповідного дозволу зовнішніх джерел інформації під час оцінювання результатів навчанн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абарництво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надання (отримання) учасником освітнього процесу чи пропозиція щодо надання (отримання) коштів, майна чи послуг матеріального або нематеріального характеру з метою отримання неправомірної вигоди в освітньому процес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УШЕННЯ  АКАДЕМІЧНОЇ ДОБРОЧЕСНОСТ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7280" y="1412640"/>
            <a:ext cx="7632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в сфері навчальної діяльності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магання отримання грошей, подарунків, особистих послуг при різних формах оцінювання студентів,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конання за оплату навчальних та кваліфікаційних робіт на замовлен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справедливе оцінювання виконаних робіт за допомогою плагіату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мусова купівля навчальної та методичної літератури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нижування оцінок та примус до додаткових навчальних послуг та консультацій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новлення за рахунок студентів обладнання або купівля студентами різноманітних витратних матеріалів, канцелярських товар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УШЕННЯ  АКАДЕМІЧНОЇ ДОБРОЧЕСНОСТ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7280" y="162864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сфері наукового дослідження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ідготовка та публікація наукових, навчальних та методичних текстів за допомогою плагіат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альсифікація експериментальних даних, покладених в основу наукових публікаці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ключення до переліку авторів осіб, які не внесли належного вкладу в отримання результат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хвалення досліджень або дисертаційних робіт по темах, що не мають наукового, практичного, соціального та іншого зна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дання позитивних рецензій та відгуків на роботи, які за своїми науковими результатами на це не заслуговують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тримання невиправданих преференцій при наданні наукових та освітніх грант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правомірне використання свого службового положення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АКАДЕМІЧНА  ВІДПОВІДАЛЬ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73137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6666"/>
                </a:solidFill>
                <a:latin typeface="Times New Roman"/>
              </a:rPr>
              <a:t>ЗДОБУВАЧІВ  ОСВІТИ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повторне проходження оцінювання (контрольна робота, іспит, залік тощо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3399"/>
                </a:solidFill>
                <a:latin typeface="Times New Roman"/>
              </a:rPr>
              <a:t>повторне проходження відповідного освітнього компонента освітньої програми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ідрахування із закладу освіти (крім осіб, що здобувають загальну середню освіту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Times New Roman"/>
              </a:rPr>
              <a:t>позбавлення академічної стипенд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Times New Roman"/>
              </a:rPr>
              <a:t>позбавлення наданих закладом освіти пільг з оплати навчанн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АКАДЕМІЧНА  ВІДПОВІДАЛЬ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6666"/>
                </a:solidFill>
                <a:latin typeface="Times New Roman"/>
              </a:rPr>
              <a:t>педагогічних, науково-педагогічних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6666"/>
                </a:solidFill>
                <a:latin typeface="Times New Roman"/>
              </a:rPr>
              <a:t>та наукових працівник</a:t>
            </a:r>
            <a:r>
              <a:rPr b="1" lang="ru-RU" sz="2500" spc="-1" strike="noStrike">
                <a:solidFill>
                  <a:srgbClr val="006666"/>
                </a:solidFill>
                <a:latin typeface="Times New Roman"/>
              </a:rPr>
              <a:t>ів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Verdana"/>
              </a:rPr>
              <a:t>відмова у присудженні наукового ступеня чи присвоєнні вченого звання;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Verdana"/>
              </a:rPr>
              <a:t>позбавлення присудженого наукового ступеня чи присвоєного вченого звання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Verdana"/>
              </a:rPr>
              <a:t>позбавлення права брати участь у роботі визначених законом органів чи займати визначені законом посади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ТРИМАННЯ  АКАДЕМІЧНОЇ ДОБРОЧЕСНОСТІ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42920" y="1827000"/>
            <a:ext cx="76406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274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ДОБУВАЧАМИ ОСВІТИ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ДБАЧАЄ: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амостійне виконання навчальних завдань, завдань поточного та підсумкового контролю результатів навчання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силання на джерела інформації у разі використання ідей, тверджень, відом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тримання норм законодавства про авторське пра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дання достовірної інформації про результати власної навчальної (наукової, творчої) діяль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ІСІЯ  АКАДЕМІЧНОЇ ДОБРОЧЕСНОСТ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“</a:t>
            </a:r>
            <a:r>
              <a:rPr b="0" lang="uk-UA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доброчесність є способом змінити цей світ. Але спочатку змініть університет, а вже потім – світ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Юнгсуп Кі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часник Конференції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іжнародного центру академічної доброчесн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ТРИМАННЯ  АКАДЕМІЧНОЇ ДОБРОЧЕСНОСТІ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7280" y="1827360"/>
            <a:ext cx="763272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ДАГОГІЧНИМИ,  НАУКОВО-ПЕДАГОГІЧНИМИ  ТА НАУКОВИМИ  ПРАЦІВНИКАМИ 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ДБАЧАЄ: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силання на джерела інформації у разі використання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ідей, тверджень, відом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тримання норм законодавства про авторське пра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дання достовірної інформації про результати досліджень та власну педагогічну (науково-педагогічну, творчу) діяльні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нтроль за дотриманням академічної доброчесності здобувачами освіти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03280" y="1773000"/>
            <a:ext cx="316872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вмис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лагіат усвідомлено присвоєного авторств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76360" y="1773000"/>
            <a:ext cx="35816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навмисний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снований на випадковому наслідуванні або збігу ідеї чи відкритт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</a:t>
            </a:r>
            <a:r>
              <a:rPr b="1" i="1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никнути практично неможливо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</a:t>
            </a:r>
            <a:r>
              <a:rPr b="1" lang="uk-UA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1900" spc="-1" strike="noStrike">
                <a:solidFill>
                  <a:srgbClr val="003399"/>
                </a:solidFill>
                <a:latin typeface="Cambria"/>
              </a:rPr>
              <a:t>–</a:t>
            </a:r>
            <a:r>
              <a:rPr b="1" lang="en-US" sz="19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</a:t>
            </a:r>
            <a:r>
              <a:rPr b="1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ходить від латинського “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lagium</a:t>
            </a:r>
            <a:r>
              <a:rPr b="1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”, що означає </a:t>
            </a:r>
            <a:r>
              <a:rPr b="1" lang="uk-UA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“крадіжка”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</a:t>
            </a:r>
            <a:r>
              <a:rPr b="1" lang="uk-UA" sz="19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власнення авторства на чужий твір науки, літератури, мистецтва або на чуже відкриття, винахід чи раціоналізаторську пропозицію, а також використання у своїх працях чужого твору без посилання на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99640" y="2126880"/>
            <a:ext cx="35276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вмис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писування одне в одног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піювання цілого ес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вантаження цілої роботи з Інтернету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мпіляція тексту з різних джерел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міна слів у речен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59280" y="2133360"/>
            <a:ext cx="388944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навмисни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піювання речення чи двох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дто тісна співпраця зі співавторо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гані вміння перефразовуван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рати матеріал дослівно з підручника, щоб відповісти на запитання домашнього завдан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ключення джерел у список бібліографії, але без цитування їх у тексті робо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640" y="1606680"/>
            <a:ext cx="6593040" cy="43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ласифікація плагіату за Баррі Гілмор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ди навмисного плагіат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слівний плагіат</a:t>
            </a:r>
            <a:r>
              <a:rPr b="0" lang="uk-UA" sz="21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21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переписування першоджерела без змін і посиланн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ерефразування</a:t>
            </a:r>
            <a:r>
              <a:rPr b="0" lang="uk-UA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перефразування частин тексту інших авторів зі зміною порядку слів або наслідування структури їхньої аргументації без посилання на джерело</a:t>
            </a:r>
            <a:r>
              <a:rPr b="0" lang="uk-UA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амоплагіат</a:t>
            </a:r>
            <a:r>
              <a:rPr b="0" lang="uk-UA" sz="2100" spc="-1" strike="noStrike">
                <a:solidFill>
                  <a:srgbClr val="006666"/>
                </a:solidFill>
                <a:latin typeface="Cambria"/>
              </a:rPr>
              <a:t> </a:t>
            </a:r>
            <a:r>
              <a:rPr b="0" lang="uk-UA" sz="21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копіювання у себе робіт минулих рокі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Компіляція</a:t>
            </a:r>
            <a:r>
              <a:rPr b="0" lang="uk-UA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кладання з кількох чужих матеріалів свого тексту; редагування без дозволу чужого матеріалу: смислова, стилістична, граматична правка й скороч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916360" y="907920"/>
            <a:ext cx="44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042920" y="1700280"/>
            <a:ext cx="777564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заїчний плагіат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це компіляція декількох джерел та перефразування окремих слів. В результаті з’являється мозаїка, в якій не зрозуміло, де закінчується одне джерело, де починається інше, де коментар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Рерайт</a:t>
            </a:r>
            <a:r>
              <a:rPr b="0" lang="uk-UA" sz="2400" spc="-1" strike="noStrike">
                <a:solidFill>
                  <a:srgbClr val="3c6565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додавання до чужого матеріалу без дозволу автора додаткової інформації, з переробкою раніше обнародуваного матеріалу із зміною слів та вираз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Републікація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повторне або багаторазове обнародування в іншому джерелі чужої інформації зі справжнім підписом автора й посиланням на джерел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Реплікація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процес копіювання даних з одного джерела на інші і навпаки, тобто своєрідне «тиражування» інформації без дозволу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A Top 10 List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66"/>
                </a:solidFill>
                <a:latin typeface="Times New Roman"/>
              </a:rPr>
              <a:t>західно-європейська класифікація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66"/>
                </a:solidFill>
                <a:latin typeface="Times New Roman"/>
              </a:rPr>
              <a:t>академічного плагіат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CLON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- дослівне копіювання чужої робо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CTRL</a:t>
            </a:r>
            <a:r>
              <a:rPr b="1" lang="uk-UA" sz="1600" spc="-1" strike="noStrike">
                <a:solidFill>
                  <a:srgbClr val="006666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C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тип плагіату, де у письмовому фрагменті міститься значна частка тексту з одного джерела без жодних змін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FIND</a:t>
            </a:r>
            <a:r>
              <a:rPr b="1" lang="uk-UA" sz="1600" spc="-1" strike="noStrike">
                <a:solidFill>
                  <a:srgbClr val="006666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PLACE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заміна ключових слів та фраз, а зміст джерела залишається незмінним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MIX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перефрази інших джерел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CYCLE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самоплагіат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HYBRID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- досконале комбінування в одній роботі цитованих праць та скопійованих уривків без посилань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MASHUP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мікс запозичених матеріалів з декількох джерел без відповідного цитуванн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66"/>
                </a:solidFill>
                <a:latin typeface="Times New Roman"/>
              </a:rPr>
              <a:t>40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ERROR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- письмові фрагменти з посиланнями на неіснуючу або неточну інформацію;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SS Feed</a:t>
            </a:r>
            <a:r>
              <a:rPr b="0" lang="ru-RU" sz="2100" spc="-1" strike="noStrike">
                <a:solidFill>
                  <a:srgbClr val="003399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екст має належне оформлення цитат, але майже не містить оригінальних думок;</a:t>
            </a:r>
            <a:r>
              <a:rPr b="0" lang="ru-RU" sz="21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-tweet</a:t>
            </a:r>
            <a:r>
              <a:rPr b="0" lang="ru-RU" sz="2100" spc="-1" strike="noStrike">
                <a:solidFill>
                  <a:srgbClr val="003399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екст містить належне цитування, але, по суті, дублює формулювання та/або структуру первісного (оригінального) текст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ИЙ  ПЛАГІА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навмисне відтворення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икладаче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докторан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аспіра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студент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у друкованій або електронній формі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чужого наукового твору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, опублікованого на паперовому або офіційно оприлюдненого на електронному носії, повністю або частково,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під своїм іменем без посилання на автор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ВИДИ  АКАДЕМІЧНОГО  ПЛАГІАТ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дослівне запозичення текстових фрагментів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без оформлення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їх як цитат з посиланням на джерело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використання інформації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(факти, ідеї, формули, числові значення тощо)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з джерела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без посилання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на це джерело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перефразування тексту джерела у формі, що є близькою до оригінального тексту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, або наведення узагальнення ідей, інтерпретацій чи висновків з певного джерела без посилання на це джерело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подання як власних робіт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(дисертацій, монографій, навчальних посібників, статей, тез, звітів, контрольних, розрахункових, курсових, дипломних та магістерських робіт, есеїв, рефератів тощо),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виконаних на замовлення іншими особами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, у т.ч. робіт, стосовно яких справжні автори надали згоду на таке використанн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  Є  ПЛАГІАТО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7280" y="169992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гальновідомі знання, фак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ідеї або визначення, що широко розповсюджені та відом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відомлення про новини (прес-інформація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вори народної творчості (фольклору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фіційні докумен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ержавні символи Україн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рошові знак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зклади руху транспортних засобів, розклади телерадіопередач, телефонних довідників та інших аналогічних баз дани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ВІРКА  НА  ПЛАГІА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1916280"/>
          <a:ext cx="7921800" cy="3678120"/>
        </p:xfrm>
        <a:graphic>
          <a:graphicData uri="http://schemas.openxmlformats.org/drawingml/2006/table">
            <a:tbl>
              <a:tblPr/>
              <a:tblGrid>
                <a:gridCol w="3962520"/>
                <a:gridCol w="3959280"/>
              </a:tblGrid>
              <a:tr h="1950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Безкоштовні програми</a:t>
                      </a:r>
                      <a:r>
                        <a:rPr b="1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5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ільний досту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стий інтерфейс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латні програми</a:t>
                      </a:r>
                      <a:r>
                        <a:rPr b="0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екомендовані МОН України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арантують конфіденційність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PLAGIARISMA</a:t>
                      </a:r>
                      <a:r>
                        <a:rPr b="0" lang="ru-RU" sz="18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UNICHECK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ADVEGO Plagiatus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StrikePlagiarism</a:t>
                      </a:r>
                      <a:r>
                        <a:rPr b="0" lang="ru-RU" sz="20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А ДОБРОЧЕСНІ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04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е 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укупність етичних принципів та визначених законом правил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якими мають керуватися учасники освітнього процесу під ч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авчанн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викладанн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та провадження наукової (творчої) діяльності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 метою забезпечення довіри до результатів навчання та/ аб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укових (творчих) досягнен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3280" y="4221000"/>
            <a:ext cx="73137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няття 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«академічної доброчесності»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ключає в себе такі </a:t>
            </a:r>
            <a:r>
              <a:rPr b="1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інн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побігання шахрайству, фальшуванню та плагіату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ідтримку академічних стандартів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есність і ретельність у дослідженнях і науковому видавництв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UNICH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EK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6920" y="1827360"/>
            <a:ext cx="7496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182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UNICHE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раніше 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PLAG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ервіс з перевірки робіт на ознаки плагіату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ворений українськими розробниками у 2014 році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же використовуватись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-lin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або інтегруватись з навчальними системами З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реваг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ручний функціонал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ожливість порівнювати роботи з інтернет-джерела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бота з багатьма мовами (укр., англ., ісп., фр., рос., нім. та   ін.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втоматичне визначення заміни символів і літер в тексті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втоматичне виключення цитування та списку   використаних джерел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нфіденційність робо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ШКАЛА  ПЛАГІАТ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1484280"/>
          <a:ext cx="7777080" cy="518940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  <a:gridCol w="1657440"/>
                <a:gridCol w="2376360"/>
              </a:tblGrid>
              <a:tr h="14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ля наукових та навч.-метод. праць у т.ч. магістерських та дисертаційних робі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ля навчальних та дипломних робіт бакалав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івень оригінальності тв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екомендаційна д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понад 9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понад 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и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Текст вважається оригіналь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80 % до 9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ід 60 % до 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задові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Оригінальність задовільна, слід пересвідчитись у наявності посилань для цитованих фрагмен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60 % до 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ід 40 % до 6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низ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Матеріал може бути прийнятий до розгляду після доопрацювання та перевірки наявності посилань для цитованих фрагментів та з умовою обов’язкової наступної перевірки на оригіналь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менше 6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менше 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неприйнят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Матеріал для розгляду не приймає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РЕКОМЕНДАЦІЇ  АВТОРА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Текст, що має показник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80% і більше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–  вважається відповідним для розміщення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у відкритому доступі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Текст, що має показник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менше 80%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необхідно унікалізуват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Рекомендована унікальність тексту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95-100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КТ  СПРИЯННЯ  АКАДЕМІЧНІЙ ДОБРОЧЕСНОСТІ (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AIUP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70160" y="1827360"/>
            <a:ext cx="73785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ісія проєкту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IUP </a:t>
            </a:r>
            <a:r>
              <a:rPr b="1" lang="uk-UA" sz="2800" spc="-1" strike="noStrike">
                <a:solidFill>
                  <a:srgbClr val="003399"/>
                </a:solidFill>
                <a:latin typeface="Cambria"/>
              </a:rPr>
              <a:t>– </a:t>
            </a:r>
            <a:r>
              <a:rPr b="1" lang="uk-UA" sz="2800" spc="-1" strike="noStrike">
                <a:solidFill>
                  <a:srgbClr val="006666"/>
                </a:solidFill>
                <a:latin typeface="Cambria"/>
              </a:rPr>
              <a:t>формування нової академічної культури</a:t>
            </a:r>
            <a:r>
              <a:rPr b="1" lang="en-US" sz="2800" spc="-1" strike="noStrike">
                <a:solidFill>
                  <a:srgbClr val="006666"/>
                </a:solidFill>
                <a:latin typeface="Cambria"/>
              </a:rPr>
              <a:t> </a:t>
            </a:r>
            <a:r>
              <a:rPr b="1" lang="uk-UA" sz="2800" spc="-1" strike="noStrike">
                <a:solidFill>
                  <a:srgbClr val="006666"/>
                </a:solidFill>
                <a:latin typeface="Cambria"/>
              </a:rPr>
              <a:t>в Україні</a:t>
            </a:r>
            <a:r>
              <a:rPr b="0" lang="uk-UA" sz="2800" spc="-1" strike="noStrike">
                <a:solidFill>
                  <a:srgbClr val="006666"/>
                </a:solidFill>
                <a:latin typeface="Cambria"/>
              </a:rPr>
              <a:t>,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яка базуватиметься 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довір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чесност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озорост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реальному навчанн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справжній науковій роботі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КТ  СПРИЯННЯ  АКАДЕМІЧНІЙ ДОБРОЧЕСНОСТІ (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AIUP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єкт реалізовано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мериканськими Радами з міжнародної освіти в Україні за підтримки Посольства США та партнерства з Міністерством освіти і науки Україн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рмін реалізації Проєкту: 1 січня 2016 року – 31 грудня 2019 року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</a:rPr>
              <a:t>Основні напрямки діяльності Проєкту: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світницька кампані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актичний навчальний курс в університета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ширення міжнародних практик в українських університета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бота над нормативною базою і регулятивними механізм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КТ  СПРИЯННЯ  АКАДЕМІЧНІЙ ДОБРОЧЕСНОСТІ (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AIUP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6680" indent="-256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ДБАЧАЄ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зробку і впровадження курсу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Основи академічного письма»</a:t>
            </a:r>
            <a:r>
              <a:rPr b="1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йняття університетами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дексів честі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які встановлюють загальні моральні принципи та правила етичної поведінки університетської громад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публікування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ложення про протидію плагіату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університетах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творення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диного національного репозитарію академічних текстів</a:t>
            </a:r>
            <a:r>
              <a:rPr b="1" i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ademic IQ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Проєкт «Ініціатива академічної доброчесності та якості освіти»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(Academic Integrity and Quality Initi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99"/>
                </a:solidFill>
                <a:latin typeface="Times New Roman"/>
              </a:rPr>
              <a:t>Місія Проєкту: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б’єднати професійну спільноту освітян середньої та вищої освіти для обміну досвідом та співпраці  задля підтримки академічної доброчесності та якості освіти.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єкт упроваджується Американськими Радами з міжнародної освіти за сприяння Посольства США в Україні, Міністерства освіти і науки України та Національного агенства із забезпечення якості вищої осві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Термін реалізації Проєкту – 1 вересня 2020 року – 30 липня 2022 року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American Councils Ukraine"/>
          <p:cNvPicPr/>
          <p:nvPr/>
        </p:nvPicPr>
        <p:blipFill>
          <a:blip r:embed="rId1"/>
          <a:stretch/>
        </p:blipFill>
        <p:spPr>
          <a:xfrm>
            <a:off x="1619280" y="476280"/>
            <a:ext cx="2676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ПРОЄКТ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ademic IQ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6666"/>
                </a:solidFill>
                <a:latin typeface="Times New Roman"/>
              </a:rPr>
              <a:t>ПЕРЕДБАЧАЄ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підписання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еморандуму про співпрацю з Американськими Радами з міжнародної освіти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 з детальним переліком заходів та активностей, передбачених в межах проєкту «Ініціатива академічної доброчесності та якості освіти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делегування трьох постійних представників/представниць від ЗВО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, які братимуть участь у запропонованих заходах проєкту та ділитимуться інформацією, отриманою на згаданих вище заходах, з університетською спільнотою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участь науково-педагогічних працівників ЗВО у запланованих заходах проєкту, інформування здобувачів освіт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проведення опитувань серед студентів та викладачів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, а також заповнення анкети для самооцінки інфраструктури забезпечення академічної доброчесності, використовуючи матеріали та технічні засоби, що будуть надані проєктом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відкритість до обговорення та застосування кращих практик для посилення інфраструктури академічної доброчесності та якості освіти у ЗВ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42920" y="1484280"/>
          <a:ext cx="7929720" cy="5376960"/>
        </p:xfrm>
        <a:graphic>
          <a:graphicData uri="http://schemas.openxmlformats.org/drawingml/2006/table">
            <a:tbl>
              <a:tblPr/>
              <a:tblGrid>
                <a:gridCol w="2665440"/>
                <a:gridCol w="5264280"/>
              </a:tblGrid>
              <a:tr h="182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Кодекс академічної</a:t>
                      </a:r>
                      <a:r>
                        <a:rPr b="0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доброчесності ХНПУ імені Г. С. Сковоро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22.02.20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04-05/24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становлює загальні моральні принципи та правила етичної поведінки осіб, які працюють і навчаються в Університеті (університетської громади), якими вони повинні керуватися у своїй діяль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Положення про комісію з питань академічної доброчесност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27.02.20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04-05/47.20</a:t>
                      </a:r>
                      <a:r>
                        <a:rPr b="0" lang="ru-RU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изначає порядок діяльност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о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ісії з питань академічної доброчесності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цедуру розгляду справ щодо порушення Кодексу та норм академічної доброчесност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членами університетської сп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ьнот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особи дисциплінарного вплив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Етичний кодекс ХНПУ імені Г. С. Сковоро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</a:t>
                      </a:r>
                      <a:r>
                        <a:rPr b="1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22.02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04-05/29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изначає ключові цінності, основні принципи і стандарти етичної поведінки усіх учасників освітнього процесу в Університе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64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</a:rPr>
              <a:t>Інституційний репозитарі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(дата започаткування - вересень 2016 рок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еревірка на плагі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говір про співпрацю з ТОВ 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“АНТИПЛАГІАТ”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(використання системи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“Unicheck”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ід 15.10.2018 № 10-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еревірка текстів здійснюється надсиланням тексту на поштову скриньку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antiplagiat@hnpu.edu.ua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світницька  робота бібліотек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Інформаційна грамотні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Лекційні заняття з академічної доброчесн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Академічне письмо (оформлення/ редагування списків використаних джере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ВИТОКИ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ОЇ  ДОБРОЧЕСНОСТІ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н Маккбейн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17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думав термін “академічна доброчесність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інець Х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III 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т.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доброчесність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в США пов’язана виключно зі статусом і характером 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обистості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інець Х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 ст.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зміна концепції академічної доброчесності: індивідуальна академічна доброчесність особистості замінилась на 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у доброчесність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університету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як соціального інститут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960 рік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проведення соціологічних опитувань науковими установами США. Результат – 75 % опитуваних зізнались у списуван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 1970 року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більшість університетів в США установили 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декси чесноти для своїх студентів і викладачів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творено Міжнародний центр академічної цілісності Університету Клемсона в Інституті етики в Ратлен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41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Конкурс есе “Моя академічна доброчесність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6336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1376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ttp://hnpu.edu.ua/uk/division/akademichna-dobrochesn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6302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ІНФОРМАЦІЙНА  ГРАМОТ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уміння шукат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аналізуват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використовуват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оцінювати достовірність і захист інформації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оцінювати значення нових ІКТ і вміти їх використовувати</a:t>
            </a:r>
            <a:r>
              <a:rPr b="0" lang="uk-UA" sz="29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А   ГРАМОТНІ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міння ефективно формулювати і представляти власні думк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створення презентаці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ефективне читанн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академічне письм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едення дискусій та публічних виступі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Е  ПИСЬМ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132000" y="3428640"/>
            <a:ext cx="1851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Ес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Доповід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Зві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Анотаці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Рефер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3640" y="3573360"/>
            <a:ext cx="36799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Курсова ро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Бакалаврська робо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Магістерська робо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Дисертаці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Авторефера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Стаття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4581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4760" indent="-228960" algn="ctr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це мовна компетенція з удосконалення навиків формулювання та обґрунтування власних ідей,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760" indent="-228960" algn="ctr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аписання академічних тексті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БІБЛІОГРАФІЧНІ  ПОСИЛ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</a:rPr>
              <a:t>Бібліографічне посилання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- бібліографічні відомості про цитований, розглядуваний або згадуваний у тексті документ на інший документ, що є необхідними й достатніми для його загальної характеристики, ідентифікування та пошу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</a:rPr>
              <a:t>Цитата</a:t>
            </a: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стислий уривок з літературного, наукового чи будь-якого іншого твору, який використовується з обов`язковим посиланням на його автора і джерело цитування іншою особо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ПРАВИЛА  ЦИТ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Думка автора наводиться дослівно </a:t>
            </a:r>
            <a:r>
              <a:rPr b="1" lang="ru-RU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її слід взяти в лапк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цитується великий уривок тексту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може не братися в лапки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виділяється від решти тексту певним способом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набирається іншим кеглем, шрифтом, накресленням, відбивається від основного тексту більшими абзацними відступами тощо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допускається скорочення цитати, яке не веде до викривлення думки автора. Місце скорочення має бути відзначене в цитаті квадратними дужками з трикрапкою всередині </a:t>
            </a:r>
            <a:r>
              <a:rPr b="0" lang="en-US" sz="1900" spc="-1" strike="noStrike">
                <a:solidFill>
                  <a:srgbClr val="003399"/>
                </a:solidFill>
                <a:latin typeface="Times New Roman"/>
              </a:rPr>
              <a:t>[…]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допускається перефразування цитати, зміна словоформ чи відмінків певних слів </a:t>
            </a:r>
            <a:r>
              <a:rPr b="1" lang="ru-RU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цитата в лапки не береться, але в квадратних дужках обов'язково ставиться посилання на джерело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його порядковий номер зі списку використаної літератури, який додається до роботи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в списку використаної літератури завжди слід вказувати навіть ті джерела, які використовувалися під час підготовки роботи і вивчення теми, навіть якщо прямих посилань чи цитувань цих джерел в роботі нема</a:t>
            </a:r>
            <a:r>
              <a:rPr b="0" lang="uk-UA" sz="1900" spc="-1" strike="noStrike">
                <a:solidFill>
                  <a:srgbClr val="003399"/>
                </a:solidFill>
                <a:latin typeface="Times New Roman"/>
              </a:rPr>
              <a:t>є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БІБЛІОГРАФІЧНИЙ  ОПИС використаних джере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1827360"/>
            <a:ext cx="74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ДСТУ 7.1:2006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«Бібліографічний запис. Бібліографічний опис. Загальні вимоги та правила складання»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ДСТУ 7.80:2007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«Бібліографічний запис. Заголовок. Загальні вимоги та правила складання»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ДСТУ 8302:2015</a:t>
            </a: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«Інформація та документація. Бібліографічне посилання. Загальні положення та правила складання»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МІЖНАРОДНІ  СТИЛІ  ЦИТУВАН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LA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стосується гуманітарн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. APA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суспільн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3.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hicago/Turabian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гуманітарних нау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4.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arvard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гуманітарних і суспільних нау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5.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S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хімії та інших природнич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6. AIP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фізик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7. IEEE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інженерії, електроніки, телекомунікацій,      інформатики та інформаційних технологій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8. Vancouver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медицини та фізичн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9. OSCOLA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юриспруденції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0. APS 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фізик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11. Springer Math Phys Style – математики, фізики,  статистики та і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ІНСТРУМЕНТИ  ЦИТ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458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6666"/>
                </a:solidFill>
                <a:latin typeface="Times New Roman"/>
              </a:rPr>
              <a:t>БІБЛІОГРАФІЧНІ  МЕНЕДЖЕРИ</a:t>
            </a:r>
            <a:r>
              <a:rPr b="1" lang="uk-UA" sz="2100" spc="-1" strike="noStrike">
                <a:solidFill>
                  <a:srgbClr val="003399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3399"/>
                </a:solidFill>
                <a:latin typeface="Times New Roman"/>
              </a:rPr>
              <a:t>це програмне забезпечення, яке створено для зберігання бібліографічних даних, повних текстів, оформлення посилань та списків літератур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6666"/>
                </a:solidFill>
                <a:latin typeface="Times New Roman"/>
              </a:rPr>
              <a:t>Переваги бібліографічних менеджері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4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99"/>
                </a:solidFill>
                <a:latin typeface="Verdana"/>
              </a:rPr>
              <a:t>адаптованість під різні потреби наукових дисциплін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4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99"/>
                </a:solidFill>
                <a:latin typeface="Verdana"/>
              </a:rPr>
              <a:t>інтеграція з базами даних наукової періодик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4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99"/>
                </a:solidFill>
                <a:latin typeface="Verdana"/>
              </a:rPr>
              <a:t>багатофункціональність: пошук, збереження, систематизація, пошук всередині колекцій, цитування, спільна робо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ФУНДАМЕНТАЛЬНІ  ЦІННОСТІ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74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чесні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довір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справедливі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поваг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відповідальні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мужні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Rectangle 7" descr=""/>
          <p:cNvPicPr/>
          <p:nvPr/>
        </p:nvPicPr>
        <p:blipFill>
          <a:blip r:embed="rId7"/>
          <a:stretch/>
        </p:blipFill>
        <p:spPr>
          <a:xfrm>
            <a:off x="1116000" y="1773360"/>
            <a:ext cx="345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БІБЛІОГРАФІЧНІ  МЕНЕДЖЕР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806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6666"/>
                </a:solidFill>
                <a:latin typeface="Times New Roman"/>
              </a:rPr>
              <a:t>Найбільш відомі бібліографічні менеджери</a:t>
            </a:r>
            <a:r>
              <a:rPr b="1" lang="uk-UA" sz="1400" spc="-1" strike="noStrike">
                <a:solidFill>
                  <a:srgbClr val="0066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EndNote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– платна система управління бібліографічною інформацією, що застосовується для управління посиланнями і бібліографією та дозволяє форматувати їх згідно з численними стандартами цитув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Zotero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– безкоштовна програма з відкритим програмним кодом для роботи з посиланнями, який  працює як розширення до браузера. Особливість - автоматичне збереження разом з бібліографією повного тексту стат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Mendeley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 – безкоштовне програмне забезпечення, що використовується для управління, спільного використання, коментування та цитування наукових документів, яке дозволяє зберігати та переглядати дослідницькі праці у форматі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PDF, а також соціальна мережа для вчен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Grafiat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– безкоштовний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сервіс автоматизованого оформлення посилань і створення списків використаних джерел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за українськими та міжнародними стандартами: ДСТУ 8302:2015, ДСТУ ГОСТ 7.1:2006 (ВАК)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та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arvard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ONAFT4Ref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 – сервіс для автоматизованого оформлення бібліографічних посилань згідно з ДСТУ 8302:201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БІБЛІОГРАФІЧНІ  МЕНЕДЖЕР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BibM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безкоштовний генератор цитувань, що дозволяє створювати списки за 4-ма стилями: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urabian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eFast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це безкоштовний генератор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цитат у стилях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та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eMaker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автоматично генерує цитати в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Harvard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та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Oxford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тилях для вебсайт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ation Machin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генератор посилань у стилях APA, MLA, Chicago. Платформа пропонує посібник з правильного цитува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ethisform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безкоштовний генератор посилань, дозволяє працювати з багатьма сти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ResearchoMatic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рограма для цитування джерел у всіх основних стилях цитування, включаючи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IEEE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MyBib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безкоштовний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генератор посилань в стилях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Harvard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ОНЛАЙНОВІ  ТРАНСЛІТЕРАТОР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://www.slovnyk.ua/services/translit.php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 (Стандартна українська транслітерація – на порталі “Словник-UA”)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http://litopys.org.ua/links/intrans.htm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 (Транслітератор на порталі “Ізборник”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http://translit.net/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(транслітерація кириличних текстів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СПИСОК ВИКОРИСТАНИХ ДЖЕРЕ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ademic integrity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Р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лізація проекту з Академічної доброчесності в американських бібліотеках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зентаці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/ підгот. О. В. Охріменко ; Наук. б-ка Маріупол. держ. ун-т. – 16 сл. – Режим доступу : 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s://www.slideshare.net/NB_MDU/academic-integrity-9806516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. Академічна чесність як основа сталого розвитку цніверситету / Міжнар. Фонд. дослідж. освіт. політики” ; за заг. ред. Т. В. Фінікова, А. Є. Артюхова. – Київ : Таксон, 2016. – 234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Академічне письмо : навч. посібник / уклад. С. К. Ревуцька, В. М. Зінченко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Кривий Ріг, 2019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30 с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4. Генератори посилань. – Режим доступу : 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library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sumdu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edu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u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2"/>
              </a:rPr>
              <a:t>uk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4"/>
              </a:rPr>
              <a:t>doslidnyku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5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6"/>
              </a:rPr>
              <a:t>akademichne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7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8"/>
              </a:rPr>
              <a:t>pismo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0"/>
              </a:rPr>
              <a:t>tsytuvanni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1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2"/>
              </a:rPr>
              <a:t>t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3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4"/>
              </a:rPr>
              <a:t>posylanni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6"/>
              </a:rPr>
              <a:t>heneratory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7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8"/>
              </a:rPr>
              <a:t>posylan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9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30"/>
              </a:rPr>
              <a:t>htm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Назва з екрана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иценко В. И. Фундаментальные проблемы е-обучения / В. И. Гриценко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иев : Академпериодика, 2008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38 с.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6. Закон України «Про авторське право і суміжні права». – Режим доступу : https://zakon.rada.gov.ua/laws/show/3792-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7. Закон України «Про вищу освіту». – Режим доступу : https://zakon.rada.gov.ua/laws/show/1556-1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8. Закон України «Про освіту». – Режим доступу : https://zakon.rada.gov.ua/laws/show/2145-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9. Ініціатива академічної доброчесності та якості освіт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ademic Integrity and Quality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– Режим доступу : https://americancouncils.org.ua/prijom-zajavok-dlja-uchasti-v-proiekti-iniciativa-akademichnoi-dobrochesnosti-ta-jakosti-osviti-academic-iq/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0. Інструменти цитування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 Режим доступу : http://academy.gov.ua/pages/dop/174/files/feb0ec36-a759-426f-855f-1a2d9cb3de68.pdf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СПИСОК ВИКОРИСТАНИХ ДЖЕРЕ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0160" y="1773360"/>
            <a:ext cx="75945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.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урбатов С. Етичні принципи в академічній діяльності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зентаці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/ С. Курбатов ; Ін-т вищої освіти НАПН України. – 9 сл. – Режим доступу : https://www.univer.kharkov.ua/images/redactor/news/2016-09-07/Kurbatov.pd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2.Перевірка на плагіат. – Режим доступу : http://library.kubg.edu.ua/poslygy-ta-servis/dostup-do-internet.html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3.Робота з референс менеджерами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– Режим доступу : http://lib.vntu.edu.ua/pages/495.html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4.Універсальний навчальний посібник з академічної доброчесності для вчителів / уклад. О. С. Ройбу ; за заг. ред. О. О. Гужви ; ХНУ і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. Н. Каразіна. – Вид. 2-ге, випр. та доп. – Харків : ХНУ, 2017. – 32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5.Університети — учасники проекту SAIUP. – Режим доступу : https://saiup.org.ua/universiteti-uchasniki/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ндаментальні цінності академічної доброчесності : пер. з англ. / Міжнар. центр акад. доброчесності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ред. Т. Фішман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– Вид. 2-ге. – Клемсон,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999. – 36 с. – Режим доступу 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s://www.academicintegrity.org/wp-content/uploads/2019/04/Fundamental_Values_version_in_Ukrainian.pdf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7.Чуканова С. Академічна доброчесність у процесі виконання наукових досліджень : презентація. – Режим доступу : http://ekmair.ukma.edu.ua/bitstream/handle/123456789/10936/Chukanova_Akademichna_dobrochesnist.pdf?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8.Шулікін Д. Академічна доброчесність: виклики і практики // Освіта України. – 2018. – 17 верес. (№ 36). – С. 6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9.Яворська Т. М. Академічна доброчесність — запорука якісної освіти. – Режим доступу : http: //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nf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017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/2017_26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7640" y="620280"/>
            <a:ext cx="67676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ДЯКУЮ  ЗА  УВАГУ!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Зав. наук.-мет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відділу  Н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ХНПУ імені Г. С. Сковород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О. І. Романовсь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email: clio25@uk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контакт"/>
          <p:cNvPicPr/>
          <p:nvPr/>
        </p:nvPicPr>
        <p:blipFill>
          <a:blip r:embed="rId1"/>
          <a:stretch/>
        </p:blipFill>
        <p:spPr>
          <a:xfrm>
            <a:off x="7380360" y="1844640"/>
            <a:ext cx="115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ЄВРОПЕЙСЬКІ  ІНІЦІАТИВ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773360"/>
            <a:ext cx="7313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Бухарестська декларація</a:t>
            </a:r>
            <a:r>
              <a:rPr b="0" lang="uk-UA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етичних принципів вищої освіти </a:t>
            </a:r>
            <a:r>
              <a:rPr b="1" lang="uk-UA" sz="2800" spc="-1" strike="noStrike">
                <a:solidFill>
                  <a:srgbClr val="006666"/>
                </a:solidFill>
                <a:latin typeface="Times New Roman"/>
              </a:rPr>
              <a:t>(2004 р.)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 – 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изначає основні тенденції вищої освіти в європейському регіоні та основні принципи їх етичного регулювання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9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ЄВРОПЕЙСЬКІ  ІНІЦІАТИВ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ETINED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03399"/>
                </a:solidFill>
                <a:latin typeface="Verdana"/>
              </a:rPr>
              <a:t>-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загальноєвропейська платформа з питань етики, прозорості та чесності в галузі освіти</a:t>
            </a: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ETICO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300" spc="-1" strike="noStrike">
                <a:solidFill>
                  <a:srgbClr val="003399"/>
                </a:solidFill>
                <a:latin typeface="Verdana"/>
              </a:rPr>
              <a:t>-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ебресурс ЮНЕСКО, орієнтований на питання етики та корупції у сфері осві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https://etico.iiep.unesco.org/en/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ОСНОВНІ  ЦІННОСТІ 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АКАДЕМІЧНОЇ  КУЛЬТУР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529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інтелектуальна свобода і соціальна відповідальність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моральна відповідальність самостійних дослідників і вчених не тільки за процес дослідження (вибір теми, методи і порядність), але і за його результат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прагнення окремих наукових об’єднань до співпраці у світовому масштабі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право вчених вільно висловлювати свої думки про наукові та етичні аспекти дослідницьких проектів і їх результатів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право також уникати участі в проєктах, які суперечать їх переконанням, цінностя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самоцінність інтелектуальної роботи незалежно від термінів одержання результаті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РЕЗУЛЬТАТИ  ОПИТ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</a:rPr>
              <a:t>Соціологічні опитування в Україні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(2014-2016 рр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99 %  студентів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вдавались до тих чи інших нечесних методів під час навчанн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78 % студентів складають іспити не самостійн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67 % з них вдаються до списування під час іспиту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23 % студентів вказують на випадки отримання оцінок за послуги або гроші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3300"/>
                </a:solidFill>
                <a:latin typeface="Times New Roman"/>
              </a:rPr>
              <a:t>90 % студентів вдаються до плагіа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2T08:44:17Z</dcterms:created>
  <dc:creator>user205b</dc:creator>
  <dc:description/>
  <dc:language>en-US</dc:language>
  <cp:lastModifiedBy>user205b</cp:lastModifiedBy>
  <dcterms:modified xsi:type="dcterms:W3CDTF">2021-09-14T08:42:16Z</dcterms:modified>
  <cp:revision>420</cp:revision>
  <dc:subject/>
  <dc:title>Академічна доброчесність </dc:title>
</cp:coreProperties>
</file>