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FFAE-54AB-4220-B317-79A23D0C711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F48F-CC12-4A82-998F-ECE5F9015EA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0794-080F-41EB-8B91-1E9E4054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C0F-5D4B-4E6C-BB0C-196BCD06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7D8-FAA6-4AF6-AAD3-A7C49BB7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279-4692-47EE-B815-730CA8C3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3FF6-C679-4D1E-A778-D85B50AF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1DB6-42CD-4F7C-9B52-2D110F98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F7C2-2737-4A0D-9759-C6AEAC75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3E42-8797-449F-B310-5ECC74B2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EF67-6754-4F04-81C9-089D8B01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9CEA-AAE0-4273-8212-E7FCD32C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397D-2333-4CCD-8483-38D9CB8D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49E4-7018-41E0-95B4-70422222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57C3-7E74-41CC-A6C0-0E93AD81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266E-EE1D-4733-B34A-CAFAE14E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891F-8D6A-4360-989F-0D5BD710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C210-A1C2-40B9-BD18-B2470ED8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F840-4913-45AD-A756-B7C74615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1EC6-89DD-416A-96B5-B28D9A27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4444-8A10-499E-A1FF-9A4D6EFC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118-0472-421B-BE7A-E3D3BBAB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6E23-E145-40D6-8DEB-CFD49B85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A14-16EF-48D6-9CB9-08B54BAC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C3C3-CA49-49B6-8B11-BF0C8520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40E-1C07-43F7-8373-96DD49E0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7C27-7824-4791-99CB-9FF71FC5071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FEDD-BD48-4110-83CF-B237E0DEBC0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s://ua.unicheck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lovnyk.ua/services/translit.php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litopys.org.ua/links/intrans.htm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s://www.slideshare.net/NB_MDU/academic-integrity-98065167" TargetMode="External"/><Relationship Id="rId2" Type="http://schemas.openxmlformats.org/officeDocument/2006/relationships/hyperlink" Target="https://library.sumdu.edu.ua/uk/doslidnyku/akademichne-pismo/tsytuvannia-ta-posylannia/heneratory-posylan.html" TargetMode="External"/><Relationship Id="rId3" Type="http://schemas.openxmlformats.org/officeDocument/2006/relationships/hyperlink" Target="https://library.sumdu.edu.ua/uk/doslidnyku/akademichne-pismo/tsytuvannia-ta-posylannia/heneratory-posylan.html" TargetMode="External"/><Relationship Id="rId4" Type="http://schemas.openxmlformats.org/officeDocument/2006/relationships/hyperlink" Target="https://library.sumdu.edu.ua/uk/doslidnyku/akademichne-pismo/tsytuvannia-ta-posylannia/heneratory-posylan.html" TargetMode="External"/><Relationship Id="rId5" Type="http://schemas.openxmlformats.org/officeDocument/2006/relationships/hyperlink" Target="https://library.sumdu.edu.ua/uk/doslidnyku/akademichne-pismo/tsytuvannia-ta-posylannia/heneratory-posylan.html" TargetMode="External"/><Relationship Id="rId6" Type="http://schemas.openxmlformats.org/officeDocument/2006/relationships/hyperlink" Target="https://library.sumdu.edu.ua/uk/doslidnyku/akademichne-pismo/tsytuvannia-ta-posylannia/heneratory-posylan.html" TargetMode="External"/><Relationship Id="rId7" Type="http://schemas.openxmlformats.org/officeDocument/2006/relationships/hyperlink" Target="https://library.sumdu.edu.ua/uk/doslidnyku/akademichne-pismo/tsytuvannia-ta-posylannia/heneratory-posylan.html" TargetMode="External"/><Relationship Id="rId8" Type="http://schemas.openxmlformats.org/officeDocument/2006/relationships/hyperlink" Target="https://library.sumdu.edu.ua/uk/doslidnyku/akademichne-pismo/tsytuvannia-ta-posylannia/heneratory-posylan.html" TargetMode="External"/><Relationship Id="rId9" Type="http://schemas.openxmlformats.org/officeDocument/2006/relationships/hyperlink" Target="https://library.sumdu.edu.ua/uk/doslidnyku/akademichne-pismo/tsytuvannia-ta-posylannia/heneratory-posylan.html" TargetMode="External"/><Relationship Id="rId10" Type="http://schemas.openxmlformats.org/officeDocument/2006/relationships/hyperlink" Target="https://library.sumdu.edu.ua/uk/doslidnyku/akademichne-pismo/tsytuvannia-ta-posylannia/heneratory-posylan.html" TargetMode="External"/><Relationship Id="rId11" Type="http://schemas.openxmlformats.org/officeDocument/2006/relationships/hyperlink" Target="https://library.sumdu.edu.ua/uk/doslidnyku/akademichne-pismo/tsytuvannia-ta-posylannia/heneratory-posylan.html" TargetMode="External"/><Relationship Id="rId12" Type="http://schemas.openxmlformats.org/officeDocument/2006/relationships/hyperlink" Target="https://library.sumdu.edu.ua/uk/doslidnyku/akademichne-pismo/tsytuvannia-ta-posylannia/heneratory-posylan.html" TargetMode="External"/><Relationship Id="rId13" Type="http://schemas.openxmlformats.org/officeDocument/2006/relationships/hyperlink" Target="https://library.sumdu.edu.ua/uk/doslidnyku/akademichne-pismo/tsytuvannia-ta-posylannia/heneratory-posylan.html" TargetMode="External"/><Relationship Id="rId14" Type="http://schemas.openxmlformats.org/officeDocument/2006/relationships/hyperlink" Target="https://library.sumdu.edu.ua/uk/doslidnyku/akademichne-pismo/tsytuvannia-ta-posylannia/heneratory-posylan.html" TargetMode="External"/><Relationship Id="rId15" Type="http://schemas.openxmlformats.org/officeDocument/2006/relationships/hyperlink" Target="https://library.sumdu.edu.ua/uk/doslidnyku/akademichne-pismo/tsytuvannia-ta-posylannia/heneratory-posylan.html" TargetMode="External"/><Relationship Id="rId16" Type="http://schemas.openxmlformats.org/officeDocument/2006/relationships/hyperlink" Target="https://library.sumdu.edu.ua/uk/doslidnyku/akademichne-pismo/tsytuvannia-ta-posylannia/heneratory-posylan.html" TargetMode="External"/><Relationship Id="rId17" Type="http://schemas.openxmlformats.org/officeDocument/2006/relationships/hyperlink" Target="https://library.sumdu.edu.ua/uk/doslidnyku/akademichne-pismo/tsytuvannia-ta-posylannia/heneratory-posylan.html" TargetMode="External"/><Relationship Id="rId18" Type="http://schemas.openxmlformats.org/officeDocument/2006/relationships/hyperlink" Target="https://library.sumdu.edu.ua/uk/doslidnyku/akademichne-pismo/tsytuvannia-ta-posylannia/heneratory-posylan.html" TargetMode="External"/><Relationship Id="rId19" Type="http://schemas.openxmlformats.org/officeDocument/2006/relationships/hyperlink" Target="https://library.sumdu.edu.ua/uk/doslidnyku/akademichne-pismo/tsytuvannia-ta-posylannia/heneratory-posylan.html" TargetMode="External"/><Relationship Id="rId20" Type="http://schemas.openxmlformats.org/officeDocument/2006/relationships/hyperlink" Target="https://library.sumdu.edu.ua/uk/doslidnyku/akademichne-pismo/tsytuvannia-ta-posylannia/heneratory-posylan.html" TargetMode="External"/><Relationship Id="rId21" Type="http://schemas.openxmlformats.org/officeDocument/2006/relationships/hyperlink" Target="https://library.sumdu.edu.ua/uk/doslidnyku/akademichne-pismo/tsytuvannia-ta-posylannia/heneratory-posylan.html" TargetMode="External"/><Relationship Id="rId22" Type="http://schemas.openxmlformats.org/officeDocument/2006/relationships/hyperlink" Target="https://library.sumdu.edu.ua/uk/doslidnyku/akademichne-pismo/tsytuvannia-ta-posylannia/heneratory-posylan.html" TargetMode="External"/><Relationship Id="rId23" Type="http://schemas.openxmlformats.org/officeDocument/2006/relationships/hyperlink" Target="https://library.sumdu.edu.ua/uk/doslidnyku/akademichne-pismo/tsytuvannia-ta-posylannia/heneratory-posylan.html" TargetMode="External"/><Relationship Id="rId24" Type="http://schemas.openxmlformats.org/officeDocument/2006/relationships/hyperlink" Target="https://library.sumdu.edu.ua/uk/doslidnyku/akademichne-pismo/tsytuvannia-ta-posylannia/heneratory-posylan.html" TargetMode="External"/><Relationship Id="rId25" Type="http://schemas.openxmlformats.org/officeDocument/2006/relationships/hyperlink" Target="https://library.sumdu.edu.ua/uk/doslidnyku/akademichne-pismo/tsytuvannia-ta-posylannia/heneratory-posylan.html" TargetMode="External"/><Relationship Id="rId26" Type="http://schemas.openxmlformats.org/officeDocument/2006/relationships/hyperlink" Target="https://library.sumdu.edu.ua/uk/doslidnyku/akademichne-pismo/tsytuvannia-ta-posylannia/heneratory-posylan.html" TargetMode="External"/><Relationship Id="rId27" Type="http://schemas.openxmlformats.org/officeDocument/2006/relationships/hyperlink" Target="https://library.sumdu.edu.ua/uk/doslidnyku/akademichne-pismo/tsytuvannia-ta-posylannia/heneratory-posylan.html" TargetMode="External"/><Relationship Id="rId28" Type="http://schemas.openxmlformats.org/officeDocument/2006/relationships/hyperlink" Target="https://library.sumdu.edu.ua/uk/doslidnyku/akademichne-pismo/tsytuvannia-ta-posylannia/heneratory-posylan.html" TargetMode="External"/><Relationship Id="rId29" Type="http://schemas.openxmlformats.org/officeDocument/2006/relationships/hyperlink" Target="https://library.sumdu.edu.ua/uk/doslidnyku/akademichne-pismo/tsytuvannia-ta-posylannia/heneratory-posylan.html" TargetMode="External"/><Relationship Id="rId30" Type="http://schemas.openxmlformats.org/officeDocument/2006/relationships/hyperlink" Target="https://library.sumdu.edu.ua/uk/doslidnyku/akademichne-pismo/tsytuvannia-ta-posylannia/heneratory-posylan.html" TargetMode="External"/><Relationship Id="rId3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31376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рківський національний педагогічний університет імені Г. С. Сковороди </a:t>
            </a:r>
            <a:br>
              <a:rPr sz="2400"/>
            </a:b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аукова бібліотек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403280" y="1844280"/>
            <a:ext cx="7313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</a:t>
            </a: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а доброчесність</a:t>
            </a: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: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ормування</a:t>
            </a: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власної професійної культур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ля магістрів і аспіранті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кладач О. І. Романовсь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03280" y="5444640"/>
            <a:ext cx="73137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ркі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02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ОНОДАВЧІ  ДОКУМЕНТ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5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 algn="ctr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он України «Про освіту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ід 05. 09.2017 № 2145-VIII</a:t>
            </a: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2052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визначає о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сновні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принципи академічної доброчесності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2052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особливості дотримання академічної доброчесності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2052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види порушень академічної доброчесності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2052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види академічної відповідальност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ОНОДАВЧІ  ДОКУМЕНТ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он України «Про вищу освіту» 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ід 01.07.2014 № 1556-VII</a:t>
            </a:r>
            <a:r>
              <a:rPr b="0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із змін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визначає зміст академічної доброчесності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академічного плагіату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ОНОДАВЧІ  ДОКУМЕНТ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он України «Про авторське право та суміжні права»</a:t>
            </a: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Times New Roman"/>
              </a:rPr>
              <a:t>від 23 грудня 1993 року № 3793-</a:t>
            </a: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XII</a:t>
            </a:r>
            <a:r>
              <a:rPr b="0" lang="uk-UA" sz="2400" spc="-1" strike="noStrike">
                <a:solidFill>
                  <a:srgbClr val="006666"/>
                </a:solidFill>
                <a:latin typeface="Times New Roman"/>
              </a:rPr>
              <a:t> із змін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изначає юридичну відповідальність за плагіат згідно з адміністративним, цивільним та кримінальним законодавством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ОНОДАВЧІ  ДОКУМЕНТ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єкт Закону України про академічну доброчесні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изначає основні засади забезпечення академічної доброчесності у сферах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світи і наук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9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РУШЕННЯ  АКАДЕМІЧНОЇ ДОБРОЧЕСНОСТІ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абрикація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фальсифікація результатів досліджень, посилань, або будь-яких інших даних, що стосуються освітнього провес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 algn="just">
              <a:lnSpc>
                <a:spcPct val="80000"/>
              </a:lnSpc>
              <a:spcBef>
                <a:spcPts val="2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бман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надання завідомо неправдивої інформації стосовно власної освітньої (наукової, творчої) діяльності чи організації освітньої процес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 algn="just">
              <a:lnSpc>
                <a:spcPct val="80000"/>
              </a:lnSpc>
              <a:spcBef>
                <a:spcPts val="2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писування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використання без відповідного дозволу зовнішніх джерел інформації під час оцінювання результатів навчанн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 algn="just">
              <a:lnSpc>
                <a:spcPct val="80000"/>
              </a:lnSpc>
              <a:spcBef>
                <a:spcPts val="2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абарництво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надання (отримання) учасником освітнього процесу чи пропозиція щодо надання (отримання) коштів, майна чи послуг матеріального або нематеріального характеру з метою отримання неправомірної вигоди в освітньому процес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РУШЕННЯ  АКАДЕМІЧНОЇ ДОБРОЧЕСНОСТІ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7280" y="1412640"/>
            <a:ext cx="76327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в сфері навчальної діяльності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имагання отримання грошей, подарунків, особистих послуг при різних формах оцінювання студентів,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иконання за оплату навчальних та кваліфікаційних робіт на замовлення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есправедливе оцінювання виконаних робіт за допомогою плагіату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имусова купівля навчальної та методичної літератури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нижування оцінок та примус до додаткових навчальних послуг та консультацій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новлення за рахунок студентів обладнання або купівля студентами різноманітних витратних матеріалів, канцелярських товар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РУШЕННЯ  АКАДЕМІЧНОЇ ДОБРОЧЕСНОСТІ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7280" y="1628640"/>
            <a:ext cx="763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сфері наукового дослідження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ідготовка та публікація наукових, навчальних та методичних текстів за допомогою плагіат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фальсифікація експериментальних даних, покладених в основу наукових публікаці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ключення до переліку авторів осіб, які не внесли належного вкладу в отримання результат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хвалення досліджень або дисертаційних робіт по темах, що не мають наукового, практичного, соціального та іншого зна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адання позитивних рецензій та відгуків на роботи, які за своїми науковими результатами на це не заслуговують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тримання невиправданих преференцій при наданні наукових та освітніх грант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еправомірне використання свого службового положення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АКАДЕМІЧНА  ВІДПОВІДАЛЬНІ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03280" y="1773360"/>
            <a:ext cx="73137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6666"/>
                </a:solidFill>
                <a:latin typeface="Times New Roman"/>
              </a:rPr>
              <a:t>ЗДОБУВАЧІВ  ОСВІТИ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повторне проходження оцінювання (контрольна робота, іспит, залік тощо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3399"/>
                </a:solidFill>
                <a:latin typeface="Times New Roman"/>
              </a:rPr>
              <a:t>повторне проходження відповідного освітнього компонента освітньої програми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відрахування із закладу освіти (крім осіб, що здобувають загальну середню освіту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99"/>
                </a:solidFill>
                <a:latin typeface="Times New Roman"/>
              </a:rPr>
              <a:t>позбавлення академічної стипенді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99"/>
                </a:solidFill>
                <a:latin typeface="Times New Roman"/>
              </a:rPr>
              <a:t>позбавлення наданих закладом освіти пільг з оплати навчання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АКАДЕМІЧНА  ВІДПОВІДАЛЬНІ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731376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6666"/>
                </a:solidFill>
                <a:latin typeface="Times New Roman"/>
              </a:rPr>
              <a:t>педагогічних, науково-педагогічних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6666"/>
                </a:solidFill>
                <a:latin typeface="Times New Roman"/>
              </a:rPr>
              <a:t>та наукових працівник</a:t>
            </a:r>
            <a:r>
              <a:rPr b="1" lang="ru-RU" sz="2500" spc="-1" strike="noStrike">
                <a:solidFill>
                  <a:srgbClr val="006666"/>
                </a:solidFill>
                <a:latin typeface="Times New Roman"/>
              </a:rPr>
              <a:t>ів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99"/>
                </a:solidFill>
                <a:latin typeface="Verdana"/>
              </a:rPr>
              <a:t>відмова у присудженні наукового ступеня чи присвоєнні вченого звання;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99"/>
                </a:solidFill>
                <a:latin typeface="Verdana"/>
              </a:rPr>
              <a:t>позбавлення присудженого наукового ступеня чи присвоєного вченого звання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99"/>
                </a:solidFill>
                <a:latin typeface="Verdana"/>
              </a:rPr>
              <a:t>позбавлення права брати участь у роботі визначених законом органів чи займати визначені законом посади.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ОТРИМАННЯ  АКАДЕМІЧНОЇ ДОБРОЧЕСНОСТІ 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42920" y="1827000"/>
            <a:ext cx="76406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274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ДОБУВАЧАМИ ОСВІТИ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ЕРЕДБАЧАЄ:</a:t>
            </a: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0360" indent="-2746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амостійне виконання навчальних завдань, завдань поточного та підсумкового контролю результатів навчання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0360" indent="-2746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силання на джерела інформації у разі використання ідей, тверджень, відомос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0360" indent="-2746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отримання норм законодавства про авторське прав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0360" indent="-2746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адання достовірної інформації про результати власної навчальної (наукової, творчої) діяль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0360" indent="-27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3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ІСІЯ  АКАДЕМІЧНОЇ ДОБРОЧЕСНОСТІ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“</a:t>
            </a:r>
            <a:r>
              <a:rPr b="0" lang="uk-UA" sz="29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на доброчесність є способом змінити цей світ. Але спочатку змініть університет, а вже потім – світ”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Юнгсуп Кім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учасник Конференції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Міжнародного центру академічної доброчесност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ОТРИМАННЯ  АКАДЕМІЧНОЇ ДОБРОЧЕСНОСТІ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7280" y="1827360"/>
            <a:ext cx="763272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0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ЕДАГОГІЧНИМИ,  НАУКОВО-ПЕДАГОГІЧНИМИ  ТА НАУКОВИМИ  ПРАЦІВНИКАМИ  </a:t>
            </a: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ЕРЕДБАЧАЄ: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00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силання на джерела інформації у разі використання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ідей, тверджень, відомос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0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9000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отримання норм законодавства про авторське прав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0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900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адання достовірної інформації про результати досліджень та власну педагогічну (науково-педагогічну, творчу) діяльніст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0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900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контроль за дотриманням академічної доброчесності здобувачами освіти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000"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000" algn="ctr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ЛАГІАТ: ВИД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403280" y="1773000"/>
            <a:ext cx="3168720" cy="20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-260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-260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-260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авмисний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0640" indent="-260640" algn="ctr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лагіат усвідомлено присвоєного авторства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076360" y="1773000"/>
            <a:ext cx="358164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6080" indent="-226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6080" indent="-226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6080" indent="-226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енавмисний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6080" indent="-226080" algn="ctr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аснований на випадковому наслідуванні або збігу ідеї чи відкритт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6080" indent="-226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(</a:t>
            </a:r>
            <a:r>
              <a:rPr b="1" i="1" lang="uk-UA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никнути практично неможливо</a:t>
            </a:r>
            <a:r>
              <a:rPr b="0" lang="uk-UA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416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лагіат</a:t>
            </a:r>
            <a:r>
              <a:rPr b="1" lang="uk-UA" sz="19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uk-UA" sz="1900" spc="-1" strike="noStrike">
                <a:solidFill>
                  <a:srgbClr val="003399"/>
                </a:solidFill>
                <a:latin typeface="Cambria"/>
              </a:rPr>
              <a:t>–</a:t>
            </a:r>
            <a:r>
              <a:rPr b="1" lang="en-US" sz="19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</a:t>
            </a:r>
            <a:r>
              <a:rPr b="1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ходить від латинського “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lagium</a:t>
            </a:r>
            <a:r>
              <a:rPr b="1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”, що означає </a:t>
            </a:r>
            <a:r>
              <a:rPr b="1" lang="uk-UA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“крадіжка”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)</a:t>
            </a:r>
            <a:r>
              <a:rPr b="1" lang="uk-UA" sz="19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ивласнення авторства на чужий твір науки, літератури, мистецтва або на чуже відкриття, винахід чи раціоналізаторську пропозицію, а також використання у своїх працях чужого твору без посилання на авто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ЛАГІАТ: ВИД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99640" y="2126880"/>
            <a:ext cx="35276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авмисний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писування одне в одног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копіювання цілого есе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авантаження цілої роботи з Інтернету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компіляція тексту з різних джерел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аміна слів у речен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859280" y="2133360"/>
            <a:ext cx="3889440" cy="44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9640" indent="-359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енавмисни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піювання речення чи двох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дто тісна співпраця зі співавторо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гані вміння перефразовування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рати матеріал дослівно з підручника, щоб відповісти на запитання домашнього завдання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ключення джерел у список бібліографії, але без цитування їх у тексті робо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640" y="1606680"/>
            <a:ext cx="6593040" cy="43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Класифікація плагіату за Баррі Гілмор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ЛАГІАТ: ВИД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иди навмисного плагіат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ослівний плагіат</a:t>
            </a:r>
            <a:r>
              <a:rPr b="0" lang="uk-UA" sz="21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0" lang="uk-UA" sz="21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переписування першоджерела без змін і посиланн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Перефразування</a:t>
            </a:r>
            <a:r>
              <a:rPr b="0" lang="uk-UA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перефразування частин тексту інших авторів зі зміною порядку слів або наслідування структури їхньої аргументації без посилання на джерело</a:t>
            </a:r>
            <a:r>
              <a:rPr b="0" lang="uk-UA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амоплагіат</a:t>
            </a:r>
            <a:r>
              <a:rPr b="0" lang="uk-UA" sz="2100" spc="-1" strike="noStrike">
                <a:solidFill>
                  <a:srgbClr val="006666"/>
                </a:solidFill>
                <a:latin typeface="Cambria"/>
              </a:rPr>
              <a:t> </a:t>
            </a:r>
            <a:r>
              <a:rPr b="0" lang="uk-UA" sz="21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копіювання у себе робіт минулих рокі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Компіляція</a:t>
            </a:r>
            <a:r>
              <a:rPr b="0" lang="uk-UA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укладання з кількох чужих матеріалів свого тексту; редагування без дозволу чужого матеріалу: смислова, стилістична, граматична правка й скороч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2916360" y="907920"/>
            <a:ext cx="44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ЛАГІАТ: ВИД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1042920" y="1700280"/>
            <a:ext cx="777564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озаїчний плагіат</a:t>
            </a:r>
            <a:r>
              <a:rPr b="0" lang="uk-UA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це компіляція декількох джерел та перефразування окремих слів. В результаті з’являється мозаїка, в якій не зрозуміло, де закінчується одне джерело, де починається інше, де коментар авто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Рерайт</a:t>
            </a:r>
            <a:r>
              <a:rPr b="0" lang="uk-UA" sz="2400" spc="-1" strike="noStrike">
                <a:solidFill>
                  <a:srgbClr val="3c6565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додавання до чужого матеріалу без дозволу автора додаткової інформації, з переробкою раніше обнародуваного матеріалу із зміною слів та вираз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Републікація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повторне або багаторазове обнародування в іншому джерелі чужої інформації зі справжнім підписом автора й посиланням на джерел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Реплікація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процес копіювання даних з одного джерела на інші і навпаки, тобто своєрідне «тиражування» інформації без дозволу авто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</a:rPr>
              <a:t>A Top 10 List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58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6666"/>
                </a:solidFill>
                <a:latin typeface="Times New Roman"/>
              </a:rPr>
              <a:t>західно-європейська класифікація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6666"/>
                </a:solidFill>
                <a:latin typeface="Times New Roman"/>
              </a:rPr>
              <a:t>академічного плагіат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CLON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- дослівне копіювання чужої робот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CTRL</a:t>
            </a:r>
            <a:r>
              <a:rPr b="1" lang="uk-UA" sz="1600" spc="-1" strike="noStrike">
                <a:solidFill>
                  <a:srgbClr val="006666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C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– тип плагіату, де у письмовому фрагменті міститься значна частка тексту з одного джерела без жодних змін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FIND</a:t>
            </a:r>
            <a:r>
              <a:rPr b="1" lang="uk-UA" sz="1600" spc="-1" strike="noStrike">
                <a:solidFill>
                  <a:srgbClr val="006666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REPLACE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– заміна ключових слів та фраз, а зміст джерела залишається незмінним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REMIX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– перефрази інших джерел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RECYCLE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– самоплагіат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HYBRID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- досконале комбінування в одній роботі цитованих праць та скопійованих уривків без посилань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MASHUP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– мікс запозичених матеріалів з декількох джерел без відповідного цитування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6666"/>
                </a:solidFill>
                <a:latin typeface="Times New Roman"/>
              </a:rPr>
              <a:t>40 </a:t>
            </a: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ERROR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- письмові фрагменти з посиланнями на неіснуючу або неточну інформацію;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RSS Feed</a:t>
            </a:r>
            <a:r>
              <a:rPr b="0" lang="ru-RU" sz="2100" spc="-1" strike="noStrike">
                <a:solidFill>
                  <a:srgbClr val="003399"/>
                </a:solidFill>
                <a:latin typeface="Times New Roman"/>
              </a:rPr>
              <a:t> -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текст має належне оформлення цитат, але майже не містить оригінальних думок;</a:t>
            </a:r>
            <a:r>
              <a:rPr b="0" lang="ru-RU" sz="21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Re-tweet</a:t>
            </a:r>
            <a:r>
              <a:rPr b="0" lang="ru-RU" sz="2100" spc="-1" strike="noStrike">
                <a:solidFill>
                  <a:srgbClr val="003399"/>
                </a:solidFill>
                <a:latin typeface="Times New Roman"/>
              </a:rPr>
              <a:t> -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текст містить належне цитування, але, по суті, дублює формулювання та/або структуру первісного (оригінального) текст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АКАДЕМІЧНИЙ  ПЛАГІА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навмисне відтворення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 algn="ctr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викладачем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 algn="ctr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докторантом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 algn="ctr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аспіран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 algn="ctr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студент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у друкованій або електронній формі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чужого наукового твору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, опублікованого на паперовому або офіційно оприлюдненого на електронному носії, повністю або частково,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під своїм іменем без посилання на автор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ВИДИ  АКАДЕМІЧНОГО  ПЛАГІАТУ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699920"/>
            <a:ext cx="7313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дослівне запозичення текстових фрагментів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без оформлення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їх як цитат з посиланням на джерело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використання інформації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(факти, ідеї, формули, числові значення тощо) </a:t>
            </a: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з джерела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без посилання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на це джерело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перефразування тексту джерела у формі, що є близькою до оригінального тексту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, або наведення узагальнення ідей, інтерпретацій чи висновків з певного джерела без посилання на це джерело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подання як власних робіт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(дисертацій, монографій, навчальних посібників, статей, тез, звітів, контрольних, розрахункових, курсових, дипломних та магістерських робіт, есеїв, рефератів тощо), </a:t>
            </a: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виконаних на замовлення іншими особами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, у т.ч. робіт, стосовно яких справжні автори надали згоду на таке використання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Е  Є  ПЛАГІАТО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87280" y="1699920"/>
            <a:ext cx="7632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агальновідомі знання, факт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ідеї або визначення, що широко розповсюджені та відомі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відомлення про новини (прес-інформація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твори народної творчості (фольклору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фіційні документ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ержавні символи Україн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грошові знак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розклади руху транспортних засобів, розклади телерадіопередач, телефонних довідників та інших аналогічних баз дани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ЕРЕВІРКА  НА  ПЛАГІА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42920" y="1916280"/>
          <a:ext cx="7921800" cy="3678120"/>
        </p:xfrm>
        <a:graphic>
          <a:graphicData uri="http://schemas.openxmlformats.org/drawingml/2006/table">
            <a:tbl>
              <a:tblPr/>
              <a:tblGrid>
                <a:gridCol w="3962520"/>
                <a:gridCol w="3959280"/>
              </a:tblGrid>
              <a:tr h="1950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Безкоштовні програми</a:t>
                      </a:r>
                      <a:r>
                        <a:rPr b="1" lang="uk-UA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переваги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5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ільний доступ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ростий інтерфейс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латні програми</a:t>
                      </a:r>
                      <a:r>
                        <a:rPr b="0" lang="uk-UA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переваги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рекомендовані МОН України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гарантують конфіденційність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PLAGIARISMA</a:t>
                      </a:r>
                      <a:r>
                        <a:rPr b="0" lang="ru-RU" sz="18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UNICHECK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ADVEGO Plagiatus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StrikePlagiarism</a:t>
                      </a:r>
                      <a:r>
                        <a:rPr b="0" lang="ru-RU" sz="20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АКАДЕМІЧНА ДОБРОЧЕСНІСТ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1043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це </a:t>
            </a:r>
            <a:r>
              <a:rPr b="1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укупність етичних принципів та визначених законом правил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якими мають керуватися учасники освітнього процесу під ча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навчання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викладанн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та провадження наукової (творчої) діяльності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 метою забезпечення довіри до результатів навчання та/ аб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аукових (творчих) досягнен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03280" y="4221000"/>
            <a:ext cx="73137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няття </a:t>
            </a:r>
            <a:r>
              <a:rPr b="1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«академічної доброчесності»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ключає в себе такі </a:t>
            </a:r>
            <a:r>
              <a:rPr b="1" lang="uk-UA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цінност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апобігання шахрайству, фальшуванню та плагіату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ідтримку академічних стандартів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чесність і ретельність у дослідженнях і науковому видавництв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UNICH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EK</a:t>
            </a: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86920" y="1827360"/>
            <a:ext cx="7496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1825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"/>
              </a:rPr>
              <a:t>UNICHE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раніше 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NPLAG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ервіс з перевірки робіт на ознаки плагіату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творений українськими розробниками у 2014 році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м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же використовуватись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n-lin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або інтегруватись з навчальними системами З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</a:t>
            </a: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ереваг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ручний функціонал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можливість порівнювати роботи з інтернет-джерелам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робота з багатьма мовами (укр., англ., ісп., фр., рос., нім. та   ін.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автоматичне визначення заміни символів і літер в тексті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автоматичне виключення цитування та списку   використаних джерел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конфіденційність робо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ШКАЛА  ПЛАГІАТУ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16000" y="1484280"/>
          <a:ext cx="7777080" cy="5189400"/>
        </p:xfrm>
        <a:graphic>
          <a:graphicData uri="http://schemas.openxmlformats.org/drawingml/2006/table">
            <a:tbl>
              <a:tblPr/>
              <a:tblGrid>
                <a:gridCol w="1871640"/>
                <a:gridCol w="1871640"/>
                <a:gridCol w="1657440"/>
                <a:gridCol w="2376360"/>
              </a:tblGrid>
              <a:tr h="14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Для наукових та навч.-метод. праць у т.ч. магістерських та дисертаційних робі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Для навчальних та дипломних робіт бакалавр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Рівень оригінальності тво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Рекомендаційна д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понад 9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понад 8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ви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Текст вважається оригінальн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від 80 % до 9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від 60 % до 8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задовіль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Оригінальність задовільна, слід пересвідчитись у наявності посилань для цитованих фрагмент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від 60 % до 8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від 40 % до 6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низь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Матеріал може бути прийнятий до розгляду після доопрацювання та перевірки наявності посилань для цитованих фрагментів та з умовою обов’язкової наступної перевірки на оригінальн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менше 6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менше 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неприйнят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Матеріал для розгляду не приймає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РЕКОМЕНДАЦІЇ  АВТОРА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Текст, що має показник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80% і більше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–  вважається відповідним для розміщення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у відкритому доступі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Текст, що має показник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менше 80%</a:t>
            </a: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необхідно унікалізувати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Рекомендована унікальність тексту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95-100%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ЄКТ  СПРИЯННЯ  АКАДЕМІЧНІЙ ДОБРОЧЕСНОСТІ (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SAIUP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370160" y="1827360"/>
            <a:ext cx="737856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Місія проєкту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IUP </a:t>
            </a:r>
            <a:r>
              <a:rPr b="1" lang="uk-UA" sz="2800" spc="-1" strike="noStrike">
                <a:solidFill>
                  <a:srgbClr val="003399"/>
                </a:solidFill>
                <a:latin typeface="Cambria"/>
              </a:rPr>
              <a:t>– </a:t>
            </a:r>
            <a:r>
              <a:rPr b="1" lang="uk-UA" sz="2800" spc="-1" strike="noStrike">
                <a:solidFill>
                  <a:srgbClr val="006666"/>
                </a:solidFill>
                <a:latin typeface="Cambria"/>
              </a:rPr>
              <a:t>формування нової академічної культури</a:t>
            </a:r>
            <a:r>
              <a:rPr b="1" lang="en-US" sz="2800" spc="-1" strike="noStrike">
                <a:solidFill>
                  <a:srgbClr val="006666"/>
                </a:solidFill>
                <a:latin typeface="Cambria"/>
              </a:rPr>
              <a:t> </a:t>
            </a:r>
            <a:r>
              <a:rPr b="1" lang="uk-UA" sz="2800" spc="-1" strike="noStrike">
                <a:solidFill>
                  <a:srgbClr val="006666"/>
                </a:solidFill>
                <a:latin typeface="Cambria"/>
              </a:rPr>
              <a:t>в Україні</a:t>
            </a:r>
            <a:r>
              <a:rPr b="0" lang="uk-UA" sz="2800" spc="-1" strike="noStrike">
                <a:solidFill>
                  <a:srgbClr val="006666"/>
                </a:solidFill>
                <a:latin typeface="Cambria"/>
              </a:rPr>
              <a:t>,</a:t>
            </a: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яка базуватиметься н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довірі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чесності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розорості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реальному навчанні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справжній науковій роботі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920" y="3013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ЄКТ  СПРИЯННЯ  АКАДЕМІЧНІЙ ДОБРОЧЕСНОСТІ (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SAIUP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оєкт реалізовано 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Американськими Радами з міжнародної освіти в Україні за підтримки Посольства США та партнерства з Міністерством освіти і науки Україн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Термін реалізації Проєкту: 1 січня 2016 року – 31 грудня 2019 року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</a:rPr>
              <a:t>Основні напрямки діяльності Проєкту: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освітницька кампані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актичний навчальний курс в університетах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ширення міжнародних практик в українських університетах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робота над нормативною базою і регулятивними механізм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6000" y="301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ЄКТ  СПРИЯННЯ  АКАДЕМІЧНІЙ ДОБРОЧЕСНОСТІ (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SAIUP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6680" indent="-256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ЕРЕДБАЧАЄ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розробку і впровадження курсу </a:t>
            </a: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«Основи академічного письма»</a:t>
            </a:r>
            <a:r>
              <a:rPr b="1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ийняття університетами </a:t>
            </a: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дексів честі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які встановлюють загальні моральні принципи та правила етичної поведінки університетської громад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публікування </a:t>
            </a: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ложення про протидію плагіату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 університетах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творення </a:t>
            </a: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єдиного національного репозитарію академічних текстів</a:t>
            </a:r>
            <a:r>
              <a:rPr b="1" i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                   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Academic IQ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Проєкт «Ініціатива академічної доброчесності та якості освіти» 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(Academic Integrity and Quality Initia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99"/>
                </a:solidFill>
                <a:latin typeface="Times New Roman"/>
              </a:rPr>
              <a:t>Місія Проєкту:</a:t>
            </a:r>
            <a:r>
              <a:rPr b="1" lang="uk-UA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б’єднати професійну спільноту освітян середньої та вищої освіти для обміну досвідом та співпраці  задля підтримки академічної доброчесності та якості освіти.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оєкт упроваджується Американськими Радами з міжнародної освіти за сприяння Посольства США в Україні, Міністерства освіти і науки України та Національного агенства із забезпечення якості вищої осві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Термін реалізації Проєкту – 1 вересня 2020 року – 30 липня 2022 року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4" descr="American Councils Ukraine"/>
          <p:cNvPicPr/>
          <p:nvPr/>
        </p:nvPicPr>
        <p:blipFill>
          <a:blip r:embed="rId1"/>
          <a:stretch/>
        </p:blipFill>
        <p:spPr>
          <a:xfrm>
            <a:off x="1619280" y="476280"/>
            <a:ext cx="26766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ПРОЄКТ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Academic IQ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6666"/>
                </a:solidFill>
                <a:latin typeface="Times New Roman"/>
              </a:rPr>
              <a:t>ПЕРЕДБАЧАЄ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підписання </a:t>
            </a: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еморандуму про співпрацю з Американськими Радами з міжнародної освіти</a:t>
            </a: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 з детальним переліком заходів та активностей, передбачених в межах проєкту «Ініціатива академічної доброчесності та якості освіти»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делегування трьох постійних представників/представниць від ЗВО</a:t>
            </a: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, які братимуть участь у запропонованих заходах проєкту та ділитимуться інформацією, отриманою на згаданих вище заходах, з університетською спільнотою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участь науково-педагогічних працівників ЗВО у запланованих заходах проєкту, інформування здобувачів освіти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проведення опитувань серед студентів та викладачів</a:t>
            </a: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, а також заповнення анкети для самооцінки інфраструктури забезпечення академічної доброчесності, використовуючи матеріали та технічні засоби, що будуть надані проєктом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відкритість до обговорення та застосування кращих практик для посилення інфраструктури академічної доброчесності та якості освіти у ЗВ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НА  ДОБРОЧЕСНІСТЬ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в ХНПУ імені Г. С. Сковород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42920" y="1484280"/>
          <a:ext cx="7929720" cy="5376960"/>
        </p:xfrm>
        <a:graphic>
          <a:graphicData uri="http://schemas.openxmlformats.org/drawingml/2006/table">
            <a:tbl>
              <a:tblPr/>
              <a:tblGrid>
                <a:gridCol w="2665440"/>
                <a:gridCol w="5264280"/>
              </a:tblGrid>
              <a:tr h="182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Кодекс академічної</a:t>
                      </a:r>
                      <a:r>
                        <a:rPr b="0" lang="uk-UA" sz="20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доброчесності ХНПУ імені Г. С. Сковород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від 22.02.20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04-05/24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становлює загальні моральні принципи та правила етичної поведінки осіб, які працюють і навчаються в Університеті (університетської громади), якими вони повинні керуватися у своїй діяльност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Положення про комісію з питань академічної доброчесност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від 27.02.20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04-05/47.20</a:t>
                      </a:r>
                      <a:r>
                        <a:rPr b="0" lang="ru-RU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изначає порядок діяльност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Kо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місії з питань академічної доброчесності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роцедуру розгляду справ щодо порушення Кодексу та норм академічної доброчесност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членами університетської сп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льноти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пособи дисциплінарного вплив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1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Етичний кодекс ХНПУ імені Г. С. Сковород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від</a:t>
                      </a:r>
                      <a:r>
                        <a:rPr b="1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22.02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04-05/29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изначає ключові цінності, основні принципи і стандарти етичної поведінки усіх учасників освітнього процесу в Університет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НА  ДОБРОЧЕСНІСТЬ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в ХНПУ імені Г. С. Сковород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2920" y="1773000"/>
            <a:ext cx="764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</a:rPr>
              <a:t>Інституційний репозитарі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Times New Roman"/>
              </a:rPr>
              <a:t>(дата започаткування - вересень 2016 року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Перевірка на плагі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оговір про співпрацю з ТОВ </a:t>
            </a:r>
            <a:r>
              <a:rPr b="1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“АНТИПЛАГІАТ”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(використання системи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“Unicheck”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ід 15.10.2018 № 10-1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еревірка текстів здійснюється надсиланням тексту на поштову скриньку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antiplagiat@hnpu.edu.ua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світницька  робота бібліотек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Times New Roman"/>
              </a:rPr>
              <a:t>Інформаційна грамотніс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Times New Roman"/>
              </a:rPr>
              <a:t>Лекційні заняття з академічної доброчесност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Times New Roman"/>
              </a:rPr>
              <a:t>Академічне письмо (оформлення/ редагування списків використаних джере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ВИТОКИ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АКАДЕМІЧНОЇ  ДОБРОЧЕСНОСТІ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559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он Маккбейн</a:t>
            </a: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0" lang="uk-UA" sz="17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идумав термін “академічна доброчесність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інець Х</a:t>
            </a:r>
            <a:r>
              <a:rPr b="0" lang="en-US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VIII </a:t>
            </a: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т. 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на доброчесність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в США пов’язана виключно зі статусом і характером </a:t>
            </a:r>
            <a:r>
              <a:rPr b="1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собистості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інець Х</a:t>
            </a:r>
            <a:r>
              <a:rPr b="0" lang="en-US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 ст. 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зміна концепції академічної доброчесності: індивідуальна академічна доброчесність особистості замінилась на </a:t>
            </a: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ну доброчесність</a:t>
            </a:r>
            <a:r>
              <a:rPr b="1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університету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як соціального інститут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960 рік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проведення соціологічних опитувань науковими установами США. Результат – 75 % опитуваних зізнались у списуван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о 1970 року 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більшість університетів в США установили </a:t>
            </a:r>
            <a:r>
              <a:rPr b="1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декси чесноти для своїх студентів і викладачів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творено Міжнародний центр академічної цілісності Університету Клемсона в Інституті етики в Ратлен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НА  ДОБРОЧЕСНІСТЬ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в ХНПУ імені Г. С. Сковород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58920" y="1628280"/>
            <a:ext cx="7416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3399"/>
                </a:solidFill>
                <a:latin typeface="Times New Roman"/>
              </a:rPr>
              <a:t>Конкурс есе “Моя академічна доброчесність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63360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НА  ДОБРОЧЕСНІСТЬ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в ХНПУ імені Г. С. Сковород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1376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http://hnpu.edu.ua/uk/division/akademichna-dobrochesn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8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63025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ІНФОРМАЦІЙНА  ГРАМОТНІ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3399"/>
                </a:solidFill>
                <a:latin typeface="Times New Roman"/>
              </a:rPr>
              <a:t>уміння шукати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3399"/>
                </a:solidFill>
                <a:latin typeface="Times New Roman"/>
              </a:rPr>
              <a:t>аналізувати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3399"/>
                </a:solidFill>
                <a:latin typeface="Times New Roman"/>
              </a:rPr>
              <a:t>використовувати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3399"/>
                </a:solidFill>
                <a:latin typeface="Times New Roman"/>
              </a:rPr>
              <a:t>оцінювати достовірність і захист інформації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3399"/>
                </a:solidFill>
                <a:latin typeface="Times New Roman"/>
              </a:rPr>
              <a:t>оцінювати значення нових ІКТ і вміти їх використовувати</a:t>
            </a:r>
            <a:r>
              <a:rPr b="0" lang="uk-UA" sz="29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АКАДЕМІЧНА   ГРАМОТНІСТ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вміння ефективно формулювати і представляти власні думки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створення презентаці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ефективне читання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академічне письмо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ведення дискусій та публічних виступі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АКАДЕМІЧНЕ  ПИСЬМО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132000" y="3428640"/>
            <a:ext cx="18511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Ес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Доповід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Зві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Анотаці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Рефера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003640" y="3573360"/>
            <a:ext cx="36799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Курсова робо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Бакалаврська робот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Магістерська робот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Дисертаці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Авторефера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Стаття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58560" y="1557000"/>
            <a:ext cx="74581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84760" indent="-228960" algn="ctr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це мовна компетенція з удосконалення навиків формулювання та обґрунтування власних ідей,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760" indent="-228960" algn="ctr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написання академічних текстів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БІБЛІОГРАФІЧНІ  ПОСИЛА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</a:rPr>
              <a:t>Бібліографічне посилання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 - бібліографічні відомості про цитований, розглядуваний або згадуваний у тексті документ на інший документ, що є необхідними й достатніми для його загальної характеристики, ідентифікування та пошук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</a:rPr>
              <a:t>Цитата</a:t>
            </a: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  -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стислий уривок з літературного, наукового чи будь-якого іншого твору, який використовується з обов`язковим посиланням на його автора і джерело цитування іншою особо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ПРАВИЛА  ЦИТУВА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Думка автора наводиться дослівно </a:t>
            </a:r>
            <a:r>
              <a:rPr b="1" lang="ru-RU" sz="19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її слід взяти в лапк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цитується великий уривок тексту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i="1" lang="ru-RU" sz="1600" spc="-1" strike="noStrike">
                <a:solidFill>
                  <a:srgbClr val="003399"/>
                </a:solidFill>
                <a:latin typeface="Times New Roman"/>
              </a:rPr>
              <a:t>може не братися в лапки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)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виділяється від решти тексту певним способом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i="1" lang="ru-RU" sz="1600" spc="-1" strike="noStrike">
                <a:solidFill>
                  <a:srgbClr val="003399"/>
                </a:solidFill>
                <a:latin typeface="Times New Roman"/>
              </a:rPr>
              <a:t>набирається іншим кеглем, шрифтом, накресленням, відбивається від основного тексту більшими абзацними відступами тощо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допускається скорочення цитати, яке не веде до викривлення думки автора. Місце скорочення має бути відзначене в цитаті квадратними дужками з трикрапкою всередині </a:t>
            </a:r>
            <a:r>
              <a:rPr b="0" lang="en-US" sz="1900" spc="-1" strike="noStrike">
                <a:solidFill>
                  <a:srgbClr val="003399"/>
                </a:solidFill>
                <a:latin typeface="Times New Roman"/>
              </a:rPr>
              <a:t>[…]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допускається перефразування цитати, зміна словоформ чи відмінків певних слів </a:t>
            </a:r>
            <a:r>
              <a:rPr b="1" lang="ru-RU" sz="19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цитата в лапки не береться, але в квадратних дужках обов'язково ставиться посилання на джерело </a:t>
            </a: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i="1" lang="ru-RU" sz="1400" spc="-1" strike="noStrike">
                <a:solidFill>
                  <a:srgbClr val="003399"/>
                </a:solidFill>
                <a:latin typeface="Times New Roman"/>
              </a:rPr>
              <a:t>його порядковий номер зі списку використаної літератури, який додається до роботи</a:t>
            </a: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в списку використаної літератури завжди слід вказувати навіть ті джерела, які використовувалися під час підготовки роботи і вивчення теми, навіть якщо прямих посилань чи цитувань цих джерел в роботі нема</a:t>
            </a:r>
            <a:r>
              <a:rPr b="0" lang="uk-UA" sz="1900" spc="-1" strike="noStrike">
                <a:solidFill>
                  <a:srgbClr val="003399"/>
                </a:solidFill>
                <a:latin typeface="Times New Roman"/>
              </a:rPr>
              <a:t>є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БІБЛІОГРАФІЧНИЙ  ОПИС використаних джере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58920" y="1827360"/>
            <a:ext cx="742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ДСТУ 7.1:2006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«Бібліографічний запис. Бібліографічний опис. Загальні вимоги та правила складання»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ДСТУ 7.80:2007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«Бібліографічний запис. Заголовок. Загальні вимоги та правила складання»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ДСТУ 8302:2015</a:t>
            </a: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«Інформація та документація. Бібліографічне посилання. Загальні положення та правила складання»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МІЖНАРОДНІ  СТИЛІ  ЦИТУВАНН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LA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стосується гуманітарних наук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. APA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суспільних наук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3.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hicago/Turabian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гуманітарних нау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4.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Harvard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гуманітарних і суспільних нау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5.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S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хімії та інших природничих наук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6. AIP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фізики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7. IEEE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інженерії, електроніки, телекомунікацій,      інформатики та інформаційних технологій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8. Vancouver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медицини та фізичних наук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9. OSCOLA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юриспруденції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0. APS 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фізики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11. Springer Math Phys Style – математики, фізики,  статистики та ін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ІНСТРУМЕНТИ  ЦИТУВА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4581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6666"/>
                </a:solidFill>
                <a:latin typeface="Times New Roman"/>
              </a:rPr>
              <a:t>БІБЛІОГРАФІЧНІ  МЕНЕДЖЕРИ</a:t>
            </a:r>
            <a:r>
              <a:rPr b="1" lang="uk-UA" sz="2100" spc="-1" strike="noStrike">
                <a:solidFill>
                  <a:srgbClr val="003399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3399"/>
                </a:solidFill>
                <a:latin typeface="Times New Roman"/>
              </a:rPr>
              <a:t>це програмне забезпечення, яке створено для зберігання бібліографічних даних, повних текстів, оформлення посилань та списків літератур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6666"/>
                </a:solidFill>
                <a:latin typeface="Times New Roman"/>
              </a:rPr>
              <a:t>Переваги бібліографічних менеджерів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3600" indent="-27468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99"/>
                </a:solidFill>
                <a:latin typeface="Verdana"/>
              </a:rPr>
              <a:t>адаптованість під різні потреби наукових дисциплін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63600" indent="-27468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99"/>
                </a:solidFill>
                <a:latin typeface="Verdana"/>
              </a:rPr>
              <a:t>інтеграція з базами даних наукової періодик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63600" indent="-27468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99"/>
                </a:solidFill>
                <a:latin typeface="Verdana"/>
              </a:rPr>
              <a:t>багатофункціональність: пошук, збереження, систематизація, пошук всередині колекцій, цитування, спільна робот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ФУНДАМЕНТАЛЬНІ  ЦІННОСТІ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03280" y="2060640"/>
            <a:ext cx="3745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чесність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довір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справедливість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поваг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відповідальні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мужні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Rectangle 7" descr=""/>
          <p:cNvPicPr/>
          <p:nvPr/>
        </p:nvPicPr>
        <p:blipFill>
          <a:blip r:embed="rId7"/>
          <a:stretch/>
        </p:blipFill>
        <p:spPr>
          <a:xfrm>
            <a:off x="1116000" y="1773360"/>
            <a:ext cx="3456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БІБЛІОГРАФІЧНІ  МЕНЕДЖЕР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8064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6666"/>
                </a:solidFill>
                <a:latin typeface="Times New Roman"/>
              </a:rPr>
              <a:t>Найбільш відомі бібліографічні менеджери</a:t>
            </a:r>
            <a:r>
              <a:rPr b="1" lang="uk-UA" sz="1400" spc="-1" strike="noStrike">
                <a:solidFill>
                  <a:srgbClr val="0066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EndNote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</a:rPr>
              <a:t>– платна система управління бібліографічною інформацією, що застосовується для управління посиланнями і бібліографією та дозволяє форматувати їх згідно з численними стандартами цитуванн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Zotero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– безкоштовна програма з відкритим програмним кодом для роботи з посиланнями, який  працює як розширення до браузера. Особливість - автоматичне збереження разом з бібліографією повного тексту стат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Mendeley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</a:rPr>
              <a:t> – безкоштовне програмне забезпечення, що використовується для управління, спільного використання, коментування та цитування наукових документів, яке дозволяє зберігати та переглядати дослідницькі праці у форматі 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PDF, а також соціальна мережа для вчени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Grafiati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– безкоштовний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сервіс автоматизованого оформлення посилань і створення списків використаних джерел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за українськими та міжнародними стандартами: ДСТУ 8302:2015, ДСТУ ГОСТ 7.1:2006 (ВАК)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APA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MLA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hicago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 та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arvard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ONAFT4Ref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 – сервіс для автоматизованого оформлення бібліографічних посилань згідно з ДСТУ 8302:2015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БІБЛІОГРАФІЧНІ  МЕНЕДЖЕР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42560" y="1483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BibMe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безкоштовний генератор цитувань, що дозволяє створювати списки за 4-ма стилями: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ML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AP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Chicago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Turabian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CiteFast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 це безкоштовний генератор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цитат у стилях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AP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ML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та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Chicago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CiteMaker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 автоматично генерує цитати в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ML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AP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Harvard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та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Oxford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стилях для вебсайті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Citation Machine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 генератор посилань у стилях APA, MLA, Chicago. Платформа пропонує посібник з правильного цитуванн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Citethisforme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 безкоштовний генератор посилань, дозволяє працювати з багатьма стиля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ResearchoMatic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програма для цитування джерел у всіх основних стилях цитування, включаючи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IEEE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ML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AP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Chicago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MyBib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безкоштовний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генератор посилань в стилях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AP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ML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Chicago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Harvard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ОНЛАЙНОВІ  ТРАНСЛІТЕРАТОР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http://www.slovnyk.ua/services/translit.php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 (Стандартна українська транслітерація – на порталі “Словник-UA”) 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http://litopys.org.ua/links/intrans.htm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 (Транслітератор на порталі “Ізборник”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http://translit.net/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 (транслітерація кириличних текстів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СПИСОК ВИКОРИСТАНИХ ДЖЕРЕ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1700280"/>
            <a:ext cx="7705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ademic integrity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. Р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лізація проекту з Академічної доброчесності в американських бібліотеках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зентаці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/ підгот. О. В. Охріменко ; Наук. б-ка Маріупол. держ. ун-т. – 16 сл. – Режим доступу : 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s://www.slideshare.net/NB_MDU/academic-integrity-9806516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2. Академічна чесність як основа сталого розвитку цніверситету / Міжнар. Фонд. дослідж. освіт. політики” ; за заг. ред. Т. В. Фінікова, А. Є. Артюхова. – Київ : Таксон, 2016. – 234 с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 Академічне письмо : навч. посібник / уклад. С. К. Ревуцька, В. М. Зінченко.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Кривий Ріг, 2019.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30 с.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4. Генератори посилань. – Режим доступу : 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https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library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sumdu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8"/>
              </a:rPr>
              <a:t>edu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9"/>
              </a:rPr>
              <a:t>.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10"/>
              </a:rPr>
              <a:t>ua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12"/>
              </a:rPr>
              <a:t>uk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14"/>
              </a:rPr>
              <a:t>doslidnyku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15"/>
              </a:rPr>
              <a:t>/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16"/>
              </a:rPr>
              <a:t>akademichne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17"/>
              </a:rPr>
              <a:t>-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18"/>
              </a:rPr>
              <a:t>pismo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19"/>
              </a:rPr>
              <a:t>/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20"/>
              </a:rPr>
              <a:t>tsytuvannia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21"/>
              </a:rPr>
              <a:t>-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22"/>
              </a:rPr>
              <a:t>ta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23"/>
              </a:rPr>
              <a:t>-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24"/>
              </a:rPr>
              <a:t>posylannia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26"/>
              </a:rPr>
              <a:t>heneratory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27"/>
              </a:rPr>
              <a:t>-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28"/>
              </a:rPr>
              <a:t>posylan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29"/>
              </a:rPr>
              <a:t>.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30"/>
              </a:rPr>
              <a:t>html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Назва з екрана)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иценко В. И. Фундаментальные проблемы е-обучения / В. И. Гриценко.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Киев : Академпериодика, 2008.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38 с.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6. Закон України «Про авторське право і суміжні права». – Режим доступу : https://zakon.rada.gov.ua/laws/show/3792-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7. Закон України «Про вищу освіту». – Режим доступу : https://zakon.rada.gov.ua/laws/show/1556-1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8. Закон України «Про освіту». – Режим доступу : https://zakon.rada.gov.ua/laws/show/2145-1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9. Ініціатива академічної доброчесності та якості освіт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ademic Integrity and Quality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. – Режим доступу : https://americancouncils.org.ua/prijom-zajavok-dlja-uchasti-v-proiekti-iniciativa-akademichnoi-dobrochesnosti-ta-jakosti-osviti-academic-iq/. (Назва з екран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0. Інструменти цитування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– Режим доступу : http://academy.gov.ua/pages/dop/174/files/feb0ec36-a759-426f-855f-1a2d9cb3de68.pdf. (Назва з екран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СПИСОК ВИКОРИСТАНИХ ДЖЕРЕ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0160" y="1773360"/>
            <a:ext cx="75945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1.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Курбатов С. Етичні принципи в академічній діяльності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зентаці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/ С. Курбатов ; Ін-т вищої освіти НАПН України. – 9 сл. – Режим доступу : https://www.univer.kharkov.ua/images/redactor/news/2016-09-07/Kurbatov.pd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2.Перевірка на плагіат. – Режим доступу : http://library.kubg.edu.ua/poslygy-ta-servis/dostup-do-internet.html. (Назва з екран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3.Робота з референс менеджерами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. – Режим доступу : http://lib.vntu.edu.ua/pages/495.html. (Назва з екран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4.Універсальний навчальний посібник з академічної доброчесності для вчителів / уклад. О. С. Ройбу ; за заг. ред. О. О. Гужви ; ХНУ ім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. Н. Каразіна. – Вид. 2-ге, випр. та доп. – Харків : ХНУ, 2017. – 32 с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5.Університети — учасники проекту SAIUP. – Режим доступу : https://saiup.org.ua/universiteti-uchasniki/. (Назва з екран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ундаментальні цінності академічної доброчесності : пер. з англ. / Міжнар. центр акад. доброчесності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а ред. Т. Фішман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– Вид. 2-ге. – Клемсон,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999. – 36 с. – Режим доступу 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s://www.academicintegrity.org/wp-content/uploads/2019/04/Fundamental_Values_version_in_Ukrainian.pdf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7.Чуканова С. Академічна доброчесність у процесі виконання наукових досліджень : презентація. – Режим доступу : http://ekmair.ukma.edu.ua/bitstream/handle/123456789/10936/Chukanova_Akademichna_dobrochesnist.pdf?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8.Шулікін Д. Академічна доброчесність: виклики і практики // Освіта України. – 2018. – 17 верес. (№ 36). – С. 6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9.Яворська Т. М. Академічна доброчесність — запорука якісної освіти. – Режим доступу : http: //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n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onf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2017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/2017_26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26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07640" y="620280"/>
            <a:ext cx="676764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ДЯКУЮ  ЗА  УВАГУ!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Times New Roman"/>
              </a:rPr>
              <a:t>Зав. наук.-мето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6666"/>
                </a:solidFill>
                <a:latin typeface="Times New Roman"/>
              </a:rPr>
              <a:t>відділу  НБ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Times New Roman"/>
              </a:rPr>
              <a:t>ХНПУ імені Г. С. Сковород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Times New Roman"/>
              </a:rPr>
              <a:t>О. І. Романовсь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email: clio25@ukr.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4" descr="контакт"/>
          <p:cNvPicPr/>
          <p:nvPr/>
        </p:nvPicPr>
        <p:blipFill>
          <a:blip r:embed="rId1"/>
          <a:stretch/>
        </p:blipFill>
        <p:spPr>
          <a:xfrm>
            <a:off x="7380360" y="1844640"/>
            <a:ext cx="1152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ЄВРОПЕЙСЬКІ  ІНІЦІАТИВ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773360"/>
            <a:ext cx="7313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Бухарестська декларація</a:t>
            </a:r>
            <a:r>
              <a:rPr b="0" lang="uk-UA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етичних принципів вищої освіти </a:t>
            </a:r>
            <a:r>
              <a:rPr b="1" lang="uk-UA" sz="2800" spc="-1" strike="noStrike">
                <a:solidFill>
                  <a:srgbClr val="006666"/>
                </a:solidFill>
                <a:latin typeface="Times New Roman"/>
              </a:rPr>
              <a:t>(2004 р.)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 – 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визначає основні тенденції вищої освіти в європейському регіоні та основні принципи їх етичного регулювання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9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ЄВРОПЕЙСЬКІ  ІНІЦІАТИВ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ETINED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3300" spc="-1" strike="noStrike">
                <a:solidFill>
                  <a:srgbClr val="003399"/>
                </a:solidFill>
                <a:latin typeface="Verdana"/>
              </a:rPr>
              <a:t>-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загальноєвропейська платформа з питань етики, прозорості та чесності в галузі освіти</a:t>
            </a: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ETICO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300" spc="-1" strike="noStrike">
                <a:solidFill>
                  <a:srgbClr val="003399"/>
                </a:solidFill>
                <a:latin typeface="Verdana"/>
              </a:rPr>
              <a:t>-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вебресурс ЮНЕСКО, орієнтований на питання етики та корупції у сфері осві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3399"/>
                </a:solidFill>
                <a:latin typeface="Times New Roman"/>
              </a:rPr>
              <a:t>https://etico.iiep.unesco.org/en/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ОСНОВНІ  ЦІННОСТІ 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АКАДЕМІЧНОЇ  КУЛЬТУР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1773000"/>
            <a:ext cx="75297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3399"/>
                </a:solidFill>
                <a:latin typeface="Times New Roman"/>
              </a:rPr>
              <a:t>інтелектуальна свобода і соціальна відповідальність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3399"/>
                </a:solidFill>
                <a:latin typeface="Times New Roman"/>
              </a:rPr>
              <a:t>моральна відповідальність самостійних дослідників і вчених не тільки за процес дослідження (вибір теми, методи і порядність), але і за його результати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3399"/>
                </a:solidFill>
                <a:latin typeface="Times New Roman"/>
              </a:rPr>
              <a:t>прагнення окремих наукових об’єднань до співпраці у світовому масштабі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3399"/>
                </a:solidFill>
                <a:latin typeface="Times New Roman"/>
              </a:rPr>
              <a:t>право вчених вільно висловлювати свої думки про наукові та етичні аспекти дослідницьких проектів і їх результатів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3399"/>
                </a:solidFill>
                <a:latin typeface="Times New Roman"/>
              </a:rPr>
              <a:t>право також уникати участі в проєктах, які суперечать їх переконанням, цінностя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3399"/>
                </a:solidFill>
                <a:latin typeface="Times New Roman"/>
              </a:rPr>
              <a:t>самоцінність інтелектуальної роботи незалежно від термінів одержання результатів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РЕЗУЛЬТАТИ  ОПИТУВА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73137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</a:rPr>
              <a:t>Соціологічні опитування в Україні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Times New Roman"/>
              </a:rPr>
              <a:t>(2014-2016 рр.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99 %  студентів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вдавались до тих чи інших нечесних методів під час навчанн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78 % студентів складають іспити не самостійно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67 % з них вдаються до списування під час іспиту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23 % студентів вказують на випадки отримання оцінок за послуги або гроші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3300"/>
                </a:solidFill>
                <a:latin typeface="Times New Roman"/>
              </a:rPr>
              <a:t>90 % студентів вдаються до плагіат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2T08:44:17Z</dcterms:created>
  <dc:creator>user205b</dc:creator>
  <dc:description/>
  <dc:language>en-US</dc:language>
  <cp:lastModifiedBy>user205b</cp:lastModifiedBy>
  <dcterms:modified xsi:type="dcterms:W3CDTF">2021-09-14T08:42:16Z</dcterms:modified>
  <cp:revision>420</cp:revision>
  <dc:subject/>
  <dc:title>Академічна доброчесність </dc:title>
</cp:coreProperties>
</file>