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D3C-741C-4F36-9036-094CD847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90F-0038-4E7C-A016-5E794ED5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FD7-564E-4758-B843-7CAEFEF0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2BE-153D-4EF1-903D-419B8591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9CBE-B5F2-435E-AF26-E1C3C7BA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7139-7915-466F-8133-7FC8447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4CB5-1C9D-4050-B8BA-77AA80CA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89D7-B8E0-4779-8322-1A29BCD5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F4D-C271-49AD-82AE-F9013D1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40E-FAC2-4BA4-988D-A7B151BE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64D4-963E-483D-B6E0-949D55CD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7D3-A08A-4BD9-896C-5E39A20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7057-697C-491E-AC69-66AAC13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A167-7F56-4A7C-A88E-AC5C112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3D17-37EB-4B6B-8E26-93EBEAA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F6E4-DE4F-4051-A2AC-E6E85BE9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3DEC-8712-46E2-A705-6C3C01A4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C9D-8CA8-4588-BA60-95B8E39D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F41-0617-4209-AE74-D78B8FDC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C19-9D6B-46BD-BB9E-ABFE5E76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C36-8261-436E-AB0D-3BA8A687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972-6496-41BD-9C94-A54CECC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D0E-F734-41DE-B8A4-0F1604F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5C2-7B54-42D5-8B2C-B5A2245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130F-3460-4938-B112-7EF944841F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8061-9D8A-47A6-ACB1-13AEB67C4D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-academy.com.ua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Бібліографічне посилання: загальні положення та правила складання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. І. Неудачина</a:t>
            </a:r>
            <a:br>
              <a:rPr sz="4000"/>
            </a:br>
            <a:r>
              <a:rPr b="0" i="1" lang="uk-UA" sz="4000" spc="-1" strike="noStrike">
                <a:solidFill>
                  <a:srgbClr val="ffffcc"/>
                </a:solidFill>
                <a:latin typeface="Arial"/>
              </a:rPr>
              <a:t>завідувач довідково-бібліографічним відділом Наукової бібліотек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384360" cy="5689440"/>
          </a:xfrm>
          <a:prstGeom prst="rect">
            <a:avLst/>
          </a:prstGeom>
          <a:ln w="76320">
            <a:solidFill>
              <a:srgbClr val="eec85e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6560" y="333360"/>
            <a:ext cx="828216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ІДРЯДКОВЕ БІБЛІОГРАФІЧНЕ ПОСИЛА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123920"/>
            <a:ext cx="4103640" cy="155700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нак виноски подають на верхній лінії шрифту після відповідного фрагмента в тексті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3638520"/>
            <a:ext cx="1062000" cy="36828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Текст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221000"/>
            <a:ext cx="3240000" cy="119124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Times New Roman"/>
              </a:rPr>
              <a:t>Знаки виноски відокремлюють від тексту проміжком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942160"/>
            <a:ext cx="1800360" cy="36828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осилання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1197000"/>
            <a:ext cx="38880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PISA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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є унікальним проектом, який  дає можливість оцінити передусім компетентності учнів із читання, математики та природничих дисциплін, прямо не пов’язані с оволодінням шкільними програмами. Ідеться про здатність успішно навчатися й бути успішними в сучасному інноваційному суспільстві – генерувати нові ідеї, розвивати власну систему знань, застосовувати ії для вирішення актуальних, особистісно й суспільно значущих пробле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437000"/>
            <a:ext cx="2880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4581360"/>
            <a:ext cx="3816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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ISA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 Програма міжнародного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оцінювання учнів. Київ, 2016. 36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40000" y="4869000"/>
            <a:ext cx="2663640" cy="12967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76360" y="1628280"/>
            <a:ext cx="3382920" cy="23050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ІДРЯДКОВЕ БІБЛІОГРАФІЧНЕ ПОСИЛАНН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123920"/>
            <a:ext cx="3241800" cy="459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Повна форм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1123920"/>
            <a:ext cx="3240000" cy="459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Коротка форм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20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773360"/>
            <a:ext cx="3887640" cy="2392560"/>
          </a:xfrm>
          <a:prstGeom prst="rect">
            <a:avLst/>
          </a:prstGeom>
          <a:solidFill>
            <a:srgbClr val="5e855b"/>
          </a:solidFill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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Бойко С. Публічні фінанси у контексті генези та еволюції понятійно-категоріального апарату фінансової науки / С. Бойко.  Економіст. – 2015. - № 10. – С. 31—35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1773360"/>
            <a:ext cx="4033800" cy="1807200"/>
          </a:xfrm>
          <a:prstGeom prst="rect">
            <a:avLst/>
          </a:prstGeom>
          <a:solidFill>
            <a:srgbClr val="5e855b"/>
          </a:solidFill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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ойко С.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Публічні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фінанси у контексті генези та еволюції понятійно-категоріального апарату фінансової науки. Економіст. 2015. № 10. С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31—35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Document"/>
          <p:cNvSpPr/>
          <p:nvPr/>
        </p:nvSpPr>
        <p:spPr>
          <a:xfrm>
            <a:off x="395280" y="4221000"/>
            <a:ext cx="3745080" cy="2232360"/>
          </a:xfrm>
          <a:prstGeom prst="pie">
            <a:avLst/>
          </a:prstGeom>
          <a:solidFill>
            <a:srgbClr val="d8ebb3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Verdana"/>
              </a:rPr>
              <a:t>Відомості про згадува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Verdana"/>
              </a:rPr>
              <a:t>ний документ, опублі-кований іншою мовою, у бібліографічних посиланнях наводять мовою оригіналу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Document"/>
          <p:cNvSpPr/>
          <p:nvPr/>
        </p:nvSpPr>
        <p:spPr>
          <a:xfrm>
            <a:off x="4788000" y="3933720"/>
            <a:ext cx="4105080" cy="2664000"/>
          </a:xfrm>
          <a:prstGeom prst="pie">
            <a:avLst/>
          </a:prstGeom>
          <a:solidFill>
            <a:srgbClr val="d8ebb3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Verdana"/>
              </a:rPr>
              <a:t>Сучасний американський  економіст Дж. Грубер, котрий займається проблематикою публічних фінансів та публічної політики робить акцент на дослідженні публічними фінансами “ролі держави в економіці” (“</a:t>
            </a:r>
            <a:r>
              <a:rPr b="0" lang="en-US" sz="1400" spc="-1" strike="noStrike">
                <a:solidFill>
                  <a:srgbClr val="009999"/>
                </a:solidFill>
                <a:latin typeface="Verdana"/>
              </a:rPr>
              <a:t>the role of the government in the economy</a:t>
            </a:r>
            <a:r>
              <a:rPr b="0" lang="uk-UA" sz="1400" spc="-1" strike="noStrike">
                <a:solidFill>
                  <a:srgbClr val="009999"/>
                </a:solidFill>
                <a:latin typeface="Verdana"/>
              </a:rPr>
              <a:t>”) 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</a:t>
            </a: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5660640"/>
            <a:ext cx="151128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661000"/>
            <a:ext cx="172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5661000"/>
            <a:ext cx="338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 </a:t>
            </a:r>
            <a:r>
              <a:rPr b="0" lang="en-US" sz="1400" spc="-1" strike="noStrike">
                <a:solidFill>
                  <a:srgbClr val="009999"/>
                </a:solidFill>
                <a:latin typeface="Verdana"/>
              </a:rPr>
              <a:t>Gruber Y. Public Finance and Public Policy. New York. 2011. 860 p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3640" y="5850000"/>
            <a:ext cx="3529080" cy="387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ПІДРЯДКОВЕ БІБЛІОГРАФІЧНЕ ПОСИЛАННЯ НА ЕЛЕКТРОННИЙ РЕСУРС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ВІДДАЛЕНОГО ДОСТУПУ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…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за наявності в тексті бібліографічних відомостей, що його ідентифікують, дозволено зазначати тільки електронну адресу, використовуючи замість слів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РЕЖИМ ДОСТУПУ”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абревіатуру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URI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URL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риклад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eec85e"/>
                </a:solidFill>
                <a:uFillTx/>
                <a:latin typeface="Verdana"/>
              </a:rPr>
              <a:t>У тексті</a:t>
            </a:r>
            <a:r>
              <a:rPr b="1" i="1" lang="uk-UA" sz="2400" spc="-1" strike="noStrike" u="sng">
                <a:solidFill>
                  <a:srgbClr val="eec85e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У багатьох випадках слабкі банки будуть змушені залишити ринок, а банківські  системи – скоротити свої розміри. В зоні євро пріоритетним завданням є зменшення обсягу недіючих позик та нарощування капіталу у вразливих банках (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International Monetary Fund Global Financial Stability Report. October 2016.</a:t>
            </a: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eec85e"/>
                </a:solidFill>
                <a:uFillTx/>
                <a:latin typeface="Verdana"/>
              </a:rPr>
              <a:t>У підрядковому посиланні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*URL: htty//www.inf.org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ternal/index.ht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ВНУТРІШНЬОТЕКСТОВЕ БІБЛІОГРАФІЧНЕ ПОСИЛАННЯ ТА ПІДРЯДКОВЕ БІБЛІОГРАФІЧНЕ ПОСИЛАНН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 rot="10800000">
            <a:off x="899640" y="2781360"/>
            <a:ext cx="1800360" cy="792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aeaea"/>
                </a:solidFill>
                <a:latin typeface="Verdana"/>
              </a:rPr>
              <a:t>У тексті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1628640"/>
            <a:ext cx="3671640" cy="28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 точки зору  В. В. Давидова, головною ознакою  особистості слід вважати наявність у суспільного індивіда творчих можливостей. У цьому плані поняття особистості, за В. В. Давидовим, і творчої особистості збігаються у своїх головних рисах. 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514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724280"/>
            <a:ext cx="2305080" cy="79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У підрядково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силанні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4076640"/>
            <a:ext cx="2089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221000"/>
            <a:ext cx="316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</a:t>
            </a: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сихологический журнал. 1988. № 4. С. 22—24.</a:t>
            </a:r>
            <a:r>
              <a:rPr b="1" i="1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3213000"/>
            <a:ext cx="2232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4436640"/>
            <a:ext cx="237672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9236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ЗАТЕКСТОВЕ БІБЛІОГРАФІЧНЕ ПОСИЛАНН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628640"/>
            <a:ext cx="3313080" cy="4824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91628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700280"/>
            <a:ext cx="2952720" cy="4231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Позатекстове бібліографічне посилання використовують переважно у наукових виданнях у разі багаторазових посилань на одні й ті самі документи задля уникнення повторного подання однакових бібліографічних записів або через їхню велику кількість, або за браком місця для підрядков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5885640" y="99000"/>
            <a:ext cx="1152720" cy="5364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27320" y="2205000"/>
            <a:ext cx="5116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нумерують у межах</a:t>
            </a: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 усього</a:t>
            </a: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 документа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149720"/>
            <a:ext cx="5364000" cy="11509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7280" y="4292640"/>
            <a:ext cx="50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Наводять як перелік бібліографічних записів і розміщують наприкінці основного тексту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333360"/>
            <a:ext cx="856908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ОЗАТЕКСТОВЕ БІБЛІОГРАФІЧНЕ ПОСИЛАННЯ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123920"/>
            <a:ext cx="4535280" cy="3111480"/>
          </a:xfrm>
          <a:prstGeom prst="rect">
            <a:avLst/>
          </a:prstGeom>
          <a:solidFill>
            <a:srgbClr val="009999"/>
          </a:solidFill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Особливу увагу  у монографії  “Економічна глобалістика.  Світ-система глобалізму” (автор Білорус О. Г.)  Приділяє дослідженню проблем системно-структурної трансформації глобального капіталу й конвергенції та глобалізації раціональних капіталів і нового типу їх експлуатації світ-системою постіндустріального глобалізм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292000" y="3357720"/>
            <a:ext cx="3600360" cy="3199320"/>
          </a:xfrm>
          <a:prstGeom prst="rect">
            <a:avLst/>
          </a:prstGeom>
          <a:solidFill>
            <a:srgbClr val="009999"/>
          </a:solidFill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Список бібліографічних посилан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²º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Крисоватий А. І., Федосов В. М., Рязанова Н. С., Юхименко П. І. Корпоративні фінанси в контексті викликів сучасної інноваційної економіки. Фінанси України. 2013. № 9. С. 7—2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²¹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Білорус О. Г.  Економічна глобалістика. Світ-система глобалізму. Київ. 2016. 586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2060640"/>
            <a:ext cx="144720" cy="73080"/>
          </a:xfrm>
          <a:custGeom>
            <a:avLst/>
            <a:gdLst>
              <a:gd name="textAreaLeft" fmla="*/ 4680 w 144720"/>
              <a:gd name="textAreaRight" fmla="*/ 140040 w 14472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42671" h="21600">
                <a:moveTo>
                  <a:pt x="0" y="0"/>
                </a:moveTo>
                <a:lnTo>
                  <a:pt x="42671" y="0"/>
                </a:lnTo>
                <a:lnTo>
                  <a:pt x="42671" y="21600"/>
                </a:lnTo>
                <a:lnTo>
                  <a:pt x="0" y="21600"/>
                </a:lnTo>
                <a:close/>
              </a:path>
              <a:path fill="lightenLess" w="42671" h="21600">
                <a:moveTo>
                  <a:pt x="0" y="0"/>
                </a:moveTo>
                <a:lnTo>
                  <a:pt x="42671" y="0"/>
                </a:lnTo>
                <a:lnTo>
                  <a:pt x="41271" y="1400"/>
                </a:lnTo>
                <a:lnTo>
                  <a:pt x="1400" y="1400"/>
                </a:lnTo>
                <a:close/>
              </a:path>
              <a:path fill="darken" w="42671" h="21600">
                <a:moveTo>
                  <a:pt x="42671" y="0"/>
                </a:moveTo>
                <a:lnTo>
                  <a:pt x="42671" y="21600"/>
                </a:lnTo>
                <a:lnTo>
                  <a:pt x="41271" y="20200"/>
                </a:lnTo>
                <a:lnTo>
                  <a:pt x="41271" y="1400"/>
                </a:lnTo>
                <a:close/>
              </a:path>
              <a:path fill="darkenLess" w="42671" h="21600">
                <a:moveTo>
                  <a:pt x="42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71" y="20200"/>
                </a:lnTo>
                <a:close/>
              </a:path>
              <a:path fill="lighten" w="42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4508640"/>
            <a:ext cx="4105440" cy="16185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за потреби у заголовку бібліографічного запису позатекстового посилання можна зазначати більше ніж три імені авторів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1698480"/>
            <a:ext cx="576000" cy="64980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²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4365360"/>
            <a:ext cx="8632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0560" y="6629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5877000"/>
            <a:ext cx="73080" cy="73080"/>
          </a:xfrm>
          <a:prstGeom prst="wedgeEllipseCallout">
            <a:avLst>
              <a:gd name="adj1" fmla="val -43476"/>
              <a:gd name="adj2" fmla="val 69564"/>
            </a:avLst>
          </a:prstGeom>
          <a:solidFill>
            <a:srgbClr val="009999"/>
          </a:solidFill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260280"/>
            <a:ext cx="820872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981000"/>
            <a:ext cx="4824360" cy="256284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Особливу увагу  у монографії  “Економічна глобалістика.  Світ-система глобалізму”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21]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автор приділяє дослідженню проблем системно-структурної трансформації глобального капіталу й конвергенції та глобалізації раціональних капіталів і нового типу їх експлуатації світ-системою постіндустріального глобалізм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3860640"/>
            <a:ext cx="4895640" cy="256284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Список використаних джере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20. Крисоватий А. І., Федосов В. М., Рязанова Н. С., Юхименко П. І. Корпоративні фінанси в контексті викликів сучасної інноваційної економіки. Фінанси України. 2013. № 9. С. 7—2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21.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Білорус О. Г.  Економічна глобалістика. Світ-система глобалізму. Київ. 2016. 586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288800"/>
            <a:ext cx="3313080" cy="5015160"/>
          </a:xfrm>
          <a:custGeom>
            <a:avLst/>
            <a:gdLst>
              <a:gd name="textAreaLeft" fmla="*/ 161640 w 3313080"/>
              <a:gd name="textAreaRight" fmla="*/ 3151440 w 3313080"/>
              <a:gd name="textAreaTop" fmla="*/ 161640 h 5015160"/>
              <a:gd name="textAreaBottom" fmla="*/ 4853520 h 5015160"/>
            </a:gdLst>
            <a:ahLst/>
            <a:rect l="textAreaLeft" t="textAreaTop" r="textAreaRight" b="textAreaBottom"/>
            <a:pathLst>
              <a:path w="21600" h="32696">
                <a:moveTo>
                  <a:pt x="3600" y="0"/>
                </a:moveTo>
                <a:arcTo wR="3600" hR="3600" stAng="16200000" swAng="-5400000"/>
                <a:lnTo>
                  <a:pt x="0" y="29096"/>
                </a:lnTo>
                <a:arcTo wR="3600" hR="3600" stAng="10800000" swAng="-5400000"/>
                <a:lnTo>
                  <a:pt x="18000" y="3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5.4.2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Сукупність позатекстових бібліографічних посилань, оформлених як перелік бібліографічних записів, не можна вважати бібліографічним списком (списком використаної літератури) чи покажчиком, що мають самостійне значення як бібліографічні посібники. </a:t>
            </a:r>
            <a:r>
              <a:rPr b="0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роте текст документа можна пов’язувати знаками виноски з бібліографічним списком використаної літератур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964440"/>
            <a:ext cx="396072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Якщо  в тексті згадують конкретну частину тексту документ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88920"/>
            <a:ext cx="3960720" cy="389916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Суспільний продукт через один із фондів (споживання) в певній сумі матеріальних благ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спрямовувався на “утримування  закладів і організацій невиробничої сфери”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2, с. 74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.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етодические указания к разработке государственных планов экономического и социального развития СССР. Москва. 1980. 776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 с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66920" y="2276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992880"/>
            <a:ext cx="424980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на документ, авторами якого є одна, дві чи три особ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03640" y="2901240"/>
            <a:ext cx="3889440" cy="3593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Автор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Опарін В. М., Федосов В. М., Юхименко П. І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зробили вагомий внесок у розвиток вітчизняної науки про державні фінанс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Опарін В. М., Федосов В. М., Юхименко П. І. Українська класична школа публічних фінансів. Фінанси України. 2015. № 10. С. 7—31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260280"/>
            <a:ext cx="84978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000800"/>
            <a:ext cx="450072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в тексті подають на документ, авторами якого є чотири та більш осіб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2538720"/>
            <a:ext cx="3962160" cy="4074120"/>
          </a:xfrm>
          <a:custGeom>
            <a:avLst/>
            <a:gdLst>
              <a:gd name="textAreaLeft" fmla="*/ 193320 w 3962160"/>
              <a:gd name="textAreaRight" fmla="*/ 3768840 w 3962160"/>
              <a:gd name="textAreaTop" fmla="*/ 193320 h 4074120"/>
              <a:gd name="textAreaBottom" fmla="*/ 3880800 h 4074120"/>
            </a:gdLst>
            <a:ahLst/>
            <a:rect l="textAreaLeft" t="textAreaTop" r="textAreaRight" b="textAreaBottom"/>
            <a:pathLst>
              <a:path w="21600" h="22210">
                <a:moveTo>
                  <a:pt x="3600" y="0"/>
                </a:moveTo>
                <a:arcTo wR="3600" hR="3600" stAng="16200000" swAng="-5400000"/>
                <a:lnTo>
                  <a:pt x="0" y="18610"/>
                </a:lnTo>
                <a:arcTo wR="3600" hR="3600" stAng="10800000" swAng="-5400000"/>
                <a:lnTo>
                  <a:pt x="18000" y="22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Фінансова наука поки ще не розглядала детально фінанси макроекономіки , проте частково окремі питання вже досліджені та висвітлені в працях, присвячених корпоративним фінансам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Корпоративні фінанси в контексті викликів сучасної інноваційної економіки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Корпоративні фінанси в контексті викликів сучасної інноваційної економіки. / Крисоватий А. І. та ін. Фінанси</a:t>
            </a:r>
            <a:r>
              <a:rPr b="1" lang="uk-UA" sz="1400" spc="-1" strike="noStrike">
                <a:solidFill>
                  <a:srgbClr val="eaeaea"/>
                </a:solidFill>
                <a:latin typeface="Arial"/>
              </a:rPr>
              <a:t> України. 2013. № 9. С. 7—27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6920" y="220500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9440" y="1000800"/>
            <a:ext cx="435456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на таку саму книгу того самого автора, але видану в іншому році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2453040"/>
            <a:ext cx="3845160" cy="4150440"/>
          </a:xfrm>
          <a:custGeom>
            <a:avLst/>
            <a:gdLst>
              <a:gd name="textAreaLeft" fmla="*/ 187560 w 3845160"/>
              <a:gd name="textAreaRight" fmla="*/ 3657600 w 3845160"/>
              <a:gd name="textAreaTop" fmla="*/ 187560 h 4150440"/>
              <a:gd name="textAreaBottom" fmla="*/ 3962880 h 4150440"/>
            </a:gdLst>
            <a:ahLst/>
            <a:rect l="textAreaLeft" t="textAreaTop" r="textAreaRight" b="textAreaBottom"/>
            <a:pathLst>
              <a:path w="21600" h="23315">
                <a:moveTo>
                  <a:pt x="3600" y="0"/>
                </a:moveTo>
                <a:arcTo wR="3600" hR="3600" stAng="16200000" swAng="-5400000"/>
                <a:lnTo>
                  <a:pt x="0" y="19715"/>
                </a:lnTo>
                <a:arcTo wR="3600" hR="3600" stAng="10800000" swAng="-5400000"/>
                <a:lnTo>
                  <a:pt x="18000" y="2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В основу типології задач і завдань з літератури В. Паламарчук вкладає  мислительний компонент, “прийом розумової діяльності”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Паламарчук. 1973, с. 42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 ї розрізняє при цьому завдання на порівняння, виділення  головного, встановлення  причинно-наслідкових зв’язків між подіями у творі тощ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Паламарчук. 1999, с. 5—6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5963400"/>
            <a:ext cx="3027240" cy="609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Паламарчук. 1973, с. 42.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Паламарчук. 1999, с. 5—6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213372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353440" cy="64764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ЗАТЕКСТОВЕ БІБЛІОГРАФІЧНЕ ПОСИЛАНН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91240"/>
            <a:ext cx="406728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У посиланні в тексті дозволено скорочувати довгі назви документі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680" y="3019320"/>
            <a:ext cx="3925800" cy="34131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[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Розвиток інтелекту та пізнавальної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…, с. 6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Розвиток інтелекту та пізнавальної активності учнів на уроках хімії / уклад. К. М. Задорожний. Харків:  Основ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2008. 143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1144440"/>
            <a:ext cx="4573440" cy="150948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Якщо об’єктом позатекстового бібліографічного посилання є багаточастинний докумен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63960" y="3324240"/>
            <a:ext cx="4037040" cy="28400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Макаренко, т. 2, с. 453—458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Макаренко А. С.   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Вибрані твори. Київ : Держлітвидав, 1950. Т. 2 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701 с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2781360"/>
            <a:ext cx="144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ДСТУ 8302:2015 ІНФОРМАЦІЯ ТА ДОКУМЕНТАЦІЯ. БІБЛІОГРАФІЧНЕ ПОСИЛАНН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Введено вперш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Набув чинності з 1 липня 2016 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Розробники: Державна наукова установа “Книжкова палата України імені Івана Федорова” (Н. Петрова, Г. Плиса, Т. Жигу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8228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620640"/>
            <a:ext cx="849780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Arial"/>
              </a:rPr>
              <a:t>ПОВТОРНЕ БІБЛІОГРАФІЧНЕ ПОСИЛАННЯ</a:t>
            </a:r>
            <a:r>
              <a:rPr b="1" lang="en-US" sz="1800" spc="-1" strike="noStrike">
                <a:solidFill>
                  <a:srgbClr val="eec85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50920" y="2060640"/>
            <a:ext cx="8641440" cy="3599280"/>
            <a:chOff x="250920" y="2060640"/>
            <a:chExt cx="8641440" cy="3599280"/>
          </a:xfrm>
        </p:grpSpPr>
        <p:cxnSp>
          <p:nvCxnSpPr>
            <p:cNvPr id="234" name="_s328719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723280" y="2347200"/>
              <a:ext cx="720360" cy="3025080"/>
            </a:xfrm>
            <a:prstGeom prst="bentConnector3">
              <a:avLst>
                <a:gd name="adj1" fmla="val 2055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37" name="_s328718"/>
            <p:cNvCxnSpPr>
              <a:stCxn id="238" idx="0"/>
              <a:endCxn id="236" idx="2"/>
            </p:cNvCxnSpPr>
            <p:nvPr/>
          </p:nvCxnSpPr>
          <p:spPr>
            <a:xfrm flipV="1">
              <a:off x="4571280" y="3499560"/>
              <a:ext cx="3960" cy="720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39" name="_s328717"/>
            <p:cNvCxnSpPr>
              <a:stCxn id="240" idx="0"/>
              <a:endCxn id="236" idx="2"/>
            </p:cNvCxnSpPr>
            <p:nvPr/>
          </p:nvCxnSpPr>
          <p:spPr>
            <a:xfrm flipH="1" flipV="1" rot="5400000">
              <a:off x="2698920" y="2347200"/>
              <a:ext cx="720360" cy="3025080"/>
            </a:xfrm>
            <a:prstGeom prst="bentConnector3">
              <a:avLst>
                <a:gd name="adj1" fmla="val 2055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36" name="_s328713"/>
            <p:cNvSpPr/>
            <p:nvPr/>
          </p:nvSpPr>
          <p:spPr>
            <a:xfrm>
              <a:off x="3275280" y="206064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900" spc="-1" strike="noStrike">
                  <a:solidFill>
                    <a:srgbClr val="eec85e"/>
                  </a:solidFill>
                  <a:latin typeface="Arial"/>
                </a:rPr>
                <a:t>Повторне бібліогра-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900" spc="-1" strike="noStrike">
                  <a:solidFill>
                    <a:srgbClr val="eec85e"/>
                  </a:solidFill>
                  <a:latin typeface="Arial"/>
                </a:rPr>
                <a:t>фічне посилання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_s328714"/>
            <p:cNvSpPr/>
            <p:nvPr/>
          </p:nvSpPr>
          <p:spPr>
            <a:xfrm>
              <a:off x="25092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внутрішньотекстове</a:t>
              </a: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_s328715"/>
            <p:cNvSpPr/>
            <p:nvPr/>
          </p:nvSpPr>
          <p:spPr>
            <a:xfrm>
              <a:off x="327528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підрядкове 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_s328716"/>
            <p:cNvSpPr/>
            <p:nvPr/>
          </p:nvSpPr>
          <p:spPr>
            <a:xfrm>
              <a:off x="630000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позатекстове 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260280"/>
            <a:ext cx="828036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052640"/>
            <a:ext cx="4824360" cy="39888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Внутрішньотекстове посилання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2080" y="2228040"/>
            <a:ext cx="167004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и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1728360"/>
            <a:ext cx="5976720" cy="4667760"/>
          </a:xfrm>
          <a:prstGeom prst="rect">
            <a:avLst/>
          </a:prstGeom>
          <a:solidFill>
            <a:srgbClr val="eaeaea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Особливість фінансового рахівництва макроекономіки полягає в тому, що його діяльність спрямована на розкриття саме макроекономічних фінансових відносин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Рязанова Н. С., Федосов В. М. Фінансове рахівництво як інформаційно-інфраструктурна підсистема сучасної мікроекономіки. Фінанси України. 2016. № 10. С. 39—64.).</a:t>
            </a: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Ця вихідна характерна ознака притаманна фінансовому рахівництву мікроекономіки й загальному інституту фінансового рахівництва та детально розглядалася в попередніх працях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Рязанова Н. С. Фінансове рахівництво як інформаційно-інфраструктурна підсистема сучасної мікроекономіки. С. 52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2637000"/>
            <a:ext cx="187344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541040"/>
            <a:ext cx="15922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8920" y="5013360"/>
            <a:ext cx="165564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260280"/>
            <a:ext cx="6121440" cy="3682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4520" y="1718280"/>
            <a:ext cx="19234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332960"/>
            <a:ext cx="223200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27360" y="1878120"/>
            <a:ext cx="5259600" cy="46638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Arial"/>
              </a:rPr>
              <a:t>Особливість фінансового рахівництва макроекономіки полягає в тому, що його діяльність спрямована на розкриття саме макроекономічних фінансових відносин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Рязанова Н. С., Федосов В. М. Фінансове рахівництво як інформаційно-інфраструктурна підсистема сучасної мікроекономіки. Фінанси України. 2016. № 10. С. 39—64.). </a:t>
            </a:r>
            <a:r>
              <a:rPr b="0" lang="uk-UA" sz="1800" spc="-1" strike="noStrike">
                <a:solidFill>
                  <a:srgbClr val="006666"/>
                </a:solidFill>
                <a:latin typeface="Arial"/>
              </a:rPr>
              <a:t>Ця вихідна характерна ознака притаманна фінансовому рахівництву мікроекономіки й загальному інституту фінансового рахівництва та детально розглядалася в попередніх працях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Там само. С. 52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836640"/>
            <a:ext cx="4752720" cy="36828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Внутрішньотекст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2349360"/>
            <a:ext cx="230364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4869000"/>
            <a:ext cx="230364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4000" y="260280"/>
            <a:ext cx="842472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052640"/>
            <a:ext cx="352908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Підрядк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2262600"/>
            <a:ext cx="201600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4526640"/>
            <a:ext cx="209232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1120680"/>
            <a:ext cx="4016520" cy="5173920"/>
          </a:xfrm>
          <a:custGeom>
            <a:avLst/>
            <a:gdLst>
              <a:gd name="textAreaLeft" fmla="*/ 195840 w 4016520"/>
              <a:gd name="textAreaRight" fmla="*/ 3820680 w 4016520"/>
              <a:gd name="textAreaTop" fmla="*/ 195840 h 5173920"/>
              <a:gd name="textAreaBottom" fmla="*/ 4978080 h 5173920"/>
            </a:gdLst>
            <a:ahLst/>
            <a:rect l="textAreaLeft" t="textAreaTop" r="textAreaRight" b="textAreaBottom"/>
            <a:pathLst>
              <a:path w="21600" h="27824">
                <a:moveTo>
                  <a:pt x="3600" y="0"/>
                </a:moveTo>
                <a:arcTo wR="3600" hR="3600" stAng="16200000" swAng="-5400000"/>
                <a:lnTo>
                  <a:pt x="0" y="24224"/>
                </a:lnTo>
                <a:arcTo wR="3600" hR="3600" stAng="10800000" swAng="-5400000"/>
                <a:lnTo>
                  <a:pt x="18000" y="27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9966"/>
                </a:solidFill>
                <a:latin typeface="Arial"/>
              </a:rPr>
              <a:t>Великий внесок у розвиток нових суспільних знань і творчих ідей у взаємодію між Людиною і Природою зробив наш визначний вчений-енциклопедист В. І. Вернадський  у відомій роботи “Наукова думка як планетарне явище ”.</a:t>
            </a:r>
            <a:r>
              <a:rPr b="0" lang="uk-UA" sz="1600" spc="-1" strike="noStrike">
                <a:solidFill>
                  <a:srgbClr val="5e855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uk-UA" sz="16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  <a:ea typeface="Arial"/>
              </a:rPr>
              <a:t>Його наукові  труди стали своєрідним вододілом між застарілими  поглядами людства на Природу і місце Людини в ній за новим мисленням ХХ століття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¹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  <a:ea typeface="Arial"/>
              </a:rPr>
              <a:t>Вернадский В. И. Научная мысль как планетное явление. Москва, 1991. 359 с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Вернадский В. И. Научная мысль как планетное явление. С. 133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4653000"/>
            <a:ext cx="230508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66920" y="2349360"/>
            <a:ext cx="2664000" cy="23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4724280"/>
            <a:ext cx="2232000" cy="79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260280"/>
            <a:ext cx="842472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1052640"/>
            <a:ext cx="352908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Підрядк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1160" y="2377080"/>
            <a:ext cx="19234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6880" y="4167720"/>
            <a:ext cx="20872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98840" y="1090080"/>
            <a:ext cx="4229280" cy="5194800"/>
          </a:xfrm>
          <a:custGeom>
            <a:avLst/>
            <a:gdLst>
              <a:gd name="textAreaLeft" fmla="*/ 206280 w 4229280"/>
              <a:gd name="textAreaRight" fmla="*/ 4023000 w 4229280"/>
              <a:gd name="textAreaTop" fmla="*/ 206280 h 5194800"/>
              <a:gd name="textAreaBottom" fmla="*/ 4988520 h 5194800"/>
            </a:gdLst>
            <a:ahLst/>
            <a:rect l="textAreaLeft" t="textAreaTop" r="textAreaRight" b="textAreaBottom"/>
            <a:pathLst>
              <a:path w="21600" h="26531">
                <a:moveTo>
                  <a:pt x="3600" y="0"/>
                </a:moveTo>
                <a:arcTo wR="3600" hR="3600" stAng="16200000" swAng="-5400000"/>
                <a:lnTo>
                  <a:pt x="0" y="22931"/>
                </a:lnTo>
                <a:arcTo wR="3600" hR="3600" stAng="10800000" swAng="-5400000"/>
                <a:lnTo>
                  <a:pt x="18000" y="265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В 1921 р. на Шведській Могилі (передмістя Полтави) діяв реформаторій  - заклад в’язничого  типу для короткотермінової ізоляції неповнолітніх злочинців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uk-UA" sz="2000" spc="-1" strike="noStrike">
                <a:solidFill>
                  <a:srgbClr val="5e855b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Насамперед його існування пояснювалося необхідністю  роздільного ув’язнення  дорослих і неповнолітніх злочинці. На початку 1922 р. цей заклад довелося через брак коштів на його утримання ліквідувати, а контингент ув’язнених з нього перевели до Києва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5 лет работы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  <a:ea typeface="Arial"/>
              </a:rPr>
              <a:t> с детьми-правонарушителями. Полтава, 1925. с. 26—2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  <a:ea typeface="Arial"/>
              </a:rPr>
              <a:t>Там сам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4724280"/>
            <a:ext cx="1871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4437000"/>
            <a:ext cx="180036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2708280"/>
            <a:ext cx="2158920" cy="216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260280"/>
            <a:ext cx="835344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1440" y="1141920"/>
            <a:ext cx="205236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72360"/>
            <a:ext cx="219564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59160" y="956160"/>
            <a:ext cx="5562720" cy="2397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9966"/>
                </a:solidFill>
                <a:latin typeface="Arial"/>
              </a:rPr>
              <a:t>Список бібліографічн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³º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  <a:ea typeface="Arial"/>
              </a:rPr>
              <a:t>Паламарчук В. Ф. Пізнавальні задачі у викладанні літератури. Українська мова і література в школі. 1973. № 6. С. 42—43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³¹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</a:rPr>
              <a:t>Лещенко, Г.    Система ситуативних завдань до уроків розвитку зв'язного мовлення.</a:t>
            </a:r>
            <a:r>
              <a:rPr b="1" lang="ru-RU" sz="16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Так само. С. 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50920" y="1341360"/>
            <a:ext cx="15112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0" y="4126320"/>
            <a:ext cx="212112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175720"/>
            <a:ext cx="212400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00560" y="3964680"/>
            <a:ext cx="5292720" cy="1858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9966"/>
                </a:solidFill>
                <a:latin typeface="Arial"/>
              </a:rPr>
              <a:t>Список бібліографічн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º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Педагогика</a:t>
            </a:r>
            <a:r>
              <a:rPr b="0" lang="uk-UA" sz="1800" spc="-1" strike="noStrike">
                <a:solidFill>
                  <a:srgbClr val="339966"/>
                </a:solidFill>
                <a:latin typeface="Arial"/>
              </a:rPr>
              <a:t> /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В. А. Сластенин, И. Ф. Исаев, А. И. Мищенко, Е. Н. Шиянов. Москва, 2002. 512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Педагогика</a:t>
            </a: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. 2002. С. 271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05000"/>
            <a:ext cx="136836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24000" y="4365720"/>
            <a:ext cx="15130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5445000"/>
            <a:ext cx="158436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260280"/>
            <a:ext cx="835344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260280"/>
            <a:ext cx="8280360" cy="642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ОСОБЛИВОСТІ СКЛАДАННЯ КОМПЛЕКСНОГО БІБЛІОГРАФІЧНОГО ПОСИЛ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293480"/>
            <a:ext cx="9145440" cy="116964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Кілька об’єктів посилання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i="1" lang="uk-UA" sz="2400" spc="-1" strike="noStrike">
                <a:solidFill>
                  <a:srgbClr val="ffffcc"/>
                </a:solidFill>
                <a:latin typeface="Arial"/>
              </a:rPr>
              <a:t>комплексне бібліографічне посилання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00960"/>
            <a:ext cx="9144000" cy="138636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Можуть бути: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внутрішньотекстовими, підрядковими,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озатекстовими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а також можуть містити</a:t>
            </a:r>
            <a:r>
              <a:rPr b="0" i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ервинні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та</a:t>
            </a:r>
            <a:r>
              <a:rPr b="0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овторні</a:t>
            </a:r>
            <a:r>
              <a:rPr b="1" i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посиланн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4886280"/>
            <a:ext cx="8642160" cy="99684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Розділяють між собою знаком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«крапка з комою»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66560" y="260280"/>
            <a:ext cx="8353440" cy="39888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КОМПЛЕКС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213560"/>
            <a:ext cx="8352000" cy="1299240"/>
          </a:xfrm>
          <a:prstGeom prst="flowChartTerminator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Ідентичні заголовки (один і той самий автор кількох праць) : «Його ж», «її ж», «їх же» («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Его же», «Ее же», «Их же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» — рос. мовою або «Idem», «Eadem», «Ibidem» — латин. мовою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3580920"/>
            <a:ext cx="2808360" cy="129636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ідрядкове комплексне посилання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82160"/>
            <a:ext cx="4471920" cy="34765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Психолого-педагогічна підготовка в університеті здійснюється на основі принципів та положень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які втілюються у навчальних програмах та навчальному процесі комплексу дисциплін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Козаков В. А. Психологія діяльності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та навчальний менеджмент. Київ, 1999. С. 7—12.; Його ж: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  <a:ea typeface="Arial"/>
              </a:rPr>
              <a:t>Самостоятельная работа студентов и ее информационно-методическое обеспечение. Киев, 1990. С. 4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465300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4221000"/>
            <a:ext cx="151308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4000" y="260280"/>
            <a:ext cx="820872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КОМПЛЕКСНЕ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853200"/>
            <a:ext cx="8569080" cy="1299240"/>
          </a:xfrm>
          <a:prstGeom prst="flowChartTerminator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Ідентичні заголовки можна не наводити. В першому посиланні ставлять знак «двокрапка», а перед основною назвою проставляють його порядковий номер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60960"/>
            <a:ext cx="4429080" cy="3879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Манків Г. Н. Макроекономіка. Київ, 2000. 588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Рязанова Н. С.: 1)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Інститут  фінансового  еккаунтингу (рахівництва) в архітектурі фінансово-економічних інститутів інформаційного суспільства   Проблеми економіки. 2015. № 2. С. 226—239 ; 2) Фінансове рахівництво. Київ, 2002. С. 16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Стиглиц Дж.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рутое пике: Америка и новый экономический порядок после глобального кризиса. Москва, 2011. 512 с.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3684240"/>
            <a:ext cx="1944720" cy="103860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озатекстове комплекс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3213000"/>
            <a:ext cx="0" cy="19447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2360" y="3213000"/>
            <a:ext cx="352908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5157720"/>
            <a:ext cx="352908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59640" y="3284640"/>
            <a:ext cx="0" cy="18730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24000" y="4005000"/>
            <a:ext cx="27352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50920" y="225360"/>
            <a:ext cx="8569080" cy="7038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ОСОБЛИВОСТІ СКЛАДАННЯ БІБЛІОГРАФІЧНОГО ПОСИЛАННЯ НА ЕЛЕКТРОННИЙ РЕСУР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4840" y="1622880"/>
            <a:ext cx="4093920" cy="2535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9999"/>
                </a:solidFill>
                <a:uFillTx/>
                <a:latin typeface="Arial"/>
              </a:rPr>
              <a:t>Складають н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електронні документи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бази даних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портали чи сайти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еб-сторінки, форуми тощо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так і на їхні складники   (розділи та частини електронних документів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62520" y="1627560"/>
            <a:ext cx="3936960" cy="2535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9999"/>
                </a:solidFill>
                <a:uFillTx/>
                <a:latin typeface="Arial"/>
              </a:rPr>
              <a:t>Джерела інформації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титульний екран,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основне меню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головна сторінка сайту чи   порталу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ідомості про автора, назву, перевидання, місце та рік вид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27280" y="4541400"/>
            <a:ext cx="4319640" cy="19278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Необхідні для пошуку: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ідомості про доступ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дата оновлення документа або його частин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електронна адрес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дата звернення до документа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ДСТУ 8302:2015 ІНФОРМАЦІЯ ТА ДОКУМЕНТАЦІЯ. БІБЛІОГРАФІЧНЕ ПОСИЛАННЯ</a:t>
            </a:r>
            <a:br>
              <a:rPr sz="2800"/>
            </a:br>
            <a:br>
              <a:rPr sz="2800"/>
            </a:br>
            <a:r>
              <a:rPr b="1" i="1" lang="uk-UA" sz="2400" spc="-1" strike="noStrike">
                <a:solidFill>
                  <a:srgbClr val="ffffcc"/>
                </a:solidFill>
                <a:latin typeface="Arial"/>
              </a:rPr>
              <a:t>Введення цього ДСТУ НЕ ЗАМІНЮЄ та НЕ ВІДМІНЯЄ дію стандартів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8229600" cy="4530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СТУ ГОСТ 7.1:2006 “Бібліографічний запис. Бібліографічний опис. Загальні вимоги та правила складання”.</a:t>
            </a:r>
            <a:br>
              <a:rPr sz="2400"/>
            </a:b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СТУ ГОСТ 7.80:2007 “Бібліографічний запис. Заголовок. Загальні вимоги та правила складання”.</a:t>
            </a:r>
            <a:br>
              <a:rPr sz="2400"/>
            </a:b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іючі стандарти зі скорочення слі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равил заповнення полів в АБІ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95280" y="0"/>
            <a:ext cx="8424720" cy="642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ОСОБЛИВОСТІ СКЛАДАННЯ БІБЛІОГРАФІЧНОГО ПОСИЛАННЯ НА ЕЛЕКТРОННИЙ РЕСУРС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129680"/>
            <a:ext cx="4306680" cy="10155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Замість слів «Режим доступу» (чи «Доступ») можно застосовувати абревіатури «URI» або «URL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520" y="2678760"/>
            <a:ext cx="4291200" cy="711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«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Дату оновлення» наводять перед режимом доступу («URI», «URL»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56320" y="1113840"/>
            <a:ext cx="4033800" cy="10155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Дату звернення : число, місяць і рік (в круглих дужках) після слів «дата звернення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0080" y="2453760"/>
            <a:ext cx="4117680" cy="13201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Замість електронної адреси зазначати DOI (Digital Object Identifier) — Ідентифікатор цифрового об’єкт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6600" y="4136400"/>
            <a:ext cx="8072280" cy="2398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Спеціальний стандарт поширення даних МВФ / Держ. Служба  статистики України.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URL: http:// 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Arial"/>
                <a:ea typeface="Arial"/>
              </a:rPr>
              <a:t>www.ukrstat.&amp;ov.u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²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Бойко С. Публічні фінанси у контексті генези та еволюції понятійно-категоріального апарату фінансової науки. Економіст. 2015. № 10. С. 31—35.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URL: http:/ ua-ekonomist/com/archive/2015/10/Boyko.pdf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³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IMF Standards for Data Dissemination / International Monetary Fund. URL: 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Arial"/>
                <a:ea typeface="Arial"/>
              </a:rPr>
              <a:t>http://www.inf.or&amp;/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 extenal/ np/ ext/facts/data. htm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5280" y="333360"/>
            <a:ext cx="3456000" cy="527544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eaeaea"/>
                </a:solidFill>
                <a:uFillTx/>
                <a:latin typeface="Arial"/>
              </a:rPr>
              <a:t>За консультаціями звертатися в довідково-бібліографічний відділ за тел.  68-11-7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eaea"/>
                </a:solidFill>
                <a:latin typeface="Arial"/>
              </a:rPr>
              <a:t>Т. І. Неудачина, завідувач довідково-бібліографічним відділом Наукової бібліоте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464000" cy="6120000"/>
          </a:xfrm>
          <a:prstGeom prst="rect">
            <a:avLst/>
          </a:prstGeom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009999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Елементи бібліографічного запису  (заголовок і бібліографічний опис) та знаки пунктуації в бібліографічному посиланні подають згідно з ДСТУ ГОСТ 7.80 і ДСТУ ГОСТ 7.1 з урахуванням таких особливостей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105080" cy="45306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заголовку бібліографічного запису подають відомості про одного, двох чи трьох авторів, при цьому імена цих авторів у бібліографічному опису у відомостях про відповідальність (за навкісною рискою)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повторюють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а потреби у заголовку бібліографічного запису позатекстового посилання можна зазначити більш ніж три імені авторів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амість знака “крапка й тире” (“. —”), який розділяє зони бібліографічного опису, в бібліографічному посиланні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рекомендовано застосовувати знак “крапка”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105440" cy="54450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Відомості, запозичені не з титульної сторінки документа, дозволено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 брати у квадратні скобки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Після назви дозволено не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зазначати загального позначення матеріалу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(“Текст”, “Електронний ресурс”, “Ноти” тощо – перелік згідно з </a:t>
            </a: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ДСТУ ГОСТ 7.1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складі вихідних даних дозволено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 подавати найменування (ім’я) видавця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складі відомостей про фізичну характеристику документа можна зазначити або його загальний  обсяг (напр.: 285 с.),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або номер сторінки, на якій подано об’єкт посилання (напр.: С. 19);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дозволено не наводити відомостей про серію та Міжнародний стандартний номер (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SBN. ISMN. ISSN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260280"/>
            <a:ext cx="435744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Бібліографічне посиланн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60280"/>
            <a:ext cx="403380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Об’єкт бібліографічн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посиланн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268280"/>
            <a:ext cx="3600360" cy="521460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Сукупність бібліографічних відомостей про цитований, розглядуваний або згадуваний у тексті документа інший документ, що є необхідними й достатніми для його загальної характеристики, ідентифікування та пошу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700280"/>
            <a:ext cx="3527280" cy="413244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Усі види опублікованих і неопублікованих документів, їхні окремі складники або групи документів на будь яких носіях інформації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47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ЗАГАЛЬНІ ПОЛОЖЕ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765000"/>
            <a:ext cx="8497800" cy="64260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замість знака «крапка й тире» («. — »), рекомендовано застосовувати знак «крапка» (.)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628640"/>
            <a:ext cx="7850520" cy="64260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Інклюзивне навчання: досвід упровадження / І. Луценко та ін. Київ, 2015. 197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421000"/>
            <a:ext cx="8642160" cy="36828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імена у бібліографічному описі за навскісною рискою / не повторюют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280" y="3284640"/>
            <a:ext cx="8424720" cy="9169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Денисенко М. П., Бреус С. В. Вітчизняна вища освіта в умовах глобалізації та ії вплив на ринок праці в Україні. Ринок праці та зайнятість населення. 2015. № 3. С. 32-36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437000"/>
            <a:ext cx="8893080" cy="64260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ві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навскісні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риски» («//») замінювати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крапкою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.)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назву виділят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шрифтом,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наприклад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курсив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1800" y="5445000"/>
            <a:ext cx="8242200" cy="91692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копенко І. Ф.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Вчитель і освіта у полікультурних контекстах сучасності. </a:t>
            </a:r>
            <a:r>
              <a:rPr b="0" i="1" lang="uk-UA" sz="1800" spc="-1" strike="noStrike">
                <a:solidFill>
                  <a:srgbClr val="eaeaea"/>
                </a:solidFill>
                <a:latin typeface="Verdana"/>
              </a:rPr>
              <a:t>Новий колегіум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2007. № 5. С. 6—8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ВИДИ БІБЛІОГРАФІЧНИХ ПОСИЛАНЬ ТА ПРАВИЛ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ЇХНЬОГО СКЛАДАНН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1341360"/>
            <a:ext cx="4572000" cy="1746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eaeaea"/>
                </a:solidFill>
                <a:uFillTx/>
                <a:latin typeface="Verdana"/>
              </a:rPr>
              <a:t>Бібліографічне посилання (за складом елементів бібліографічного запису)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716280"/>
            <a:ext cx="4356000" cy="261504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вн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містить усі обов’язкові елементи, що використовують для загальної характеристики, ідентифікування й пошуку об’єкта посилання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89360"/>
            <a:ext cx="4572000" cy="1892880"/>
          </a:xfrm>
          <a:prstGeom prst="rect">
            <a:avLst/>
          </a:prstGeom>
          <a:noFill/>
          <a:ln w="9360">
            <a:solidFill>
              <a:srgbClr val="aa8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Коротк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містить частину обов’язкових елементів, які використовують тільки для пошуку об’єкта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66920" y="2997360"/>
            <a:ext cx="1944720" cy="72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2997360"/>
            <a:ext cx="2881440" cy="72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0"/>
            <a:ext cx="8064360" cy="165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Бібліографічне посилання (за місцем розташування в документі)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37000"/>
            <a:ext cx="3241800" cy="39888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внутрішньотекстове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205000"/>
            <a:ext cx="2016000" cy="1136880"/>
          </a:xfrm>
          <a:prstGeom prst="rect">
            <a:avLst/>
          </a:prstGeom>
          <a:noFill/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ідрядков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32360" y="2708280"/>
            <a:ext cx="3311640" cy="39888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озатекстове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32000" y="1773360"/>
            <a:ext cx="3311280" cy="792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1773360"/>
            <a:ext cx="0" cy="4316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773360"/>
            <a:ext cx="3313080" cy="934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45000"/>
            <a:ext cx="7848720" cy="7038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Бібліографічне посилання (за повторністю наведення посилань на один і той самий об’єкт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6560" y="5084640"/>
            <a:ext cx="2376720" cy="132084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ервинн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5157720"/>
            <a:ext cx="2448000" cy="132084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овторне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47640" y="4436640"/>
            <a:ext cx="2806920" cy="647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4437000"/>
            <a:ext cx="2809800" cy="717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ВНУТРІШНЬОТЕКСТОВЕ БІБЛІОГРАФІЧНЕ ПОСИЛА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907920"/>
            <a:ext cx="8353440" cy="161856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Внутрішньотекстове посилання може бути у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вній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короткій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формі (якщо частину відомостей про джерело цитування подано в тексті). Р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комендовано складати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нутрішньотекстове посилання в короткій форм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нак «крапка й тире» («.— ») замінюють знаком «крапка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781360"/>
            <a:ext cx="8642160" cy="3422520"/>
          </a:xfrm>
          <a:prstGeom prst="rect">
            <a:avLst/>
          </a:prstGeom>
          <a:solidFill>
            <a:srgbClr val="5e855b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риклад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Мистецька освіта: історія, теорія, технології. Харків, 2015. С. 17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Вища освіта України. 2015. № 3. С. 53—5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Дистанційна Академія ВГ “Основа”: сайт.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RL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// 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d-academy.com.ua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У тексті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Т. Батченко стверджує, що кінцевою метою впровадження програми є формування в учнів образу здорового способу життя без руйнівних захоплень, профілактика адиктивної поведінки підлітків, набуття учнями необхідних знань щодо ризиків фізичної і психічної залежності людини (Психолог. 2017. № 3—4 (603—604). С. 1.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11:12:52Z</dcterms:created>
  <dc:creator>1503</dc:creator>
  <dc:description/>
  <dc:language>en-US</dc:language>
  <cp:lastModifiedBy>1503</cp:lastModifiedBy>
  <dcterms:modified xsi:type="dcterms:W3CDTF">2017-03-03T10:58:53Z</dcterms:modified>
  <cp:revision>31</cp:revision>
  <dc:subject/>
  <dc:title>Слайд 1</dc:title>
</cp:coreProperties>
</file>