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81A-4C71-4D56-95C4-E5097C97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E7D-05BA-4CEF-9497-C1205416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622-88F7-4406-B593-D13ABD36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503-2C9E-4D5B-A939-9BBABBCE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582-6BED-4DBA-A3BA-26040C13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C75-9980-45CA-958A-9CD85A67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6A8-B552-446F-A0DA-F2536B5B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E6A-DCB0-4891-BB3E-A2A5F81C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945-F835-49DC-B27F-3ED74374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744-034C-4D0D-BA9F-9B0DE51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7F1-8E34-41FD-818E-3939A850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029-F375-4A8F-B95E-F9668878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1FA2-4561-4A01-B90B-98D531B47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Arial"/>
              </a:rPr>
              <a:t>ІНФОРМАЦІЙНІ РЕСУРСИ</a:t>
            </a:r>
            <a:br>
              <a:rPr sz="4400"/>
            </a:br>
            <a:br>
              <a:rPr sz="4400"/>
            </a:br>
            <a:r>
              <a:rPr b="1" i="1" lang="uk-UA" sz="2800" spc="-1" strike="noStrike">
                <a:solidFill>
                  <a:srgbClr val="000066"/>
                </a:solidFill>
                <a:latin typeface="Arial"/>
              </a:rPr>
              <a:t>№ 1.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Електронний каталог      (електронна бібліот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66"/>
                </a:solidFill>
                <a:latin typeface="Arial"/>
              </a:rPr>
              <a:t>Харків, 2020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56160" y="1219320"/>
            <a:ext cx="4273560" cy="541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1522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Наукова бібліотека Харківського націон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педагогічного університету імені Г. С. Сковор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Логотип біб-ки без фону"/>
          <p:cNvPicPr/>
          <p:nvPr/>
        </p:nvPicPr>
        <p:blipFill>
          <a:blip r:embed="rId3"/>
          <a:stretch/>
        </p:blipFill>
        <p:spPr>
          <a:xfrm>
            <a:off x="152280" y="76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76520" y="4038480"/>
            <a:ext cx="1143000" cy="109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ДОСТУП ВІДКРИ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у  локальній мережі університету трьох корпусі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ул. Валентинівська, 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ул. Алчевських, 29</a:t>
            </a: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пров. Фанінський, 3-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через І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114800" y="281952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4267080"/>
            <a:ext cx="3048120" cy="103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2133360" y="914400"/>
            <a:ext cx="144756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914400"/>
            <a:ext cx="144792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216080" cy="655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6858000" cy="4869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Електронний кат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91440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УВАГА!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Логин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reader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ароль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go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(у локальній мережі університе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61" name="Oval 5"/>
          <p:cNvSpPr/>
          <p:nvPr/>
        </p:nvSpPr>
        <p:spPr>
          <a:xfrm>
            <a:off x="152280" y="1600200"/>
            <a:ext cx="1219320" cy="1371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286000"/>
            <a:ext cx="23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5875200" cy="4646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Електронний каталог </a:t>
            </a:r>
            <a:br>
              <a:rPr sz="4400"/>
            </a:b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(Доступ через Інтернет)</a:t>
            </a:r>
            <a:br>
              <a:rPr sz="2000"/>
            </a:b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2971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фіційний сайт ХНПУ імені          Г. С. Сковоро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ідрозділ: Бібліо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67" name="Oval 5"/>
          <p:cNvSpPr/>
          <p:nvPr/>
        </p:nvSpPr>
        <p:spPr>
          <a:xfrm>
            <a:off x="3048120" y="2590920"/>
            <a:ext cx="99036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5867280"/>
            <a:ext cx="1143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51460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00800" y="2286000"/>
            <a:ext cx="23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ropped-галочка-1"/>
          <p:cNvPicPr/>
          <p:nvPr/>
        </p:nvPicPr>
        <p:blipFill>
          <a:blip r:embed="rId5"/>
          <a:stretch/>
        </p:blipFill>
        <p:spPr>
          <a:xfrm>
            <a:off x="853452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0" y="3049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295280" y="1295280"/>
            <a:ext cx="175284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7696080" cy="5035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Увійти до електронного катал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тримати довідку з 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4080" y="5791320"/>
            <a:ext cx="1219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5146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ropped-галочка-1"/>
          <p:cNvPicPr/>
          <p:nvPr/>
        </p:nvPicPr>
        <p:blipFill>
          <a:blip r:embed="rId5"/>
          <a:stretch/>
        </p:blipFill>
        <p:spPr>
          <a:xfrm>
            <a:off x="25146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ropped-галочка-1"/>
          <p:cNvPicPr/>
          <p:nvPr/>
        </p:nvPicPr>
        <p:blipFill>
          <a:blip r:embed="rId6"/>
          <a:stretch/>
        </p:blipFill>
        <p:spPr>
          <a:xfrm>
            <a:off x="22860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ropped-галочка-1"/>
          <p:cNvPicPr/>
          <p:nvPr/>
        </p:nvPicPr>
        <p:blipFill>
          <a:blip r:embed="rId7"/>
          <a:stretch/>
        </p:blipFill>
        <p:spPr>
          <a:xfrm>
            <a:off x="495288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5680" y="54864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 u="sng">
                <a:solidFill>
                  <a:srgbClr val="000066"/>
                </a:solidFill>
                <a:uFillTx/>
                <a:latin typeface="Arial"/>
              </a:rPr>
              <a:t>Навіщо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0" i="1" lang="uk-UA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Можливість здійснювати пошук необхідної інформації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(список джерел)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 та місце збереження кожного джерела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(абонементи та читальні зали бібліотеки, кафедри університет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410080"/>
            <a:ext cx="4419720" cy="1295640"/>
          </a:xfrm>
          <a:prstGeom prst="wedgeRoundRectCallout">
            <a:avLst>
              <a:gd name="adj1" fmla="val -27944"/>
              <a:gd name="adj2" fmla="val -4411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3. </a:t>
            </a:r>
            <a:r>
              <a:rPr b="0" lang="uk-UA" sz="4000" spc="-1" strike="noStrike">
                <a:solidFill>
                  <a:srgbClr val="000066"/>
                </a:solidFill>
                <a:latin typeface="Arial"/>
              </a:rPr>
              <a:t>Авториза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3809520"/>
            <a:ext cx="4419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З питань авторизованого доступу </a:t>
            </a: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до повтотекстових документів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треба звертатись на абонементи бібліоте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cc0000"/>
                </a:solidFill>
                <a:latin typeface="Arial"/>
              </a:rPr>
              <a:t>Навіщо потрібен авторизований доступ?</a:t>
            </a: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 Можливість використовува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ти електронні копії документі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493040" y="0"/>
            <a:ext cx="1650960" cy="1650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14400" y="990720"/>
            <a:ext cx="2666880" cy="2636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613400" y="990720"/>
            <a:ext cx="29034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086600" cy="4636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УВАГА!</a:t>
            </a:r>
            <a:r>
              <a:rPr b="0" i="1" lang="uk-U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Триває робота з формування бази користувачів біблі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Фонд повтотекстових електронних документів постійно збільшує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52680" y="5943600"/>
            <a:ext cx="10670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8195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cropped-галочка-1"/>
          <p:cNvPicPr/>
          <p:nvPr/>
        </p:nvPicPr>
        <p:blipFill>
          <a:blip r:embed="rId5"/>
          <a:stretch/>
        </p:blipFill>
        <p:spPr>
          <a:xfrm>
            <a:off x="28195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ropped-галочка-1"/>
          <p:cNvPicPr/>
          <p:nvPr/>
        </p:nvPicPr>
        <p:blipFill>
          <a:blip r:embed="rId6"/>
          <a:stretch/>
        </p:blipFill>
        <p:spPr>
          <a:xfrm>
            <a:off x="25909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cropped-галочка-1"/>
          <p:cNvPicPr/>
          <p:nvPr/>
        </p:nvPicPr>
        <p:blipFill>
          <a:blip r:embed="rId7"/>
          <a:stretch/>
        </p:blipFill>
        <p:spPr>
          <a:xfrm>
            <a:off x="502920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2895480" y="4876920"/>
            <a:ext cx="228600" cy="152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438280" y="4724280"/>
            <a:ext cx="53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867280" y="2057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6553080" y="4343400"/>
            <a:ext cx="2438640" cy="24098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03" name="Rectangle 4"/>
          <p:cNvSpPr/>
          <p:nvPr/>
        </p:nvSpPr>
        <p:spPr>
          <a:xfrm>
            <a:off x="6629400" y="44197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5562720"/>
            <a:ext cx="1676520" cy="1143000"/>
          </a:xfrm>
          <a:prstGeom prst="wedgeRoundRectCallout">
            <a:avLst>
              <a:gd name="adj1" fmla="val -153976"/>
              <a:gd name="adj2" fmla="val -104166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5637600"/>
            <a:ext cx="16765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0000"/>
                </a:solidFill>
                <a:latin typeface="Arial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cc0000"/>
                </a:solidFill>
                <a:latin typeface="Arial"/>
              </a:rPr>
              <a:t>докумен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(на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24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.0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.2020 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305560" cy="5124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5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 на приклад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556236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Авториз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Місце збереж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71500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5943600"/>
            <a:ext cx="30492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95280" y="76212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7:15:41Z</dcterms:created>
  <dc:creator>user205b</dc:creator>
  <dc:description/>
  <dc:language>en-US</dc:language>
  <cp:lastModifiedBy>user205b</cp:lastModifiedBy>
  <dcterms:modified xsi:type="dcterms:W3CDTF">2020-02-24T08:53:35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