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50C-F076-4B32-9237-2FA22486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C62B-4C40-45CB-AD27-0A7C7A3E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AFC-5A1F-4A38-B365-9BD620C1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C45-85CD-48F2-8CCB-17E6DA85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08E-C910-4BED-92E3-537E313A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B5C-0107-4DD4-981C-16354784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DB9-A412-48A8-B188-ED1187C9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8741-745C-4DCA-B1F0-CFA5EF01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7D15-F184-435E-BD30-43369A78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6C71-B564-496D-AEE5-5CC63022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98C-AE7F-4601-90FA-00E508F1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EDEB-F73E-48A8-B9A5-D728D5BF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794D-270D-4443-9E4E-64820F14E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121896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66"/>
                </a:solidFill>
                <a:latin typeface="Arial"/>
              </a:rPr>
              <a:t>ІНФОРМАЦІЙНІ РЕСУРСИ</a:t>
            </a:r>
            <a:br>
              <a:rPr sz="4400"/>
            </a:br>
            <a:br>
              <a:rPr sz="4400"/>
            </a:br>
            <a:r>
              <a:rPr b="1" i="1" lang="uk-UA" sz="2800" spc="-1" strike="noStrike">
                <a:solidFill>
                  <a:srgbClr val="000066"/>
                </a:solidFill>
                <a:latin typeface="Arial"/>
              </a:rPr>
              <a:t>№ 2.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Електронний архів      (інституційний репозитарі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66"/>
                </a:solidFill>
                <a:latin typeface="Arial"/>
              </a:rPr>
              <a:t>Харків, 2020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56160" y="1219320"/>
            <a:ext cx="4273560" cy="5410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1522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66"/>
                </a:solidFill>
                <a:latin typeface="Arial"/>
              </a:rPr>
              <a:t>Наукова бібліотека Харківського націон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66"/>
                </a:solidFill>
                <a:latin typeface="Arial"/>
              </a:rPr>
              <a:t>педагогічного університету імені Г. С. Сковоро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Логотип біб-ки без фону"/>
          <p:cNvPicPr/>
          <p:nvPr/>
        </p:nvPicPr>
        <p:blipFill>
          <a:blip r:embed="rId3"/>
          <a:stretch/>
        </p:blipFill>
        <p:spPr>
          <a:xfrm>
            <a:off x="152280" y="76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5875200" cy="4646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1 </a:t>
            </a:r>
            <a:br>
              <a:rPr sz="4400"/>
            </a:b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(Доступ через Інтернет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3276720"/>
            <a:ext cx="2971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фіційний сайт ХНПУ імені          Г. С. Сковород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Підрозділ: Бібліот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Увійти до електронного архі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1650960" cy="1650960"/>
          </a:xfrm>
          <a:prstGeom prst="rect">
            <a:avLst/>
          </a:prstGeom>
          <a:ln w="0">
            <a:noFill/>
          </a:ln>
        </p:spPr>
      </p:pic>
      <p:sp>
        <p:nvSpPr>
          <p:cNvPr id="50" name="Oval 5"/>
          <p:cNvSpPr/>
          <p:nvPr/>
        </p:nvSpPr>
        <p:spPr>
          <a:xfrm>
            <a:off x="3048120" y="2590920"/>
            <a:ext cx="990360" cy="380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5638680"/>
            <a:ext cx="1143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cropped-галочка-1"/>
          <p:cNvPicPr/>
          <p:nvPr/>
        </p:nvPicPr>
        <p:blipFill>
          <a:blip r:embed="rId4"/>
          <a:stretch/>
        </p:blipFill>
        <p:spPr>
          <a:xfrm>
            <a:off x="251460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400800" y="2286000"/>
            <a:ext cx="2362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cropped-галочка-1"/>
          <p:cNvPicPr/>
          <p:nvPr/>
        </p:nvPicPr>
        <p:blipFill>
          <a:blip r:embed="rId5"/>
          <a:stretch/>
        </p:blipFill>
        <p:spPr>
          <a:xfrm>
            <a:off x="845820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0" y="30492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1295280" y="1295280"/>
            <a:ext cx="1752840" cy="5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352680" cy="2255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2. </a:t>
            </a:r>
            <a:r>
              <a:rPr b="0" lang="uk-UA" sz="3600" spc="-1" strike="noStrike">
                <a:solidFill>
                  <a:srgbClr val="000066"/>
                </a:solidFill>
                <a:latin typeface="Arial"/>
              </a:rPr>
              <a:t>Знайом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Положення про репозитарій ХНПУ імені Г. С. Сковоро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Авторський догові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Реєстрація нового користув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Інструкція реєстраціі документ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Приклади бібліографічного опису                       докумен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10080" y="3809520"/>
            <a:ext cx="228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Helvetica Neue"/>
              </a:rPr>
              <a:t>науковц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Helvetica Neue"/>
              </a:rPr>
              <a:t>викладач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Helvetica Neue"/>
              </a:rPr>
              <a:t>аспіран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Helvetica Neue"/>
              </a:rPr>
              <a:t>магістран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Helvetica Neue"/>
              </a:rPr>
              <a:t>студенти університету!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5400000">
            <a:off x="5524200" y="3619440"/>
            <a:ext cx="2057400" cy="2438280"/>
          </a:xfrm>
          <a:prstGeom prst="wedgeRoundRectCallout">
            <a:avLst>
              <a:gd name="adj1" fmla="val -86500"/>
              <a:gd name="adj2" fmla="val 113995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УВАГА! 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Реєстрація нового користувача потрібна для можливості розміщення власних електронних повнотекстових документів наукового та навчально-методичного призначенн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47920" y="2362320"/>
            <a:ext cx="6476760" cy="4356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3. </a:t>
            </a:r>
            <a:r>
              <a:rPr b="0" lang="uk-UA" sz="3600" spc="-1" strike="noStrike">
                <a:solidFill>
                  <a:srgbClr val="000066"/>
                </a:solidFill>
                <a:latin typeface="Arial"/>
              </a:rPr>
              <a:t>Пош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Arial"/>
              </a:rPr>
              <a:t>Варіанти пошуку в архів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66"/>
                </a:solidFill>
                <a:latin typeface="Arial"/>
              </a:rPr>
              <a:t>за прізвищем автора публікації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66"/>
                </a:solidFill>
                <a:latin typeface="Arial"/>
              </a:rPr>
              <a:t>за ключовим слов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66"/>
                </a:solidFill>
                <a:latin typeface="Arial"/>
              </a:rPr>
              <a:t>за назвою публіка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cropped-галочка-1"/>
          <p:cNvPicPr/>
          <p:nvPr/>
        </p:nvPicPr>
        <p:blipFill>
          <a:blip r:embed="rId4"/>
          <a:stretch/>
        </p:blipFill>
        <p:spPr>
          <a:xfrm>
            <a:off x="4572000" y="22096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7696080" cy="5468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66"/>
                </a:solidFill>
                <a:latin typeface="Arial"/>
              </a:rPr>
              <a:t>Пошук за ключовим сло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09720" y="91404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cropped-галочка-1"/>
          <p:cNvPicPr/>
          <p:nvPr/>
        </p:nvPicPr>
        <p:blipFill>
          <a:blip r:embed="rId4"/>
          <a:stretch/>
        </p:blipFill>
        <p:spPr>
          <a:xfrm>
            <a:off x="4876920" y="7621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0" y="6858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38080" y="4038480"/>
            <a:ext cx="3429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66"/>
                </a:solidFill>
                <a:latin typeface="Arial"/>
              </a:rPr>
              <a:t>Загальна кількість матеріа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905120" y="3885840"/>
            <a:ext cx="4572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3657600"/>
            <a:ext cx="1981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66"/>
                </a:solidFill>
                <a:latin typeface="Arial"/>
              </a:rPr>
              <a:t>Гортай сторі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3962520"/>
            <a:ext cx="76176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5715000"/>
            <a:ext cx="4953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6477120"/>
            <a:ext cx="4953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66"/>
                </a:solidFill>
                <a:latin typeface="Arial"/>
              </a:rPr>
              <a:t>Переглянемо публікацію детальніш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5562720"/>
            <a:ext cx="838080" cy="1295280"/>
          </a:xfrm>
          <a:custGeom>
            <a:avLst/>
            <a:gdLst>
              <a:gd name="textAreaLeft" fmla="*/ 112320 w 838080"/>
              <a:gd name="textAreaRight" fmla="*/ 725760 w 838080"/>
              <a:gd name="textAreaTop" fmla="*/ 262440 h 1295280"/>
              <a:gd name="textAreaBottom" fmla="*/ 903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55" stAng="-5400000" swAng="-5400000"/>
                <a:lnTo>
                  <a:pt x="0" y="10685"/>
                </a:lnTo>
                <a:arcTo wR="21600" hR="8755" stAng="10800000" swAng="-2934161"/>
                <a:lnTo>
                  <a:pt x="14400" y="21099"/>
                </a:lnTo>
                <a:lnTo>
                  <a:pt x="21600" y="18475"/>
                </a:lnTo>
                <a:lnTo>
                  <a:pt x="14400" y="14849"/>
                </a:lnTo>
                <a:lnTo>
                  <a:pt x="14400" y="17009"/>
                </a:lnTo>
                <a:arcTo wR="21600" hR="8755" stAng="7865839" swAng="2779738"/>
                <a:lnTo>
                  <a:pt x="132" y="9720"/>
                </a:lnTo>
                <a:arcTo wR="21600" hR="8755" stAng="-10645578" swAng="5245578"/>
                <a:close/>
              </a:path>
              <a:path fill="darkenLess" w="21600" h="21600">
                <a:moveTo>
                  <a:pt x="21600" y="0"/>
                </a:moveTo>
                <a:arcTo wR="21600" hR="8755" stAng="-5400000" swAng="-5400000"/>
                <a:lnTo>
                  <a:pt x="0" y="8755"/>
                </a:lnTo>
                <a:arcTo wR="21600" hR="8755" stAng="10800000" swAng="-154422"/>
                <a:lnTo>
                  <a:pt x="132" y="9720"/>
                </a:lnTo>
                <a:arcTo wR="21600" hR="8755" stAng="-10645578" swAng="5245578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8458200" cy="5851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95280" y="2133720"/>
            <a:ext cx="7010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84872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477120" y="563868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66"/>
                </a:solidFill>
                <a:latin typeface="Arial"/>
              </a:rPr>
              <a:t>Відкрити повнотекстовий доку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66680" y="1676520"/>
            <a:ext cx="7008840" cy="5073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4. </a:t>
            </a:r>
            <a:r>
              <a:rPr b="0" lang="uk-UA" sz="3600" spc="-1" strike="noStrike">
                <a:solidFill>
                  <a:srgbClr val="000066"/>
                </a:solidFill>
                <a:latin typeface="Arial"/>
              </a:rPr>
              <a:t>Пошук за фонд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УВАГА!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Фонд повтотекстових електронних документів постійно збільшує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cropped-галочка-1"/>
          <p:cNvPicPr/>
          <p:nvPr/>
        </p:nvPicPr>
        <p:blipFill>
          <a:blip r:embed="rId4"/>
          <a:stretch/>
        </p:blipFill>
        <p:spPr>
          <a:xfrm>
            <a:off x="457200" y="20574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19920" y="4495680"/>
            <a:ext cx="1676160" cy="1828800"/>
          </a:xfrm>
          <a:prstGeom prst="wedgeRoundRectCallout">
            <a:avLst>
              <a:gd name="adj1" fmla="val -57384"/>
              <a:gd name="adj2" fmla="val -109375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4646880"/>
            <a:ext cx="167616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Загальна кількіс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0000"/>
                </a:solidFill>
                <a:latin typeface="Arial"/>
              </a:rPr>
              <a:t>29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cc0000"/>
                </a:solidFill>
                <a:latin typeface="Arial"/>
              </a:rPr>
              <a:t>документ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(на </a:t>
            </a: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24</a:t>
            </a: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.02.2020 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30T07:15:41Z</dcterms:created>
  <dc:creator>user205b</dc:creator>
  <dc:description/>
  <dc:language>en-US</dc:language>
  <cp:lastModifiedBy>user205b</cp:lastModifiedBy>
  <dcterms:modified xsi:type="dcterms:W3CDTF">2020-02-25T10:10:21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