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945-4366-4CB6-8AFE-989A45CB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4EE-F279-4608-B858-3FD71C6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FEE-CE45-493B-BAF8-CCD41A7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634-0922-4BE8-94B3-C1F47F6E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CE2-D6D1-4FCF-B0D7-79F6601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E84-29F7-4369-8568-4E62D6D2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8E4-6A61-496B-A114-06BBB147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7F0-AD44-41CA-88CE-D95AC72A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21D-D885-46AB-8A9D-AC6B75A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018-50E8-471B-8233-44C521E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C09-689D-4084-8DAF-2E71692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F44-F1BC-45CA-BBFE-E498667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D98-5F23-4FA2-8AFB-4BEFFCB2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2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архів      (інституційний репозитарі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Увійти до електронного архі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56386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45820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352680" cy="2255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Знайо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ложення про репозитарій ХНПУ імені Г. С. Сковор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Авторський догові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Реєстрація нового користув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Інструкція реєстраціі докумен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риклади бібліографічного опису                       доку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080" y="38095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науковц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викладач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аспіран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магістран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студенти університету!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5524200" y="3619440"/>
            <a:ext cx="2057400" cy="2438280"/>
          </a:xfrm>
          <a:prstGeom prst="wedgeRoundRectCallout">
            <a:avLst>
              <a:gd name="adj1" fmla="val -86500"/>
              <a:gd name="adj2" fmla="val 11399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Реєстрація нового користувача потрібна для можливості розміщення власних електронних повнотекстових документів наукового та навчально-методичного призначен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6476760" cy="435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Arial"/>
              </a:rPr>
              <a:t>Варіанти пошуку в архів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прізвищем автора публікац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ключовим сло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назвою публ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0" y="2209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69608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ключовим сло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9720" y="9140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876920" y="762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40384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Загальна кількість матері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905120" y="388584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6576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Гортай сторі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962520"/>
            <a:ext cx="7617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715000"/>
            <a:ext cx="4953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477120"/>
            <a:ext cx="49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Переглянемо публікацію деталь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5562720"/>
            <a:ext cx="838080" cy="1295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62440 h 1295280"/>
              <a:gd name="textAreaBottom" fmla="*/ 903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55" stAng="-5400000" swAng="-5400000"/>
                <a:lnTo>
                  <a:pt x="0" y="10685"/>
                </a:lnTo>
                <a:arcTo wR="21600" hR="8755" stAng="10800000" swAng="-2934161"/>
                <a:lnTo>
                  <a:pt x="14400" y="21099"/>
                </a:lnTo>
                <a:lnTo>
                  <a:pt x="21600" y="18475"/>
                </a:lnTo>
                <a:lnTo>
                  <a:pt x="14400" y="14849"/>
                </a:lnTo>
                <a:lnTo>
                  <a:pt x="14400" y="17009"/>
                </a:lnTo>
                <a:arcTo wR="21600" hR="8755" stAng="7865839" swAng="2779738"/>
                <a:lnTo>
                  <a:pt x="132" y="9720"/>
                </a:lnTo>
                <a:arcTo wR="21600" hR="8755" stAng="-10645578" swAng="5245578"/>
                <a:close/>
              </a:path>
              <a:path fill="darkenLess" w="21600" h="21600">
                <a:moveTo>
                  <a:pt x="21600" y="0"/>
                </a:moveTo>
                <a:arcTo wR="21600" hR="8755" stAng="-5400000" swAng="-5400000"/>
                <a:lnTo>
                  <a:pt x="0" y="8755"/>
                </a:lnTo>
                <a:arcTo wR="21600" hR="8755" stAng="10800000" swAng="-154422"/>
                <a:lnTo>
                  <a:pt x="132" y="9720"/>
                </a:lnTo>
                <a:arcTo wR="21600" hR="8755" stAng="-10645578" swAng="524557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85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2133720"/>
            <a:ext cx="701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84872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77120" y="56386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Відкрити повнотекстовий доку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08840" cy="5073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фон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" y="2057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19920" y="4495680"/>
            <a:ext cx="1676160" cy="1828800"/>
          </a:xfrm>
          <a:prstGeom prst="wedgeRoundRectCallout">
            <a:avLst>
              <a:gd name="adj1" fmla="val -57384"/>
              <a:gd name="adj2" fmla="val -10937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4646880"/>
            <a:ext cx="167616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Загальна кількі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29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2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5T10:10:2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