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3E7-79E5-4586-B69C-FDE77890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86A-CDA6-47CB-9CE4-007342E8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2B2-58A0-4EEE-B2DB-39BD8EC6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92E-5D9B-4C43-BBC1-6898EC70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F9A-EADC-4430-BFFF-2C2EE199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36B-CE84-47FE-80F6-2B97DBAD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083-F119-4C12-9BDF-8DCB848A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185-C8BC-4F5C-B88F-D0167C3B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F55-1FE1-4845-949D-93425689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A5B-DBFF-45A2-BFC1-C7633C6D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5DC-A816-4434-8EB1-F0926A03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0D1-C409-4B6F-A930-A79CD565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F9A6-29C2-4C95-8297-C67B3A58A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Arial"/>
              </a:rPr>
              <a:t>ІНФОРМАЦІЙНІ РЕСУРСИ</a:t>
            </a:r>
            <a:br>
              <a:rPr sz="4400"/>
            </a:br>
            <a:br>
              <a:rPr sz="4400"/>
            </a:br>
            <a:r>
              <a:rPr b="1" i="1" lang="uk-UA" sz="2800" spc="-1" strike="noStrike">
                <a:solidFill>
                  <a:srgbClr val="000066"/>
                </a:solidFill>
                <a:latin typeface="Arial"/>
              </a:rPr>
              <a:t>№ 2.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Електронний архів      (інституційний репозитарі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66"/>
                </a:solidFill>
                <a:latin typeface="Arial"/>
              </a:rPr>
              <a:t>Харків, 2020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6160" y="1219320"/>
            <a:ext cx="4273560" cy="541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Наукова бібліотека Харківського націон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педагогічного університету імені Г. С. Сковор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Логотип біб-ки без фону"/>
          <p:cNvPicPr/>
          <p:nvPr/>
        </p:nvPicPr>
        <p:blipFill>
          <a:blip r:embed="rId3"/>
          <a:stretch/>
        </p:blipFill>
        <p:spPr>
          <a:xfrm>
            <a:off x="152280" y="76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875200" cy="4646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1 </a:t>
            </a:r>
            <a:br>
              <a:rPr sz="4400"/>
            </a:b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(Доступ через Інтернет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2971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фіційний сайт ХНПУ імені          Г. С. Сковоро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ідрозділ: Бібліот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Увійти до електронного архі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3048120" y="2590920"/>
            <a:ext cx="99036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5638680"/>
            <a:ext cx="1143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51460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cropped-галочка-1"/>
          <p:cNvPicPr/>
          <p:nvPr/>
        </p:nvPicPr>
        <p:blipFill>
          <a:blip r:embed="rId5"/>
          <a:stretch/>
        </p:blipFill>
        <p:spPr>
          <a:xfrm>
            <a:off x="845820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3049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1295280" y="1295280"/>
            <a:ext cx="175284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352680" cy="2255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2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Знайом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оложення про репозитарій ХНПУ імені Г. С. Сковор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Авторський догові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Реєстрація нового користув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Інструкція реєстраціі докумен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риклади бібліографічного опису                       докумен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0080" y="3809520"/>
            <a:ext cx="228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науковц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викладач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аспіран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магістран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Helvetica Neue"/>
              </a:rPr>
              <a:t>студенти університету!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5524200" y="3619440"/>
            <a:ext cx="2057400" cy="2438280"/>
          </a:xfrm>
          <a:prstGeom prst="wedgeRoundRectCallout">
            <a:avLst>
              <a:gd name="adj1" fmla="val -86500"/>
              <a:gd name="adj2" fmla="val 11399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УВАГА!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Реєстрація нового користувача потрібна для можливості розміщення власних електронних повнотекстових документів наукового та навчально-методичного призначенн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6476760" cy="435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3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Arial"/>
              </a:rPr>
              <a:t>Варіанти пошуку в архів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66"/>
                </a:solidFill>
                <a:latin typeface="Arial"/>
              </a:rPr>
              <a:t>за прізвищем автора публікації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66"/>
                </a:solidFill>
                <a:latin typeface="Arial"/>
              </a:rPr>
              <a:t>за ключовим сло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66"/>
                </a:solidFill>
                <a:latin typeface="Arial"/>
              </a:rPr>
              <a:t>за назвою публік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ropped-галочка-1"/>
          <p:cNvPicPr/>
          <p:nvPr/>
        </p:nvPicPr>
        <p:blipFill>
          <a:blip r:embed="rId4"/>
          <a:stretch/>
        </p:blipFill>
        <p:spPr>
          <a:xfrm>
            <a:off x="4572000" y="2209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769608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 за ключовим сло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9720" y="91404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cropped-галочка-1"/>
          <p:cNvPicPr/>
          <p:nvPr/>
        </p:nvPicPr>
        <p:blipFill>
          <a:blip r:embed="rId4"/>
          <a:stretch/>
        </p:blipFill>
        <p:spPr>
          <a:xfrm>
            <a:off x="4876920" y="762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4038480"/>
            <a:ext cx="342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Загальна кількість матеріа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905120" y="3885840"/>
            <a:ext cx="4572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3657600"/>
            <a:ext cx="198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Гортай сторі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962520"/>
            <a:ext cx="76176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5715000"/>
            <a:ext cx="4953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477120"/>
            <a:ext cx="4953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66"/>
                </a:solidFill>
                <a:latin typeface="Arial"/>
              </a:rPr>
              <a:t>Переглянемо публікацію детальніш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5562720"/>
            <a:ext cx="838080" cy="1295280"/>
          </a:xfrm>
          <a:custGeom>
            <a:avLst/>
            <a:gdLst>
              <a:gd name="textAreaLeft" fmla="*/ 112320 w 838080"/>
              <a:gd name="textAreaRight" fmla="*/ 725760 w 838080"/>
              <a:gd name="textAreaTop" fmla="*/ 262440 h 1295280"/>
              <a:gd name="textAreaBottom" fmla="*/ 903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55" stAng="-5400000" swAng="-5400000"/>
                <a:lnTo>
                  <a:pt x="0" y="10685"/>
                </a:lnTo>
                <a:arcTo wR="21600" hR="8755" stAng="10800000" swAng="-2934161"/>
                <a:lnTo>
                  <a:pt x="14400" y="21099"/>
                </a:lnTo>
                <a:lnTo>
                  <a:pt x="21600" y="18475"/>
                </a:lnTo>
                <a:lnTo>
                  <a:pt x="14400" y="14849"/>
                </a:lnTo>
                <a:lnTo>
                  <a:pt x="14400" y="17009"/>
                </a:lnTo>
                <a:arcTo wR="21600" hR="8755" stAng="7865839" swAng="2779738"/>
                <a:lnTo>
                  <a:pt x="132" y="9720"/>
                </a:lnTo>
                <a:arcTo wR="21600" hR="8755" stAng="-10645578" swAng="5245578"/>
                <a:close/>
              </a:path>
              <a:path fill="darkenLess" w="21600" h="21600">
                <a:moveTo>
                  <a:pt x="21600" y="0"/>
                </a:moveTo>
                <a:arcTo wR="21600" hR="8755" stAng="-5400000" swAng="-5400000"/>
                <a:lnTo>
                  <a:pt x="0" y="8755"/>
                </a:lnTo>
                <a:arcTo wR="21600" hR="8755" stAng="10800000" swAng="-154422"/>
                <a:lnTo>
                  <a:pt x="132" y="9720"/>
                </a:lnTo>
                <a:arcTo wR="21600" hR="8755" stAng="-10645578" swAng="524557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458200" cy="585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2133720"/>
            <a:ext cx="7010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84872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77120" y="563868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Відкрити повнотекстовий доку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7008840" cy="5073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4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 за фон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ВАГА!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Фонд повтотекстових електронних документів постійно збільшуєт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cropped-галочка-1"/>
          <p:cNvPicPr/>
          <p:nvPr/>
        </p:nvPicPr>
        <p:blipFill>
          <a:blip r:embed="rId4"/>
          <a:stretch/>
        </p:blipFill>
        <p:spPr>
          <a:xfrm>
            <a:off x="457200" y="20574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19920" y="4495680"/>
            <a:ext cx="1676160" cy="1828800"/>
          </a:xfrm>
          <a:prstGeom prst="wedgeRoundRectCallout">
            <a:avLst>
              <a:gd name="adj1" fmla="val -57384"/>
              <a:gd name="adj2" fmla="val -10937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4646880"/>
            <a:ext cx="167616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Загальна кількі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Arial"/>
              </a:rPr>
              <a:t>29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cc0000"/>
                </a:solidFill>
                <a:latin typeface="Arial"/>
              </a:rPr>
              <a:t>докумен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(на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24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.02.2020 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7:15:41Z</dcterms:created>
  <dc:creator>user205b</dc:creator>
  <dc:description/>
  <dc:language>en-US</dc:language>
  <cp:lastModifiedBy>user205b</cp:lastModifiedBy>
  <dcterms:modified xsi:type="dcterms:W3CDTF">2020-02-25T10:10:21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