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45EBD-A151-4A5F-AB57-CB0C66D55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272E1-8759-4512-9D5D-9896CE63F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B77F2-EDD7-4F83-A5E0-B9737317D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949A9-4748-4EB5-95A5-9CF4B86B5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A2EFC-6D6C-4A05-9397-A4AF3EF11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6792F-EB50-4AF8-A732-F82F72087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B16DE-9031-45F6-9375-BF41BAE4F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82360-3D34-494A-903B-9C2A4D9FC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26841-3B2A-4E17-A8D3-5C62D893A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2061A-0637-44D0-97E5-4A8B1E4E5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7F19D-8450-481E-835F-33F7C2B6F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D161C-4BC4-45DA-896E-311C96B8D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32F66-70A5-4F3D-9530-0DF8A8745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0D625-1B6D-4659-862A-C44B6759B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ED999-1318-4E41-818C-167D59D41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5D718-CA84-440A-B322-6AC361A07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75B0E-0D12-427B-8264-23DB53147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75742-9FD0-40BB-9ED4-E7780D8DE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C34B6-09DB-488D-9F25-88A15C8D5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4EDDE-C61C-4C58-A09D-44C2B4EF4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7C117-F284-4C09-9F9A-5CB17142D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383B3-B430-4FE6-A0E8-C8A4FD051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B7216-A858-4A59-9129-722A55413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A2413-8964-4684-96DA-371DB6883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6BFA4-F9C8-4C00-881A-C72B5EBF3AA7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3567E-53BC-497B-955D-C4743E40C7B4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429000" y="228240"/>
            <a:ext cx="5410080" cy="25146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66ff"/>
                </a:solidFill>
                <a:latin typeface="Times New Roman"/>
              </a:rPr>
              <a:t>МІНІСТЕРСТВО ОСВІТИ І НАУКИ УКРАЇНИ</a:t>
            </a:r>
            <a:br>
              <a:rPr sz="2000"/>
            </a:br>
            <a:br>
              <a:rPr sz="2000"/>
            </a:br>
            <a:r>
              <a:rPr b="1" lang="uk-UA" sz="2000" spc="-1" strike="noStrike">
                <a:solidFill>
                  <a:srgbClr val="0066ff"/>
                </a:solidFill>
                <a:latin typeface="Times New Roman"/>
              </a:rPr>
              <a:t>ХАРКІВСЬКИЙ НАЦІОНАЛЬНИЙ </a:t>
            </a:r>
            <a:br>
              <a:rPr sz="2000"/>
            </a:br>
            <a:r>
              <a:rPr b="1" lang="uk-UA" sz="2000" spc="-1" strike="noStrike">
                <a:solidFill>
                  <a:srgbClr val="0066ff"/>
                </a:solidFill>
                <a:latin typeface="Times New Roman"/>
              </a:rPr>
              <a:t>ПЕДАГОГІЧНИЙ УНІВЕРСИТЕТ ІМЕНИ</a:t>
            </a:r>
            <a:br>
              <a:rPr sz="2000"/>
            </a:br>
            <a:r>
              <a:rPr b="1" lang="uk-UA" sz="2000" spc="-1" strike="noStrike">
                <a:solidFill>
                  <a:srgbClr val="0066ff"/>
                </a:solidFill>
                <a:latin typeface="Times New Roman"/>
              </a:rPr>
              <a:t>Г. С. СКОВОРОДИ</a:t>
            </a:r>
            <a:br>
              <a:rPr sz="2000"/>
            </a:br>
            <a:br>
              <a:rPr sz="2000"/>
            </a:br>
            <a:r>
              <a:rPr b="1" lang="uk-UA" sz="2000" spc="-1" strike="noStrike">
                <a:solidFill>
                  <a:srgbClr val="0066ff"/>
                </a:solidFill>
                <a:latin typeface="Times New Roman"/>
              </a:rPr>
              <a:t>НАУКОВА БІБЛІОТЕКА</a:t>
            </a:r>
            <a:endParaRPr b="0" lang="en-US" sz="2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676520" y="3580920"/>
            <a:ext cx="624816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66ff"/>
                </a:solidFill>
                <a:latin typeface="Comic Sans MS"/>
              </a:rPr>
              <a:t>Бібліотека як інформаційно-пошукова система</a:t>
            </a:r>
            <a:r>
              <a:rPr b="1" lang="uk-UA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"/>
          <p:cNvSpPr/>
          <p:nvPr/>
        </p:nvSpPr>
        <p:spPr>
          <a:xfrm>
            <a:off x="228600" y="2057400"/>
            <a:ext cx="2895480" cy="1600200"/>
          </a:xfrm>
          <a:prstGeom prst="ellipse">
            <a:avLst/>
          </a:prstGeom>
          <a:solidFill>
            <a:srgbClr val="ffb8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omic Sans MS"/>
              </a:rPr>
              <a:t>61002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uk-UA" sz="1800" spc="-1" strike="noStrike">
                <a:solidFill>
                  <a:srgbClr val="000000"/>
                </a:solidFill>
                <a:latin typeface="Comic Sans MS"/>
              </a:rPr>
              <a:t>м. ХАРКІ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omic Sans MS"/>
              </a:rPr>
              <a:t>вул. АЛЧЕВСЬКИХ, 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т. (057) 717-10-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omic Sans MS"/>
              </a:rPr>
              <a:t>е-mail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:</a:t>
            </a:r>
            <a:r>
              <a:rPr b="1" lang="uk-UA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hnpu.edu.u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304920" y="304920"/>
            <a:ext cx="7696080" cy="5700600"/>
          </a:xfrm>
          <a:prstGeom prst="rect">
            <a:avLst/>
          </a:prstGeom>
          <a:noFill/>
          <a:ln w="57240">
            <a:solidFill>
              <a:srgbClr val="ffb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b200"/>
                </a:solidFill>
                <a:latin typeface="Comic Sans MS"/>
              </a:rPr>
              <a:t>Електро́нний катало́г</a:t>
            </a:r>
            <a:r>
              <a:rPr b="0" lang="uk-UA" sz="2800" spc="-1" strike="noStrike">
                <a:solidFill>
                  <a:srgbClr val="000000"/>
                </a:solidFill>
                <a:latin typeface="Comic Sans MS"/>
              </a:rPr>
              <a:t> (скор.: е-каталог, англ. e-catalog, ЕК) — машиночитний бібліотечний каталог, що працює в реальному часі та доступний читачам. За сутністю ЕК — це систематизована бібліографічна  база даних, яка поєднує функції традиційних (алфавітного, систематичного, предметного, топографічного) карткових каталогів і картотек бібліотеки, забезпечує якісний, оперативний, багатоаспектний пошук інформації і надає її у зручній для користувача формі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7848720" cy="5486400"/>
          </a:xfrm>
          <a:prstGeom prst="rect">
            <a:avLst/>
          </a:prstGeom>
          <a:ln w="76320">
            <a:solidFill>
              <a:srgbClr val="0066ff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687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703dff"/>
                </a:solidFill>
                <a:latin typeface="Comic Sans MS"/>
              </a:rPr>
              <a:t>Переваги е-каталогу</a:t>
            </a:r>
            <a:r>
              <a:rPr b="0" lang="uk-UA" sz="4400" spc="-1" strike="noStrike">
                <a:solidFill>
                  <a:srgbClr val="703dff"/>
                </a:solidFill>
                <a:latin typeface="Comic Sans MS"/>
              </a:rPr>
              <a:t>: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848720" cy="4419360"/>
          </a:xfrm>
          <a:prstGeom prst="rect">
            <a:avLst/>
          </a:prstGeom>
          <a:noFill/>
          <a:ln w="76320">
            <a:solidFill>
              <a:srgbClr val="703d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uk-UA" sz="2800" spc="-1" strike="noStrike">
                <a:solidFill>
                  <a:srgbClr val="000000"/>
                </a:solidFill>
                <a:latin typeface="Comic Sans MS"/>
              </a:rPr>
              <a:t>електронний облік бібліотечного фонду;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uk-UA" sz="2800" spc="-1" strike="noStrike">
                <a:solidFill>
                  <a:srgbClr val="000000"/>
                </a:solidFill>
                <a:latin typeface="Comic Sans MS"/>
              </a:rPr>
              <a:t>електронне замовлення видань;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uk-UA" sz="2800" spc="-1" strike="noStrike">
                <a:solidFill>
                  <a:srgbClr val="000000"/>
                </a:solidFill>
                <a:latin typeface="Comic Sans MS"/>
              </a:rPr>
              <a:t>електронна книговидача;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uk-UA" sz="2800" spc="-1" strike="noStrike">
                <a:solidFill>
                  <a:srgbClr val="000000"/>
                </a:solidFill>
                <a:latin typeface="Comic Sans MS"/>
              </a:rPr>
              <a:t>інформація про місцезнаходження та доступність екземпляра документа у будь-який момент часу;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uk-UA" sz="2800" spc="-1" strike="noStrike">
                <a:solidFill>
                  <a:srgbClr val="000000"/>
                </a:solidFill>
                <a:latin typeface="Comic Sans MS"/>
              </a:rPr>
              <a:t>електронна перевірка фонду (інвентаризація) тощо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380880" y="533520"/>
            <a:ext cx="8382240" cy="521316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omic Sans MS"/>
              </a:rPr>
              <a:t>Пошук документів можна здійснювати як за атрибутами (автор, назва, місце та рік видання, інші вихідні відомості), так і за тематикою документів через рубрику "Пошук теми" та за допомогою класифікаторів. Пошук за атрибутами можливий за розширеним та скороченим переліком полів. Розширений перелік полів вимагає введення додаткових відомостей про документ: місце видання, видавництво, ISBN і ISSN, УДК, ББК та анотаці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76320">
            <a:solidFill>
              <a:srgbClr val="ffb8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66ff"/>
                </a:solidFill>
                <a:latin typeface="Comic Sans MS"/>
              </a:rPr>
              <a:t>Електронний архів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560" y="2133360"/>
            <a:ext cx="8381880" cy="3809880"/>
          </a:xfrm>
          <a:prstGeom prst="rect">
            <a:avLst/>
          </a:prstGeom>
          <a:noFill/>
          <a:ln w="76320">
            <a:solidFill>
              <a:srgbClr val="0066ff"/>
            </a:solidFill>
            <a:miter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uk-UA" sz="2400" spc="-1" strike="noStrike">
                <a:solidFill>
                  <a:srgbClr val="000000"/>
                </a:solidFill>
                <a:latin typeface="Comic Sans MS"/>
              </a:rPr>
              <a:t>Входження України до єдиного інформаційного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uk-UA" sz="2400" spc="-1" strike="noStrike">
                <a:solidFill>
                  <a:srgbClr val="000000"/>
                </a:solidFill>
                <a:latin typeface="Comic Sans MS"/>
              </a:rPr>
              <a:t>простору та інтенсивний розвиток інформаційно-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uk-UA" sz="2400" spc="-1" strike="noStrike">
                <a:solidFill>
                  <a:srgbClr val="000000"/>
                </a:solidFill>
                <a:latin typeface="Comic Sans MS"/>
              </a:rPr>
              <a:t>комунікаційних технологій призвели до стрімкого накопичення документів та інформаційних ресурсів з цифровими носіями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uk-UA" sz="2400" spc="-1" strike="noStrike">
                <a:solidFill>
                  <a:srgbClr val="0066ff"/>
                </a:solidFill>
                <a:latin typeface="Comic Sans MS"/>
              </a:rPr>
              <a:t>Електронний архів</a:t>
            </a:r>
            <a:r>
              <a:rPr b="1" lang="uk-UA" sz="2400" spc="-1" strike="noStrike">
                <a:solidFill>
                  <a:srgbClr val="000000"/>
                </a:solidFill>
                <a:latin typeface="Comic Sans MS"/>
              </a:rPr>
              <a:t> - інформаційна система, що приймає, зберігає та надає користувачам та державним архівам доступ до архівних документів в електронному вигляді (профільні документи) тривалого або постійного термінів зберігання.</a:t>
            </a:r>
            <a:r>
              <a:rPr b="0" lang="uk-U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703dff"/>
                </a:solidFill>
                <a:latin typeface="Comic Sans MS"/>
              </a:rPr>
              <a:t>ПРАКТИЧНІ ЗАВДАННЯ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6705360" cy="3657600"/>
          </a:xfrm>
          <a:prstGeom prst="rect">
            <a:avLst/>
          </a:prstGeom>
          <a:noFill/>
          <a:ln w="57240">
            <a:solidFill>
              <a:srgbClr val="00b2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 u="sng">
                <a:solidFill>
                  <a:srgbClr val="00b200"/>
                </a:solidFill>
                <a:uFillTx/>
                <a:latin typeface="Comic Sans MS"/>
              </a:rPr>
              <a:t>Пошук по ключовим словам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STEM-освіт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Болонський процес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Література рідного краю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Шкідливі звички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Історія граматики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 u="sng">
                <a:solidFill>
                  <a:srgbClr val="703dff"/>
                </a:solidFill>
                <a:uFillTx/>
                <a:latin typeface="Comic Sans MS"/>
              </a:rPr>
              <a:t>ПОШУК ЗА ПРІЗВИЩЕМ АВТОРА ПУБЛІКАЦІЇ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90720" y="1676160"/>
            <a:ext cx="5486400" cy="3733560"/>
          </a:xfrm>
          <a:prstGeom prst="rect">
            <a:avLst/>
          </a:prstGeom>
          <a:noFill/>
          <a:ln w="76320">
            <a:solidFill>
              <a:srgbClr val="ffb8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Times New Roman"/>
              </a:rPr>
              <a:t>Сковорода Г. С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Times New Roman"/>
              </a:rPr>
              <a:t>Сухомлинський В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Times New Roman"/>
              </a:rPr>
              <a:t>Прокопенко І. Ф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Times New Roman"/>
              </a:rPr>
              <a:t>Лозова В. І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Times New Roman"/>
              </a:rPr>
              <a:t>Дорошенко С. І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Times New Roman"/>
              </a:rPr>
              <a:t>Шевченко Т. Г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648972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 u="sng">
                <a:solidFill>
                  <a:srgbClr val="703dff"/>
                </a:solidFill>
                <a:uFillTx/>
                <a:latin typeface="Comic Sans MS"/>
              </a:rPr>
              <a:t>ПОШУК ЗА НАЗВОЮ ДОКУМЕНТА: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7467480" cy="3429000"/>
          </a:xfrm>
          <a:prstGeom prst="rect">
            <a:avLst/>
          </a:prstGeom>
          <a:noFill/>
          <a:ln w="76320">
            <a:solidFill>
              <a:srgbClr val="ffef66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МЕТОДИКА ВИКЛАДАННЯ УКРАЇНОЗНАВСТВ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БІОЛОГІЯ І ХІМІЯ В РІДНІЙ ШКОЛІ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УКРАЇНСЬКА …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МЕДІАОСВІТ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ПЕДАГОГІКА ТА ПСИХОЛОГІЯ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ТЕСТОВІ ТЕХНОЛОГІЇ ОЦІНЮВАННЯ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 u="sng">
                <a:solidFill>
                  <a:srgbClr val="703dff"/>
                </a:solidFill>
                <a:uFillTx/>
                <a:latin typeface="Comic Sans MS"/>
              </a:rPr>
              <a:t>ПОШУК ДОКУМЕНТІВ ЗА ДАТОЮ РЕЄСТРАЦІЇ: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010280" cy="350532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mic Sans MS"/>
              </a:rPr>
              <a:t>З 12.06.2010 по 25.12.2011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mic Sans MS"/>
              </a:rPr>
              <a:t>З 27.04.2013 по 16.11.2014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mic Sans MS"/>
              </a:rPr>
              <a:t>З 18.09.2016 по 30.09.2016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mic Sans MS"/>
              </a:rPr>
              <a:t>З 26.01.2017 по 26.02.2017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mic Sans MS"/>
              </a:rPr>
              <a:t>З 27.08.2018 по 7.09.2018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 u="sng">
                <a:solidFill>
                  <a:srgbClr val="703dff"/>
                </a:solidFill>
                <a:uFillTx/>
                <a:latin typeface="Comic Sans MS"/>
              </a:rPr>
              <a:t>ПОШУК ЛІТЕРАТУРИ ЗА ТЕМОЮ: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3810240"/>
          </a:xfrm>
          <a:prstGeom prst="rect">
            <a:avLst/>
          </a:prstGeom>
          <a:noFill/>
          <a:ln w="76320">
            <a:solidFill>
              <a:srgbClr val="ffef66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Історія педагогіки України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Русова С. Ф., Макаренко А. С.,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Патріотичне виховання (дошкільників, учнів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Інклюзивна педагогік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Булінг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Екологічне виховання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09680" y="152280"/>
            <a:ext cx="5346720" cy="1524240"/>
          </a:xfrm>
          <a:prstGeom prst="rect">
            <a:avLst/>
          </a:prstGeom>
          <a:solidFill>
            <a:srgbClr val="ffef66"/>
          </a:solidFill>
          <a:ln w="76320">
            <a:solidFill>
              <a:srgbClr val="703dff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703dff"/>
                </a:solidFill>
                <a:uFillTx/>
                <a:latin typeface="Comic Sans MS"/>
              </a:rPr>
              <a:t>«…библиотекарь должен сам всем приходящим учтиво, ласково и</a:t>
            </a:r>
            <a:r>
              <a:rPr b="1" lang="en-US" sz="1600" spc="-1" strike="noStrike" u="sng">
                <a:solidFill>
                  <a:srgbClr val="703dff"/>
                </a:solidFill>
                <a:uFillTx/>
                <a:latin typeface="Comic Sans MS"/>
              </a:rPr>
              <a:t> </a:t>
            </a:r>
            <a:r>
              <a:rPr b="1" lang="ru-RU" sz="1600" spc="-1" strike="noStrike" u="sng">
                <a:solidFill>
                  <a:srgbClr val="703dff"/>
                </a:solidFill>
                <a:uFillTx/>
                <a:latin typeface="Comic Sans MS"/>
              </a:rPr>
              <a:t>помощником к</a:t>
            </a:r>
            <a:br>
              <a:rPr sz="1600"/>
            </a:br>
            <a:r>
              <a:rPr b="1" lang="ru-RU" sz="1600" spc="-1" strike="noStrike" u="sng">
                <a:solidFill>
                  <a:srgbClr val="703dff"/>
                </a:solidFill>
                <a:uFillTx/>
                <a:latin typeface="Comic Sans MS"/>
              </a:rPr>
              <a:t>приобретению полезного знания себя показывать, и способы подавать».</a:t>
            </a:r>
            <a:br>
              <a:rPr sz="1600"/>
            </a:br>
            <a:r>
              <a:rPr b="1" lang="ru-RU" sz="1600" spc="-1" strike="noStrike" u="sng">
                <a:solidFill>
                  <a:srgbClr val="703dff"/>
                </a:solidFill>
                <a:uFillTx/>
                <a:latin typeface="Comic Sans MS"/>
              </a:rPr>
              <a:t>В. Н. Татищев, XVIII в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0" y="1828800"/>
            <a:ext cx="8686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uk-UA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uk-UA" sz="2000" spc="-1" strike="noStrike">
                <a:solidFill>
                  <a:srgbClr val="000000"/>
                </a:solidFill>
                <a:latin typeface="Comic Sans MS"/>
              </a:rPr>
              <a:t>В умовах інформатизації бібліографічна діяльність бібліотек як соціальних інститутів набуває нових напрямів розвитку. Вони пов’язані, по-перше, з розвитком інформаційної культури особистості та інформаційної культури суспільства, з ускладненням системи інформаційних потреб споживачів; по-друге, з удосконаленням засобів інформаційно-бібліографічної діяльності, зокрема комп’ютерних технологій, формуванням різних інформаційних каналів, через які бібліографічна діяльність реалізує свої соціальні функції, з залученням в арсенал бібліографічної діяльності інформаційних технологій. Нові інформаційні реалії диктують нові умови щодо якості, повноти та оперативності довідково-інформаційного та бібліографічного обслуговування. Місія бібліотеки ВНЗ – бути центром інтегрованого інформаційного забезпечення навчального і наукового процесів, інформаційно-бібліотечним комплексом, що не тільки зберігає інформацію, а й надає послуги навігації в освітньому просторі, дає змогу забезпечувати онлайновий доступ до світових інформаційних ресурсів, поглиблювати пошук відповідної інформації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120" y="304920"/>
            <a:ext cx="7162920" cy="914400"/>
          </a:xfrm>
          <a:prstGeom prst="rect">
            <a:avLst/>
          </a:prstGeom>
          <a:noFill/>
          <a:ln w="76320">
            <a:solidFill>
              <a:srgbClr val="703dff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200"/>
                </a:solidFill>
                <a:latin typeface="Comic Sans MS"/>
              </a:rPr>
              <a:t>Електронна бібліотек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"/>
          <p:cNvSpPr/>
          <p:nvPr/>
        </p:nvSpPr>
        <p:spPr>
          <a:xfrm>
            <a:off x="304920" y="1523880"/>
            <a:ext cx="8381880" cy="4359960"/>
          </a:xfrm>
          <a:prstGeom prst="rect">
            <a:avLst/>
          </a:prstGeom>
          <a:noFill/>
          <a:ln w="7632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mic Sans MS"/>
              </a:rPr>
              <a:t>Електро́на бібліоте́ка (англ. Digital library) — розподілена інформаційна система, що дозволяє зберігати і використовувати різнорідні колекції електронних документів завдяки глобальним мережам передачі даних в зручному, для кінцевого користувача, вигляді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uk-UA" sz="2800" spc="-1" strike="noStrike">
                <a:solidFill>
                  <a:srgbClr val="000000"/>
                </a:solidFill>
                <a:latin typeface="Comic Sans MS"/>
              </a:rPr>
              <a:t>Основні задачі електронної бібліотеки – інтеграція інформаційних ресурсів і ефективна навігація в ни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914400"/>
          </a:xfrm>
          <a:prstGeom prst="rect">
            <a:avLst/>
          </a:prstGeom>
          <a:noFill/>
          <a:ln w="76320">
            <a:solidFill>
              <a:srgbClr val="00b2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0000"/>
                </a:solidFill>
                <a:latin typeface="Comic Sans MS"/>
              </a:rPr>
              <a:t>УФД/Бібліотек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6960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Розробка київської компанії «Український Фондовий Дім» система «УФД/Бібліотека» – одна із найбільш розповсюджених, оскільки має понад 300 впроваджень в Україні, у тому числі серед вищих навчальних закладів. АБІС характеризується великою функціональністю та гнучкістю, має україномовний зручний графічний інтерфейс. Система «УФД / Бібліотека» охоплює всі ділянки роботи бібліотеки: комплектування, обробку і каталогізацію, обслуговування читачів і ведення обліку роботи МБА, моніторинг статистичних показників роботи бібліотеки, взаємодію з читачами з питань комплектування, роботу з електронними документами, експорт та імпорт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304920" y="304920"/>
            <a:ext cx="4419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Автоматизована інформаційно-бібліотечна система "УФД/Бібліотека" призначена для комплексної автоматизації діяльності бібліотеки. Вона має забезпечити автоматизацію основних виробничих циклів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Відбір документів за різними ознаками, перегляд бібліографічних описів, відомостей про наявність та електронних копій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Каталогізація видань, створення аналітичних описів, підготовку бібліографічних довідок та покажчиків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Комплектування бібліотеки, облік та аналіз стану фонду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Обслуговування читачів: замовлення, видача та повернення літератури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257800" y="1752480"/>
            <a:ext cx="3200400" cy="4267440"/>
            <a:chOff x="5257800" y="1752480"/>
            <a:chExt cx="3200400" cy="4267440"/>
          </a:xfrm>
        </p:grpSpPr>
        <p:pic>
          <p:nvPicPr>
            <p:cNvPr id="162" name="" descr=""/>
            <p:cNvPicPr/>
            <p:nvPr/>
          </p:nvPicPr>
          <p:blipFill>
            <a:blip r:embed="rId1"/>
            <a:stretch/>
          </p:blipFill>
          <p:spPr>
            <a:xfrm>
              <a:off x="5257800" y="1752480"/>
              <a:ext cx="3200400" cy="426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" name=""/>
            <p:cNvSpPr txBox="1"/>
            <p:nvPr/>
          </p:nvSpPr>
          <p:spPr>
            <a:xfrm>
              <a:off x="5257800" y="1752480"/>
              <a:ext cx="3200400" cy="4267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80000"/>
                </a:lnSpc>
                <a:spcBef>
                  <a:spcPts val="451"/>
                </a:spcBef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295280" y="152280"/>
            <a:ext cx="6261120" cy="914400"/>
          </a:xfrm>
          <a:prstGeom prst="rect">
            <a:avLst/>
          </a:prstGeom>
          <a:noFill/>
          <a:ln w="76320">
            <a:solidFill>
              <a:srgbClr val="ffb8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b200"/>
                </a:solidFill>
                <a:latin typeface="Comic Sans MS"/>
              </a:rPr>
              <a:t>Основні можливості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29492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703dff"/>
                </a:solidFill>
                <a:latin typeface="Comic Sans MS"/>
              </a:rPr>
              <a:t>Система передбачає засоби для здійснення таких основних дій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b200"/>
                </a:solidFill>
                <a:latin typeface="Times New Roman"/>
              </a:rPr>
              <a:t>Для відбору та перегляду інформації електронного каталогу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Пошук документів за заданими критеріями (темами класифікаторів та значеннями полів бібліотечного опису або через зв'язки документів)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Сортування відібраних документів за вказаними критеріями в порядку зростання або зменшення значень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Ручний відбір документів шляхом складання переліку відібраних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Перегляд та друк інформації щодо документів у вигляді переліків, каталожних карток та повних бібліографічних описів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Перегляд інформації про наявність документів в фондах бібліотеки та інших місцях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6565680" cy="7621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703dff"/>
                </a:solidFill>
                <a:latin typeface="Comic Sans MS"/>
              </a:rPr>
              <a:t>Для каталогізації документів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14040" y="1066680"/>
            <a:ext cx="74674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Створення та підтримка засобів класифікації документів різного типу: класифікаторів (ББК, УДК), рубрикаторів, ключових слів та ін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Створення та підтримка авторитетних записів, різних переліків типових значень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Реєстрація (створення) бібліотечних описів документів відповідно держстандартам, зокрема 7.1-84, та стандартам USMARC та UNIMARC), реєстрація документів за зразком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Класифікація документів за обраними схемами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Опис зв'язків між документами (видання - номер - стаття, переклад - оригінал, серія - підсерія - випуск і т.і.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Внесення посилань на електронну копію документа, яка може зберігатися в базі даних системи, в локальній мережі бібліотеки, в мережі Internet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Поділ електронного каталогу між групами працівників бібліотеки за межами відповідальності та доступності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Друк каталожних карток різного типу шляхом застосування відповідних шаблонів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Складання бібліографічних довідок, покажчиків та інших документів шляхом застосування відповідних шаблонів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304920"/>
            <a:ext cx="71629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703dff"/>
                </a:solidFill>
                <a:latin typeface="Comic Sans MS"/>
              </a:rPr>
              <a:t>Також система забезпечує: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14040" y="1218960"/>
            <a:ext cx="7467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Наявність груп користувачів з визначеними правами на перегляд та коригування інформації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Запис і зберігання даних про факти коригування бібліографічних описів та іншої інформації в системі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Експорт та імпорт бібліотечних описів документів та інформації про наявність в форматі XML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Експорт та імпорт бібліотечних описів документів в форматах USMARC, UNIMARC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Експорт та імпорт інформації про читачів та організації в форматі XML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Ведення інформації про відвідування бібліотеки, послуги та масові заходи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Налагодження параметрів для пристосування системи до поточних потреб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703dff"/>
                </a:solidFill>
                <a:latin typeface="Comic Sans MS"/>
              </a:rPr>
              <a:t>Для комплектування бібліотеки: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Ведення інформації про книгопостачальників та їх пропозицій щодо придбання літератури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Ведення інформації про потреби в літературі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Засоби аналізу книгозабезпеченості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Ведення інформації про відмовлення читачам (в т.ч. через відсутність примірників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Складання замовлень на придбання літератури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Обробка партій літератури. Розподіл примірників за місцями розподілу та збереження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Складання актів надходження та списання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Ведення книг інвентарного та сумарного обліку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Аналіз стану фонду шляхом відбору примірників за різними ознаками та складання відповідних звітів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1503</cp:lastModifiedBy>
  <dcterms:modified xsi:type="dcterms:W3CDTF">2019-04-18T07:46:58Z</dcterms:modified>
  <cp:revision>1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