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10F-7DEF-4A6C-B892-67899F4B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C22-DEB0-4FA2-AFD0-0EE95DC8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C5F-CFE8-4040-92C5-9D93DB9A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59E-CD66-48D0-9F87-CCF81656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5476-F8B6-4267-B8BC-F248EEC0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EE4B-227D-4C36-9EF2-2FA2985B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5CA2-1932-45D0-8E98-1919BC42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CB1B-1A34-484E-B529-A895578A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08D2-8E32-4455-AA92-FEE3EFC2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3FC9-282C-4A89-B992-0ABFFF23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489-F63B-4216-9F63-2518B5F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E26-501D-4F3E-A768-C1AD8430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0897-AC30-4915-941B-367F32CB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A2CD-4352-4614-8C74-B1539BDD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7353-FA58-4A4D-8173-9B5F6035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A242-665F-4AA1-B4DD-1BB9821D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E8F8-2518-4139-8D5F-D66B3F99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2F4-0172-4C71-9270-F843B34A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084-2361-4754-A15F-5137CE3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723-0111-45F0-B411-27F3F51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2CD-0774-44F7-AD33-E81BBE8B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48F-B1FC-41E3-B2A8-E542CBC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893-D2B9-49F8-A328-3AA80735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6B1-F201-4418-91E0-46606B0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4286-6AAC-485D-AFF7-6362278CFC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14A2-D080-429E-94D7-8918D48CF8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5410080" cy="251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МІНІСТЕРСТВО ОСВІТИ І НАУКИ УКРАЇНИ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ХАРКІВСЬКИЙ НАЦІОНАЛЬНИЙ </a:t>
            </a: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ПЕДАГОГІЧНИЙ УНІВЕРСИТЕТ ІМЕНИ</a:t>
            </a: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Г. С. СКОВОРОДИ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0066ff"/>
                </a:solidFill>
                <a:latin typeface="Times New Roman"/>
              </a:rPr>
              <a:t>НАУКОВА БІБЛІОТЕКА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Comic Sans MS"/>
              </a:rPr>
              <a:t>Бібліотека як інформаційно-пошукова система</a:t>
            </a:r>
            <a:r>
              <a:rPr b="1" lang="uk-U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057400"/>
            <a:ext cx="2895480" cy="1600200"/>
          </a:xfrm>
          <a:prstGeom prst="ellipse">
            <a:avLst/>
          </a:prstGeom>
          <a:solidFill>
            <a:srgbClr val="ffb8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6100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. ХАР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ул. АЛЧЕВСЬКИХ,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. (057) 717-10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е-mail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npu.edu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304920"/>
            <a:ext cx="7696080" cy="5700600"/>
          </a:xfrm>
          <a:prstGeom prst="rect">
            <a:avLst/>
          </a:prstGeom>
          <a:noFill/>
          <a:ln w="5724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200"/>
                </a:solidFill>
                <a:latin typeface="Comic Sans MS"/>
              </a:rPr>
              <a:t>Електро́нний катало́г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(скор.: е-каталог, англ. e-catalog, ЕК) — машиночитний бібліотечний каталог, що працює в реальному часі та доступний читачам. За сутністю ЕК — це систематизована бібліографічна  база даних, яка поєднує функції традиційних (алфавітного, систематичного, предметного, топографічного) карткових каталогів і картотек бібліотеки, забезпечує якісний, оперативний, багатоаспектний пошук інформації і надає її у зручній для користувача формі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848720" cy="5486400"/>
          </a:xfrm>
          <a:prstGeom prst="rect">
            <a:avLst/>
          </a:prstGeom>
          <a:ln w="7632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dff"/>
                </a:solidFill>
                <a:latin typeface="Comic Sans MS"/>
              </a:rPr>
              <a:t>Переваги е-каталогу</a:t>
            </a:r>
            <a:r>
              <a:rPr b="0" lang="uk-UA" sz="4400" spc="-1" strike="noStrike">
                <a:solidFill>
                  <a:srgbClr val="703dff"/>
                </a:solidFill>
                <a:latin typeface="Comic Sans MS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ий облік бібліотечного фонд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е замовлення видан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а книговидача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інформація про місцезнаходження та доступність екземпляра документа у будь-який момент часу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електронна перевірка фонду (інвентаризація) тощ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533520"/>
            <a:ext cx="8382240" cy="5213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ошук документів можна здійснювати як за атрибутами (автор, назва, місце та рік видання, інші вихідні відомості), так і за тематикою документів через рубрику "Пошук теми" та за допомогою класифікаторів. Пошук за атрибутами можливий за розширеним та скороченим переліком полів. Розширений перелік полів вимагає введення додаткових відомостей про документ: місце видання, видавництво, ISBN і ISSN, УДК, ББК та анота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ff"/>
                </a:solidFill>
                <a:latin typeface="Comic Sans MS"/>
              </a:rPr>
              <a:t>Електронний архі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81880" cy="38098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ходження України до єдиного інформацій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простору та інтенсивний розвиток інформаційно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комунікаційних технологій призвели до стрімкого накопичення документів та інформаційних ресурсів з цифровими носія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66ff"/>
                </a:solidFill>
                <a:latin typeface="Comic Sans MS"/>
              </a:rPr>
              <a:t>Електронний архів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- інформаційна система, що приймає, зберігає та надає користувачам та державним архівам доступ до архівних документів в електронному вигляді (профільні документи) тривалого або постійного термінів зберігання.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dff"/>
                </a:solidFill>
                <a:latin typeface="Comic Sans MS"/>
              </a:rPr>
              <a:t>ПРАКТИЧНІ ЗАВДАН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6705360" cy="365760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b200"/>
                </a:solidFill>
                <a:uFillTx/>
                <a:latin typeface="Comic Sans MS"/>
              </a:rPr>
              <a:t>Пошук по ключовим слова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STEM-осві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олонський проце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ітература рідного кра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Шкідливі звич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сторія грама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ЗА ПРІЗВИЩЕМ АВТОРА ПУБЛІКАЦІЇ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5486400" cy="373356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коворода Г. 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ухомлинський 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копенко І. Ф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озова В. 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орошенко С. 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Шевченко Т.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489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ЗА НАЗВОЮ ДОКУМЕНТ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467480" cy="3429000"/>
          </a:xfrm>
          <a:prstGeom prst="rect">
            <a:avLst/>
          </a:prstGeom>
          <a:noFill/>
          <a:ln w="76320">
            <a:solidFill>
              <a:srgbClr val="ffe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ТОДИКА ВИКЛАДАННЯ УКРАЇНОЗНАВ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ІОЛОГІЯ І ХІМІЯ В РІДНІЙ ШКОЛ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КРАЇНСЬКА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ДІАОСВІ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ЕДАГОГІКА ТА ПСИХОЛОГІ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ЕСТОВІ ТЕХНОЛОГІЇ ОЦІНЮВА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ДОКУМЕНТІВ ЗА ДАТОЮ РЕЄСТРАЦІЇ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10280" cy="3505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12.06.2010 по 25.12.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7.04.2013 по 16.11.201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18.09.2016 по 30.09.201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6.01.2017 по 26.02.20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 27.08.2018 по 7.09.2018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703dff"/>
                </a:solidFill>
                <a:uFillTx/>
                <a:latin typeface="Comic Sans MS"/>
              </a:rPr>
              <a:t>ПОШУК ЛІТЕРАТУРИ ЗА ТЕМОЮ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810240"/>
          </a:xfrm>
          <a:prstGeom prst="rect">
            <a:avLst/>
          </a:prstGeom>
          <a:noFill/>
          <a:ln w="76320">
            <a:solidFill>
              <a:srgbClr val="ffe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сторія педагогіки Украї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усова С. Ф., Макаренко А. С.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тріотичне виховання (дошкільників, учні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нклюзивна педагогі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улін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кологічне вихова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09680" y="152280"/>
            <a:ext cx="5346720" cy="1524240"/>
          </a:xfrm>
          <a:prstGeom prst="rect">
            <a:avLst/>
          </a:prstGeom>
          <a:solidFill>
            <a:srgbClr val="ffef66"/>
          </a:solidFill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«…библиотекарь должен сам всем приходящим учтиво, ласково и</a:t>
            </a:r>
            <a:r>
              <a:rPr b="1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омощником к</a:t>
            </a:r>
            <a:br>
              <a:rPr sz="1600"/>
            </a:b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риобретению полезного знания себя показывать, и способы подавать».</a:t>
            </a:r>
            <a:br>
              <a:rPr sz="1600"/>
            </a:b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В. Н. Татищев, XVIII 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В умовах інформатизації бібліографічна діяльність бібліотек як соціальних інститутів набуває нових напрямів розвитку. Вони пов’язані, по-перше, з розвитком інформаційної культури особистості та інформаційної культури суспільства, з ускладненням системи інформаційних потреб споживачів; по-друге, з удосконаленням засобів інформаційно-бібліографічної діяльності, зокрема комп’ютерних технологій, формуванням різних інформаційних каналів, через які бібліографічна діяльність реалізує свої соціальні функції, з залученням в арсенал бібліографічної діяльності інформаційних технологій. Нові інформаційні реалії диктують нові умови щодо якості, повноти та оперативності довідково-інформаційного та бібліографічного обслуговування. Місія бібліотеки ВНЗ – бути центром інтегрованого інформаційного забезпечення навчального і наукового процесів, інформаційно-бібліотечним комплексом, що не тільки зберігає інформацію, а й надає послуги навігації в освітньому просторі, дає змогу забезпечувати онлайновий доступ до світових інформаційних ресурсів, поглиблювати пошук відповідної інформації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162920" cy="91440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Електронна бібліот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523880"/>
            <a:ext cx="8381880" cy="4359960"/>
          </a:xfrm>
          <a:prstGeom prst="rect">
            <a:avLst/>
          </a:pr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Електро́на бібліоте́ка (англ. Digital library) — розподілена інформаційна система, що дозволяє зберігати і використовувати різнорідні колекції електронних документів завдяки глобальним мережам передачі даних в зручному, для кінцевого користувача, вигля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сновні задачі електронної бібліотеки – інтеграція інформаційних ресурсів і ефективна навігація в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76320">
            <a:solidFill>
              <a:srgbClr val="00b2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УФД/Бібліот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робка київської компанії «Український Фондовий Дім» система «УФД/Бібліотека» – одна із найбільш розповсюджених, оскільки має понад 300 впроваджень в Україні, у тому числі серед вищих навчальних закладів. АБІС характеризується великою функціональністю та гнучкістю, має україномовний зручний графічний інтерфейс. Система «УФД / Бібліотека» охоплює всі ділянки роботи бібліотеки: комплектування, обробку і каталогізацію, обслуговування читачів і ведення обліку роботи МБА, моніторинг статистичних показників роботи бібліотеки, взаємодію з читачами з питань комплектування, роботу з електронними документами, експорт та імпор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4419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втоматизована інформаційно-бібліотечна система "УФД/Бібліотека" призначена для комплексної автоматизації діяльності бібліотеки. Вона має забезпечити автоматизацію основних виробничих циклі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ідбір документів за різними ознаками, перегляд бібліографічних описів, відомостей про наявність та електронних копі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аталогізація видань, створення аналітичних описів, підготовку бібліографічних довідок та покажчик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омплектування бібліотеки, облік та аналіз стану фонд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бслуговування читачів: замовлення, видача та повернення літератур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57800" y="1752480"/>
            <a:ext cx="3200400" cy="4267440"/>
            <a:chOff x="5257800" y="1752480"/>
            <a:chExt cx="3200400" cy="42674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5257800" y="1752480"/>
              <a:ext cx="32004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5257800" y="1752480"/>
              <a:ext cx="3200400" cy="426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261120" cy="914400"/>
          </a:xfrm>
          <a:prstGeom prst="rect">
            <a:avLst/>
          </a:prstGeom>
          <a:noFill/>
          <a:ln w="76320">
            <a:solidFill>
              <a:srgbClr val="ffb8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200"/>
                </a:solidFill>
                <a:latin typeface="Comic Sans MS"/>
              </a:rPr>
              <a:t>Основні можливості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dff"/>
                </a:solidFill>
                <a:latin typeface="Comic Sans MS"/>
              </a:rPr>
              <a:t>Система передбачає засоби для здійснення таких основних ді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b200"/>
                </a:solidFill>
                <a:latin typeface="Times New Roman"/>
              </a:rPr>
              <a:t>Для відбору та перегляду інформації електронного каталог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ошук документів за заданими критеріями (темами класифікаторів та значеннями полів бібліотечного опису або через зв'язки документів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ортування відібраних документів за вказаними критеріями в порядку зростання або зменшення знач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учний відбір документів шляхом складання переліку відібран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егляд та друк інформації щодо документів у вигляді переліків, каталожних карток та повних бібліографічних опис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ерегляд інформації про наявність документів в фондах бібліотеки та інших місц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5656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dff"/>
                </a:solidFill>
                <a:latin typeface="Comic Sans MS"/>
              </a:rPr>
              <a:t>Для каталогізації документі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ворення та підтримка засобів класифікації документів різного типу: класифікаторів (ББК, УДК), рубрикаторів, ключових слів та і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ворення та підтримка авторитетних записів, різних переліків типових знач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еєстрація (створення) бібліотечних описів документів відповідно держстандартам, зокрема 7.1-84, та стандартам USMARC та UNIMARC), реєстрація документів за зразк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Класифікація документів за обраними схем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пис зв'язків між документами (видання - номер - стаття, переклад - оригінал, серія - підсерія - випуск і т.і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несення посилань на електронну копію документа, яка може зберігатися в базі даних системи, в локальній мережі бібліотеки, в мережі Int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оділ електронного каталогу між групами працівників бібліотеки за межами відповідальності та доступності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рук каталожних карток різного типу шляхом застосування відповідних шаблон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кладання бібліографічних довідок, покажчиків та інших документів шляхом застосування відповідних шаблоні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03dff"/>
                </a:solidFill>
                <a:latin typeface="Comic Sans MS"/>
              </a:rPr>
              <a:t>Також система забезпечує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явність груп користувачів з визначеними правами на перегляд та коригування інформаці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пис і зберігання даних про факти коригування бібліографічних описів та іншої інформації в систем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бібліотечних описів документів та інформації про наявність в форматі X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бібліотечних описів документів в форматах USMARC, UNIMAR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кспорт та імпорт інформації про читачів та організації в форматі X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відвідування бібліотеки, послуги та масові заход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лагодження параметрів для пристосування системи до поточних потре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03dff"/>
                </a:solidFill>
                <a:latin typeface="Comic Sans MS"/>
              </a:rPr>
              <a:t>Для комплектування бібліотек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книгопостачальників та їх пропозицій щодо придбання літератур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потреби в літератур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соби аналізу книгозабезпеченості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інформації про відмовлення читачам (в т.ч. через відсутність примірникі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кладання замовлень на придбання літератур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бробка партій літератури. Розподіл примірників за місцями розподілу та збереженн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кладання актів надходження та списанн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едення книг інвентарного та сумарного облі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наліз стану фонду шляхом відбору примірників за різними ознаками та складання відповідних звіті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503</cp:lastModifiedBy>
  <dcterms:modified xsi:type="dcterms:W3CDTF">2019-04-18T07:46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