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A96-562A-4689-AE3E-09F1EA1F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FB6-2300-489A-BB79-8C279DC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2D1-D962-4945-9A89-5385CD12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1AA-0C63-41A7-B7B0-53A8A1A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59C1-4485-4860-9162-2B815D15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0F1-23A5-4E2B-8F79-9C25A76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822F-D7F6-482F-8EAB-6F871F4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AC45-7734-4910-8943-FDF2146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994-1BC8-43EF-A688-0E60BB7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64E-1701-43D4-862B-CC0C72E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37FF-3B6B-4413-B9A3-7A0D3CC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231-80CB-4A77-ADA2-D6F8777B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B5C-A63F-480A-ACC6-8122B87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371-6157-4790-96C2-5B4E7398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274D-14DB-4A81-85F8-EB4E105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700-93BA-44B6-8F0A-412507CC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A6F9-5D7B-4E56-B504-53FFD63D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1EC-773A-4933-B13F-B39AF53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BBC-9ED5-41F6-9419-15B6AF7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E66-F61D-4B4C-9AD3-15A72DE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C9E-BAF9-4958-8061-C495D43E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C58-5CDA-4108-BB7F-FB8F41B3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AA9-7300-430C-B345-50BA9D6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594-6148-483D-9E0F-FEDF30E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6E61-4E34-4927-986D-185DA17DE4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ECD-00F2-4B86-B401-521C87138C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i.org/" TargetMode="External"/><Relationship Id="rId2" Type="http://schemas.openxmlformats.org/officeDocument/2006/relationships/hyperlink" Target="http://www.doi.org/" TargetMode="External"/><Relationship Id="rId3" Type="http://schemas.openxmlformats.org/officeDocument/2006/relationships/hyperlink" Target="http://www.doi.org/" TargetMode="External"/><Relationship Id="rId4" Type="http://schemas.openxmlformats.org/officeDocument/2006/relationships/hyperlink" Target="http://www.doi.org/" TargetMode="External"/><Relationship Id="rId5" Type="http://schemas.openxmlformats.org/officeDocument/2006/relationships/hyperlink" Target="http://www.doi.org/" TargetMode="External"/><Relationship Id="rId6" Type="http://schemas.openxmlformats.org/officeDocument/2006/relationships/hyperlink" Target="http://www.doi.org/" TargetMode="External"/><Relationship Id="rId7" Type="http://schemas.openxmlformats.org/officeDocument/2006/relationships/hyperlink" Target="http://www.doi.org/" TargetMode="External"/><Relationship Id="rId8" Type="http://schemas.openxmlformats.org/officeDocument/2006/relationships/hyperlink" Target="https://www.doi.org/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doi.org/10.15407/scin12.06.006" TargetMode="External"/><Relationship Id="rId2" Type="http://schemas.openxmlformats.org/officeDocument/2006/relationships/hyperlink" Target="https://doi.org/10.15407/scin12.06.006" TargetMode="External"/><Relationship Id="rId3" Type="http://schemas.openxmlformats.org/officeDocument/2006/relationships/hyperlink" Target="https://doi.org/10.15407/scin12.06.006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litopys.org.ua/links/intrans.htm" TargetMode="Externa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itethisforme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itationmachine.net/apa/cite-a-book" TargetMode="External"/><Relationship Id="rId2" Type="http://schemas.openxmlformats.org/officeDocument/2006/relationships/hyperlink" Target="http://www.bibme.org/apa/book-citation/manual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bibme.org/" TargetMode="External"/><Relationship Id="rId5" Type="http://schemas.openxmlformats.org/officeDocument/2006/relationships/hyperlink" Target="http://www.sourceaid.com/" TargetMode="External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eprints.kname.edu.ua/46333/1/metod.rec.DSTU2015.pdf" TargetMode="External"/><Relationship Id="rId2" Type="http://schemas.openxmlformats.org/officeDocument/2006/relationships/hyperlink" Target="https://doctorthinking.org/library/journals/digital_object_identifier/" TargetMode="External"/><Relationship Id="rId3" Type="http://schemas.openxmlformats.org/officeDocument/2006/relationships/hyperlink" Target="http://ela.kpi.ua/handle/123456789/18681" TargetMode="External"/><Relationship Id="rId4" Type="http://schemas.openxmlformats.org/officeDocument/2006/relationships/hyperlink" Target="http://ela.kpi.ua/handle/123456789/18681" TargetMode="External"/><Relationship Id="rId5" Type="http://schemas.openxmlformats.org/officeDocument/2006/relationships/hyperlink" Target="http://ela.kpi.ua/handle/123456789/18681" TargetMode="External"/><Relationship Id="rId6" Type="http://schemas.openxmlformats.org/officeDocument/2006/relationships/hyperlink" Target="http://ela.kpi.ua/handle/123456789/18681" TargetMode="External"/><Relationship Id="rId7" Type="http://schemas.openxmlformats.org/officeDocument/2006/relationships/hyperlink" Target="http://ela.kpi.ua/handle/123456789/18681" TargetMode="External"/><Relationship Id="rId8" Type="http://schemas.openxmlformats.org/officeDocument/2006/relationships/hyperlink" Target="http://ela.kpi.ua/handle/123456789/18681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lio25@ukr.ne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Оформлення списку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використаних джерел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згідно ДСТУ 8302:2015 Інформація та документація. Бібліографічне посилання. Загальні положення та правила складання та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міжнародного стилю </a:t>
            </a:r>
            <a:r>
              <a:rPr b="1" lang="en-US" sz="2400" spc="-1" strike="noStrike">
                <a:solidFill>
                  <a:srgbClr val="003366"/>
                </a:solidFill>
                <a:latin typeface="Cambria"/>
              </a:rPr>
              <a:t>APA</a:t>
            </a: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8000" y="5516640"/>
            <a:ext cx="435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Наукова бібліотека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ХНПУ імені Г. С. Сковород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кщ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іб чи організацій, відповідальних за видання, чотири та більш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у відомостях про відповідальність (за навcкісною рискою («/»)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лічують усіх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 зазначають лише першог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із додаванням скороченн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та ін.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його еквівален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et al.]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5480" y="82836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ість зна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 й тире» («. —»)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який розділяє зони бібліографічного опису, у бібліографічному посиланні рекомендовано застосовувати зна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зик В. В., Панкова Л. А., Даниленко Н. Б. Міжнародні економічні відносини. 3-тє вид., перероб. і допов. Київ : Знання-Прес, 2002. С. 24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765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ві навкісні риски («//»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ожна замінюва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пко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а назву виділяти шрифтом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(курсивом)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ву дозволено скорочувати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уколова К. В. Вплив соціальних категорій на характер мовлення та мовну поведінку осіб.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існ. Дніпропетров. ун-ту імені Альфреда Нобеля. Філол. нау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016, № 2(12). С. 205–211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368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ідомості, запозичені не з титульної сторінки документа,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брати у квадратні дужк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 ]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карова М. В. Електронна комерція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ібник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иїв : Академія, 2002. 272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ісля назви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зазнача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гального позначення матеріал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«Текст», «Електронний ресурс», «Ноти» тощо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Ноти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складі вихідних даних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подавати найменування (ім’я видавця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нн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8360" y="838080"/>
            <a:ext cx="7785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наводити відомостей про серію та Міжнародний стандартний номе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ISBN, ISMN, ISSN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словосполучення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жим доступ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 або еквівалент іншою мовою замінити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леха Ю. І., Леміш Н. О. Загальне документознавство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: https://textbook.com.ua/dokumentoznavstvo/1473445811 (дата звернення: 26.09.2017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комендується застосовуват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DO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замість електронної адрес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OI (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igital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object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identifier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цифро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й ідентифікатор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а, який надається науковим статтям і збірни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фіційний сайт ідентифікатору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Doi.org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5480" y="97128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корочення слів у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бібліографічному описі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1989000"/>
            <a:ext cx="813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3582:2013 «Бібліографічний опис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ЧЕНЬ УКРАЇНСЬКОЮ МОВОЮ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вимоги та правил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6095:2009 «Система стандартів з інформації, бібліотечної та видавничої справи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авила скорочення заголовків і слів у заголовка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СТУ 7093:2009 “Бібліографічний запис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К, ПОДАНИХ ІНОЗЕМНИМИ ЄВРОПЕЙСЬКИМИ МОВАМИ”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ГОСТ 7.11-2004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ОСТ Р 7.0.12-2011 “Библиографическая запись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ОКРАЩЕНИЕ СЛОВ И СЛОВОСОЧЕТАНИЙ НА РУССКОМ ЯЗ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Ы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КЕ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Общие требования и правила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75440" y="999360"/>
            <a:ext cx="774180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днотомні видання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478240"/>
            <a:ext cx="845964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дин авт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ндаренко В. Г. Український вільнокозацький рух в Україні та на еміграції (1919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993) : монографія. Запоріжжя : ЗНУ, 2016. 600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ва автор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Фединяк Г. С., Фединяк Л. С.    Міжнародне приватне право : навч. посіб. 2-ге вид., доп. Київ : Юрінком Інтер, 2000. 41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копенко І. Ф., Радченко Л. П.  Магістерська робота з економічної теорії: вимоги і рекомендації до підготовки, оформлення та захисту : для студ. 8.030501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кон. теор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7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моги до оформлення списку використаних джерел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Наказ Міністерства освіти та науки Україн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40 від 12.01.2017 р. «Вимоги до оформлення дисертації»</a:t>
            </a:r>
            <a:r>
              <a:rPr b="0" lang="ru-RU" sz="2400" spc="-1" strike="noStrike">
                <a:solidFill>
                  <a:srgbClr val="003366"/>
                </a:solidFill>
                <a:latin typeface="Candara"/>
              </a:rPr>
              <a:t> визначає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обхідність оформлення списку використаних джере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у дисертації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 урахування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ціонального стандарту України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СТУ 8302:2015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Інформація та документація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дним із стилів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віднесених до рекомендованого переліку стилів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формлення списку наукови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45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Три автор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ічугін М. Ф., Канкін І. О.,  Воротніков  В. В. Комп'ютерна графіка : навч. посіб. для студ. вищ. навч. закл. Київ : Центр учб. л-ри, 2018. 34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Чотири автор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 Процай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Харків. нац. пед. ун-т імені Г. С. Сковороди. Харків : ХНПУ, 2018. 100 с. : і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а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цай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, Долгова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 Є., Проскурня О. І., Сушко Ю. С.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Харків. нац. пед. ун-т імені Г. С. Сковороди. Харків : ХНПУ, 2018. 100 с. : і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’ять авторів і більш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йований підхід в історії української школи (кінець XIX – перша третина XX ст.) : монографія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 В. Сухомлинська [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НАПН України, Ін-т пед. Київ : Пед. думка, 2013. 637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ectrodes of conductive metallic oxides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. M. Honig [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.]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Amsterdam : Elsevier, 1980. 260 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и та редактори / упорядник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уманістичне виховання дітей дошкільного віку в контексті інноваційної педагогічної діяльності : монографія / Т. І. Поніманська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 наук. ред. Т. І. Поніманської, І. М. Дичківської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Рівне : Волин. обереги, 2012. 20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вчальний проект у школі / О. Гриценко 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упоряд. Ж. Сташко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Київ : Перше вересня, 2018. 108 с. : іл. (Бібліотека "Шкільного світу"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 і переклада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суока, Сетаро.    Морской пейзаж : повесть ; рассказ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яп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осква : Известия, 1983. 127 с. (Библиотека журнала "Иностранная литература"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ёлль Г.    Бильярд в половине десятого : роман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нем. Л. Черно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Москва : Изд-во иностр. л-ры, 1961. 30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ни, Джоаккино.    Избранные письма. Высказывания. Воспоминания / ред.-сост., авт. вступ. ст. и примеч. Е. Ф. Бронфин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итал., фр., нем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Ленинград : Музыка, 1968. 23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0550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Без авт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часні здоров'язбережувальні технології : монографія / Харків. нац. пед. ун-т імені Г. С. Сковороди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 заг. ред. Ю. Д. Бойчу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Харків : Оригінал, 2018. 723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роткий психологічний словник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а ред. В. І. Войтка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Київ : Вища шк., 1976. 19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гальні засади соціально-педагогічної роботи з сім’єю : навч.-метод. посіб.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уклад.: Л. В. Ричкова, В. В. Костін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ХНПУ, 2004. 3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д честі : у полі зору читача унікальний проект літопису Українотворення "Декларація...Аve, Ukraina!" : скорочений варіант : 2011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013 /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дкол.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Я. Зай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уцьк : Волиньполіграф, 2013. 47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822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бірник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едагогіка та психологія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наук. пр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ип. 60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Харків. нац. пед. ун-т імені Г. С. Сковороди ; за заг. ред. І. Ф. Прокопенка, С. Т. Золотухіної. Харків : Діса Плюс, 2018. 319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Люба мат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віршів та оповід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упоряд. І. Лимонова. Київ : Веселка, 1969. 96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атеріали конференці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раєзнавство і учитель – 2014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атеріали міжнар. наук. конф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, м. Харків, 28 лют. 2014 р. / Харків. нац. пед. ун-т імені Г. С. Сковороди. Харків : Колегіум, 2014. 14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90640" y="825840"/>
            <a:ext cx="77317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Багатотомні виданн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ловник української мов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 10 т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АН УРСР, Ін-т мовознавства ім. О. О. Потебні ; редкол.: І. К. Білодід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Наук. думка, 1977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8 : Природа–Ряхтливий / ред.: В. О. Винник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27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раун Н. Л. Избранное 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2 т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. 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енинград : Худож. лит., 1972. 239 с. : порт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Енциклопедія українознавства : репр. відтвор. вид. 1955–1984 рр. Київ : Глобус, 1994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2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395 с. : і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Інші виданн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93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Дисертації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мпанієць І. В. Висловлення з відношенням номінації в сучасній українській мові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дис. … канд. філ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0.02.01 / Харків. нац. пед. ун-т імені Г. С.  Сковороди. Харків, 2016. 194 с.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Автореферати дисертаці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Назимко О. В.  Когнітивні особливості формування розумових дій породження та сприйняття іншомовного висловлювання у студентів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… канд. псих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9.00.07 / Харків. нац. пед. ун-т імені Г. С. Сковороди. Харків, 2018. 2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Рецензі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тасевський С. Б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Лінгвістичні дослідженн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зб. наук. пр. / Харків. нац. пед. ун-т імені Г. С. Сковороди ; редкол.: Л. А. Лисичен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Вип. 28. С. 285–288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Дорошенко С. І. Наукові простори : вибр. пр. Харків : Нове слово, 2009. 48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ульчицький С. В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 Український історичний журнал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7. № 2. С. 215–223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 Онобль Е. Революція 1917 року: французький погляд: 100 років тлумачень і репрезентацій / пер. з фр. А. Рєпа. Київ : Ника-Центр, 2016. 24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аконодавчі документи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 внесення змін до деяких законодавчих актів Укаїни : Закон України від 19 груд. 2017 р. № 2249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Урядовий кур'єр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2018. 24 січ. (№ 16). С. 29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рхівні матеріал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нига протоколів загальних зборів та засідань президії спілки (31 жовтня 1922 р. – 5 березня 1924 р.). ЦДАВО України. Ф. 4411. Оп. 1. Спр. 2.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25480" y="118872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Частина видання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діл кни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 В. В. Професійна підготовка майбутніх фахівців соціальної галузі до профілактики дезадаптації учн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учасні здоров’язбережувальні технології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кол. моногр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/ Харків. нац. пед. ун-т імені Г. С. Сковороди ; за заг. ред. Ю. Д. Бойчук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Оригінал, 2018. С. 147–15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ostina V.V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System of training of future social pedagogues and social workers to prevent maladjustment of students.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uropean vector of contemporary psychology, pedagogy and social sciences: the ecsperience of Ukraine and the Republic of Pol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ive monograph. Sandomierz : Izdevnieciba “Baltija Publishing”, 2018. Vol. 1. P. 160–181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77640" y="423360"/>
            <a:ext cx="739008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ерелік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іжнародних стилі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L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AP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успіль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icago/Turabian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vard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і суспіль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S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AIP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IEEE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нженерії, електроніки, телекомунікацій, інформатики та інформаційних технологі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Vancouver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OSCOL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юриспруденції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APS 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 Springer Math Phys Style – математики, фізики, статистик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зи, доповід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йцев В. Ізотерапія в соціальній робот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Цивілізаційний поступ сучасної освіти і науки: виклики, проблеми, перспектив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матеріали ІХ наук.-практ. конф. магістрантів ХНПУ ім. Г. С. Сковороди, м. Харків, 25–26 квіт., 2018 р. Харків : ХНПУ, 2018. Ч. 1. С. 117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еріодичного видання (журнал, газета)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едвідь Л.  Муза Новаківського: мистецька спадщина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бразотворче мистецтво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№ 4. С. 46–4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рандій В.  Перспективи освітніх вимірювань: вектор розвитку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світа Україн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24 груд. (№ 50). С. 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981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родовжуваного ви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Бондаренко Д. Р.  Теоретичні питання формування дослідницьких умінь студент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о-дослідна робота студентів як чинник удосконалення професійної підготовки майбутнього вчител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, 2017. Вип. 15. С. 26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 В. В. Підготовка майбутніх фахівців соціальної сфери до формування здорового способу життя у дезадаптованих дітей та молод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і записки Ніжинського державного університету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ер.: Психолого-педагогічні науки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Ніжин, 2016. № 1. С. 188–19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Електронні ресурс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лада очима історії : фотовиставк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URL: http://www.kmu.gov.ua/control/uk/photogallery/gallery?galleryId=15725757&amp; (дата звернення: 15.11.2017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онік О. М. Благодійність в Україні (ХІХ – початок ХХ ст.).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Український історичний журнал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005. № 4. С. 159–177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жим доступу: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http://history.org.ua/JournALL/journal/2005/4/8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цків Я. С., Маліцький Б. А., Бублик С. Г. Трансформація наукової системи України протягом 90-х років ХХ століття: період переходу до ринку. 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Наука та інновації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2016. Т. 12, № 6. С. 6–14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DOI: 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s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oi.org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10.15407/scin12.06.006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0160" y="904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American Psychological Association)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styl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іжнародний стиль оформлення наукових публікацій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merica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Psychological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ssoci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Американська психологічна асоціац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изначений для суспільних наук (соціологія, право, психологія, історія тощо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итату за стилем APA оформлюю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як внутрішньотекстове цитування у відповідному місці в тексті документ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556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як позатекстовий список джерел цитат або згадувань.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 (American Psychological Association) sty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Шаблон оформлення за стилем АРА: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НИ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Автор(и). (Рік публікації). </a:t>
            </a: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Назва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Місце видання (повністю): Видавництво. [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Ukrain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English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Russ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тощо)]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В А Ж Л И В О: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в елементах опису можна використовувати лише прямі лапки ("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yle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Список літератури : загальні вимог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«Список літератури»,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яку розмістити посередині сторінк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ідступ має бути розміром у 5–7 пробілів або 1,25 см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і посилання зі списку літератури мають бути наведені в тексті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илання в списку розташовуються в алфавітному порядку прізвищ авторі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е список літератури та джерел в абетковому порядку, виконаний латинським шрифт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писок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літератури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«References»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водит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ьс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реми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оком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ін повторює посилання або список  джерел з латинським алфавітом та наводить список кириличних джерел у транслітерованому вигляді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руктура бібліографічних посилань у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Referenc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статті у варіанті, що транслітерується, і переклад назви статті англійською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вою в квадратних дужках [ ]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джерела (транслітерація) і переклад назви джерела англійською мовою [ ]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ихідні дані з позначеннями англійською мовою або лише цифрові (останнє - залежно від вживаного стандарту опису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19360" y="82872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нлайнові транслітерат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slovnyk.ua/services/translit.php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litopys.org.ua/links/intrans.htm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translit.net/ (транслітерація кириличних текстів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бліографічні менедже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zotero.or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mendeley.c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citethisforme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43840" y="84672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Чинні ДСТУ,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кі визначають правила складання бібліографічного опису докуме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49192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ГОСТ 7.1:2006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ий запис. Бібліографічний опи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вимоги та правила скла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набув чинності 1 липня 2007 ро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8302:2015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нформація та документація. 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, набув чинності 1 липня 2016 ро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Автоматичне формування посилань відповідно до стилю APA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8197920" cy="42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</a:rPr>
              <a:t>Citation Machine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tationmachine.net/apa/cite-a-book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bibme.org/apa/book-citation/manual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А також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easybib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www.bibme.or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ww.sourceaid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421000"/>
          <a:ext cx="7561440" cy="422100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дин автор =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 І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омпаративні     фронтири: світовий і вітчизняний вимір / Укр. наук. ін-т Гарвард. ун-ту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ук ред. Л. Зашкільняк. Київ : Критика, 2015. 37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, І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паративні фронтири: світовий і вітчизняний вимір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Крити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ornovol, I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mparatyvni frontyry: svitovyj i vitchyznianyj vymir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Krytyka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00000" y="2276640"/>
          <a:ext cx="8136000" cy="4344840"/>
        </p:xfrm>
        <a:graphic>
          <a:graphicData uri="http://schemas.openxmlformats.org/drawingml/2006/table">
            <a:tbl>
              <a:tblPr/>
              <a:tblGrid>
                <a:gridCol w="4122720"/>
                <a:gridCol w="4013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ва автори =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, &amp; Author, B. B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 О. Г., Данилюк Ю. З. Опозиція в Україні (друга половина 50-х – 80-ті рр. XX ст.) / НАН України, Ін-т історії України. Київ : Рідний край, 2000. 61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, О. Г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Данилюк, Ю. З. (2000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озиція в Україні (друга половина 50-х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-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і рр. ХХ 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Рідний кра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zhan, O. H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nyliuk, Yu. Z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0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ozytsiia v Ukraini (druha polovyna 50-kh – 80-ti rr. XX st.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Ridnyj kraj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2349360"/>
          <a:ext cx="8126640" cy="417384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т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ох до семи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авто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., Author, F. F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G. G.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 / Р. М. Шуст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Нац. банк України. Київ : УБС НБУ ; Харків : Фоліо, 2011. 502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уст, Р. М., Крижанівський, А. Л., Целуйко, О. П., Швець, В. Є., Вовчак, О. Д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аринська, З. М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11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їв: УБС НБУ;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в: Фоліо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ust, R. M., Kryzhaniv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A. L., Tsel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P., Shvets, V. Ye., Vovchak, O. D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omarynska, Z. M.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roshi Ukrain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UBS NBU; 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Folio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2349360"/>
          <a:ext cx="8305560" cy="4307040"/>
        </p:xfrm>
        <a:graphic>
          <a:graphicData uri="http://schemas.openxmlformats.org/drawingml/2006/table">
            <a:tbl>
              <a:tblPr/>
              <a:tblGrid>
                <a:gridCol w="4152600"/>
                <a:gridCol w="41529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50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восьми і більше авторів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перелічують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ші шість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вторів, поті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и крапки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 останній автор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 E., Author, F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Z. Z.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 / В. Г. Прусова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Освіта, 2004. 16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усова, В. Г., Прихач, О. С., Довгань, К. Л., Остапенко, Г. Г., Бойко, С. О., Поліщук, О. О.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Бондар, Г. Р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4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Освіта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s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G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ha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O. S.,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gan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. L.,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pen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G. G., B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j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O.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ischuk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O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B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da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G. 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04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tematik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it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71640" y="2362320"/>
          <a:ext cx="7993080" cy="417672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аці одного і того ж року, того ж автора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Практикум з трудового права України : навч. посіб. 2-ге вид., стер. Харків : Консум, 2000. 191 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Трудове право України : підручник. 2-ге вид., стер. Харків : Консум, 2000. 479 с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Практикум з трудового права України: навчальний посібник. (2-ге вид.). Харків: Консум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рудове право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и: підручник (2-ге вид.). Харків: Консу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a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ktiku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udovogo prava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navchalnyi posibny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b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do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pra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druchnyk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2362320"/>
          <a:ext cx="8055000" cy="4379760"/>
        </p:xfrm>
        <a:graphic>
          <a:graphicData uri="http://schemas.openxmlformats.org/drawingml/2006/table">
            <a:tbl>
              <a:tblPr/>
              <a:tblGrid>
                <a:gridCol w="4027680"/>
                <a:gridCol w="402732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и і редактор: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Editor, A. A. (Ed.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 В. М., Луговий В. І.,  Рашкевич Ю. М.,  Таланова Ж. В. Розроблення освітніх програм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м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то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ре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ред. В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. Кременя. 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їв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Пріоритети, 2014. 120 с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, В. М., Луговий, В. І., Шашкевич, Ю. М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аланова, Ж. В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зроблення освітніх програм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ремень, В. Г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Пріоритет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harchenko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M., L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govij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,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kevi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J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M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lanov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V. (2014). R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zroblennja osvitnih progra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men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, V. G. (Ed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oritet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8064360" cy="4532400"/>
        </p:xfrm>
        <a:graphic>
          <a:graphicData uri="http://schemas.openxmlformats.org/drawingml/2006/table">
            <a:tbl>
              <a:tblPr/>
              <a:tblGrid>
                <a:gridCol w="3996000"/>
                <a:gridCol w="40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дактор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без автора)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itor, A. A. (Ed.)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бо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редактори: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itor, A. A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ditor, B. B.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Eds)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х націоналістів і Українська повстанська армія: Історичні нариси / НАН України, Ін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 історії України 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. В. Кульчицький. Київ : Наук. думка, 2005. 495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льчицький, С. 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5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ї націоналістів і Українська повстанська армія: Історичні нариси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аукова дум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lchyt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V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hanizatsiia ukrains'kykh natsionalistiv i Ukrains'ka povstans'ka armiia: Istorychni narys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au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umka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e-Chai, A. Y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rgh, J. A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Eds.)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1).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use and abuse of power: Multiple perspectives on the causes of corruption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York: Psychology Press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362320"/>
          <a:ext cx="8126640" cy="396072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: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 : в 2 т. / НАН України, Ін-т історії України ; редкол.: В. М. Литвин (голова)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В. А. Смолій. Київ : Ніка-Центр, 2011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молій В. А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1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іка-Центр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A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ols. 1–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ika-Tsent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362320"/>
          <a:ext cx="8126640" cy="401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ремий том):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 : у 3 т. / упоряд. О. М. Апанович.  Львів : Світ, 1992. Т. 3. 456 с. : іл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,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1992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 3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Львів: Світ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ornitskij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D. I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992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ja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porizkih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zakiv.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.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viv: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t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53560" y="783720"/>
            <a:ext cx="79480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СТУ ГОСТ 7.1:2006. Бібліографічний запис. Бібліографічний опис. Загальні вимоги та правила складанн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ламентуючий документ для оформлення бібліографічних списків, списків використаної літератури, списків літератури в наукових роботах тощ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276640"/>
          <a:ext cx="8064720" cy="4566960"/>
        </p:xfrm>
        <a:graphic>
          <a:graphicData uri="http://schemas.openxmlformats.org/drawingml/2006/table">
            <a:tbl>
              <a:tblPr/>
              <a:tblGrid>
                <a:gridCol w="4033800"/>
                <a:gridCol w="403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орядник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 : зб. док. / НДІ українознавства МОН України [та ін.] ; упоряд.: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В. Безпалько [та ін.]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; наук. ред. І. Ворончук ; редкол.: В. В. Бездрабко [та ін.]., 2014. 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776 с. (Серія документальних джерел)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зпалько, В. В., Висотін, М. Б., Ворончук, І. О., Кучерук, М. М.,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Чубик, Ю. I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Упоряд.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4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: збірник документів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Серія документальних джерел). Київ: Фенік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zpalko V. V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ysotin M. B., Voronchuk I. O., Kucheruk M. M.,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ubyk Yu. I.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omps.)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4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e povsiakdennia rann'omodernoi doby: zbirnyk dokumenti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1: Volyn' XVI st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riia dokumental'nykh dzherel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yiv: Fenik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38080" y="2362320"/>
          <a:ext cx="8126640" cy="347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евиданн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 О. Д. Історія України : навч. посіб. 5-те вид., доп. Київ : Академвидав, 2014. 72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, О. Д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України: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чальний посібник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5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 ви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Академвидав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D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ia Ukrainy: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chal'nyj posibnyk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 ed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Akademvydav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362320"/>
          <a:ext cx="8126640" cy="414000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астина книги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 В. В. Розвиток галузей промисловості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в 2 т. / НАН України, Ін-т історії України ; редкол: В. М. Литвин (голова), [та ін.] ; відп. ред. В. А. Смолій. Київ : Ніка-Центр, 2011. Т.1.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26–632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, В. В. (2011). Розвиток галузей промисловості. В. А. Смолій (Ред.),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Т. 1, с. 626–632). Київ: Ніка-Центр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evchenk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V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zvytok haluzej promyslovost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A. 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),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6–632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yiv: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ka-Tsentr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362320"/>
          <a:ext cx="8126640" cy="4027320"/>
        </p:xfrm>
        <a:graphic>
          <a:graphicData uri="http://schemas.openxmlformats.org/drawingml/2006/table">
            <a:tbl>
              <a:tblPr/>
              <a:tblGrid>
                <a:gridCol w="4027680"/>
                <a:gridCol w="409896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 журналу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2005. № 4. С.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2005, 4,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9–177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2349360"/>
          <a:ext cx="7921440" cy="4289400"/>
        </p:xfrm>
        <a:graphic>
          <a:graphicData uri="http://schemas.openxmlformats.org/drawingml/2006/table">
            <a:tbl>
              <a:tblPr/>
              <a:tblGrid>
                <a:gridCol w="3994200"/>
                <a:gridCol w="392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і збірника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 С. Я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Наук. думка, 1982. Вип. 16. 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, С. Я. (1982)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rov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Ya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8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oblyvosti formuvannia naselennia mist Pivdennoi Ukrainy v doreformenyj period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toriia narodnoho hospodarstva ta ekonomichnoi dumky Ukrains'koi RSR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 63–68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2276640"/>
          <a:ext cx="8317080" cy="4502160"/>
        </p:xfrm>
        <a:graphic>
          <a:graphicData uri="http://schemas.openxmlformats.org/drawingml/2006/table">
            <a:tbl>
              <a:tblPr/>
              <a:tblGrid>
                <a:gridCol w="4159440"/>
                <a:gridCol w="415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теріали конференцій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А. І., Зуб С. С., Ляшко Н. І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матеріали І Всеукр. наук.-практ. конф., 12 груд. 2018 р., м. Харків. Харків : ХНПУ, 2018. С. 21–24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А. І., Зуб, С. С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Ляшко, Н. І. (2018)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Матеріали І Всеукраїнської науково-практичної конференції, (с. 21–24). Харків : ХНПУ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kopenko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. I., Zub S. S.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ashko, N. I. (2018). Hrid-tekhnolohii v osviti ta naukovykh doslidzhenniakh.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ystantsiina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vita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ii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 perspektyvy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rialy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eukrainskoi naukovo-praktychnoi konferentsii, 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. 21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)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NPU. 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2276640"/>
          <a:ext cx="8209080" cy="4533840"/>
        </p:xfrm>
        <a:graphic>
          <a:graphicData uri="http://schemas.openxmlformats.org/drawingml/2006/table">
            <a:tbl>
              <a:tblPr/>
              <a:tblGrid>
                <a:gridCol w="4033800"/>
                <a:gridCol w="417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сертації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 Ю. А. Купецтво Харківської губернії (друга половина ХІХ – початок ХХ ст.) : дис. … канд. іст. наук : 07.00.01. Харків, 2003.  267 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, Ю. А. (2003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пецтво Харківської губернії (друга половина ХІХ – початок ХХ 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Дис. канд. іст. наук). Назва установи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Харкі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elikov, Yu. A. (2003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upetstvo Kharkivs'koi hubernii (druha polovyna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pochatok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Merchants of Kharkiv province (the second half of 19th – beginning of 20th century)] 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349360"/>
          <a:ext cx="8126640" cy="414828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еферати дисертацій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 В. С. Торговельно-комерційна діяльність греків-купців в Україні (середина XVII – ХІХ ст.): автореф. дис. … канд. іст. наук :  07.00.01.  Донецьк, 2007.  20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, В. С. (2007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рговельно-комерційна діяльність греків-купців в Україні (середина XVII – ХІХ ст.)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Автореф. дис. канд. іст. наук)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 устано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Донецьк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lonyts, V. 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7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rhovel'no-komertsijna diial'nist' hrekiv-kuptsiv v Ukraini (seredyna XVII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Trade and Commerce of the Greek Merchants in Ukraine (middle of XVI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)]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tended abstract of 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Donetsk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2276640"/>
          <a:ext cx="8388360" cy="4518000"/>
        </p:xfrm>
        <a:graphic>
          <a:graphicData uri="http://schemas.openxmlformats.org/drawingml/2006/table">
            <a:tbl>
              <a:tblPr/>
              <a:tblGrid>
                <a:gridCol w="4195800"/>
                <a:gridCol w="4192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лектронні ресурс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. № 4. С. 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, 4, 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9–177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trieved from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ttp://history.org.ua/JournALL/journal/2005/4/8.pdf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бо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stina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 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2018). Verification of the system of preparation of future specialists of the social sphere for the prevention of maladjustment of pupils in various social institutio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national Journal of Science Annals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1(1–2), 18–30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I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10.26697/ijsa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459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Бібліографічне посилання (загальні правила складання) відповідно до ДСТУ 8302:2015, запровадженого в дію в Україні 01.07.2016 [Електронний ресурс] : метод. рек. / Харків. нац. ун-т міськ. госп-ва ім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. М. Бекетова ; уклад. С. В. Карпенко ; відп. за вип. О. М. Штангей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арків : ХНУМГ ім. О. М. Бекетова, 2017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19 с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Режим доступу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prints.kname.edu.ua/46333/1/metod.rec.DSTU2015.pd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СТУ 8302:2015. Інформація та документація. Бібліо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фічні посилання. Загальні положення та правила складання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Чинний від 2016–07–01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иїв : ДП «УкрНДНЦ», 2016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3.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OI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igital Object Identifier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). –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зва з екрана. – Режим доступу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s://doctorthinking.org/library/journals/digital_object_identifier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рек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/ автори-укладачі: О. Боженко, Ю. Корян, М. Федорец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ко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УБА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ц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у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України «Київ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лі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ім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Сікорського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ук. техн. б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 ім. Г. І. Денисенк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Київ : УБА, 2016. – 117 с.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R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la.kpi.ua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andle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123456789/186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33640" y="640080"/>
            <a:ext cx="75949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80643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головок опису. Основна назва [Загальне позначення матеріалу] = Паралельна назва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, що відносяться до назви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Авторство чи Відповідальність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 інших Осі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повторність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повідальність за видання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Зона специфічних відомосте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Місце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ид-во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рі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Фізична (кількісна) характеристика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Серія і підсері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№, т.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имітки (додаткова інформація від бібліографа, напр.: системні вимоги до електрон. ресурсів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SB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Міжнародні стилі оформлення бібліографічних посилань [Електронний ресурс] : презентація / Наук. б-ка НаУКМА ; уклад. О. Кордюкова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иїв : НБ НаУКМА, 2012. – 82 сл. – Режим доступу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https://www.slideshare.net/naukmalibrary/ss-702600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формлення списку літератури для розширеної анотації англійською мовою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 Назва з екрана. – Режим доступу: http://mmi.fem.sumdu.edu.ua/sites/default/files/references_extend_summary_ukr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клади оформлення використаних джерел: відповідно до Нац. стандарту України ДСТУ 8302:2015 [Електронний ресурс] / НАН України, ВД «Академперіодика». – Київ, 2016. – Режим доступу: http://histj.oa.edu.ua/assets/files/Posylannia.pdf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Про внесення поправок у ДСТУ 8302:2015 «Інформація та документація. Бібліографічне посилання. Загальні положення та правила складання» // Інформаційний покажчик стандартів. – 2016. – № 12. – С. 10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. 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 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/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ako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rad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ov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u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aws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show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0155-17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10. Радченко А. І. Методичні рекомендації щодо нового стандарту «Бібліографічне посилання. Загальні положення та правила складання» (ДСТУ 8302: 2015) / А. І. Радченко ; НАН України, ВД «Академперіодика»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-ге вид., доп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Академперіодика, 201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18 с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Режим доступу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://akademperiodyka.org.ua/sites/default/files/manual_Radchenko_2017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62200" y="720720"/>
            <a:ext cx="7723800" cy="13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Cambria"/>
              </a:rPr>
              <a:t>Дякую за увагу!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1295280" cy="142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48000" y="429264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Зав. наук.-мет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відділу  наукової бібліоте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ХНПУ імені Г. С. Сковоро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О. І. Романовсь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lio25@ukr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83040" y="572040"/>
            <a:ext cx="7308000" cy="13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алітичний бібліографічний опи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складову частину документ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//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ідентифікуючий документ. – Відомості про місцезнаходження складової частини в документі. – Приміт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4920" y="834120"/>
            <a:ext cx="7499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установлює  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види бібліографічних посилань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, щ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водяться у формі бібліографічного запис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правила та особливості складання і розміщення відповідних записі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юється на бібліографічні посилання в опублікованих і неопублікованих документах незалежно від носія інформації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7360" y="774360"/>
            <a:ext cx="7767000" cy="11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 заголовку бібліографічного запису подають відомості про одного, двох чи трьох авторів, при цьом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імена цих авторів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у відомостях про відповідальність (за навкісною рискою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овторюють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нько Т. І., Кочан І. М., Мацюк Г. П. Українське термінознавство. Львів, 1994. 216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08:00:31Z</dcterms:created>
  <dc:creator>user205b</dc:creator>
  <dc:description/>
  <dc:language>en-US</dc:language>
  <cp:lastModifiedBy>user227b</cp:lastModifiedBy>
  <dcterms:modified xsi:type="dcterms:W3CDTF">2020-02-12T14:13:05Z</dcterms:modified>
  <cp:revision>432</cp:revision>
  <dc:subject/>
  <dc:title>Оформлення списку  використаних джерел  згідно ДСТУ 8302:2015 Бібліографічне посилання. Загальні положення та правила складання та  міжнародного стилю APA.</dc:title>
</cp:coreProperties>
</file>