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7FB-50F2-4885-95F2-C5F1387F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A93-AC5B-4F43-B52B-494384B2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261-EC82-42D9-80E9-D95B2BF2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7D0-B777-4E49-8BFC-F952D29C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A256-0444-4EB8-8365-284EFF3E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F928-7A2D-47DF-895E-3E22450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F3FA-6AA5-4EDA-89F7-A221B3F5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1DFE-B27B-4700-A459-8849E58A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B504-3BE4-49E3-A35E-5E26ECC5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698B-60AD-4674-B18F-6AD04054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0A8C-F527-4E6C-9535-BA5BA950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4C4-9B88-461B-A0CE-1D0AC984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A002-B31C-4CA6-B549-8D89F8CA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2012-00DD-489B-8EB9-31CF9E3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5A0D-FCE6-4D59-B109-5240F09F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26AA-A657-4750-A644-8390D68F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50F3-33A3-4A42-9F58-3B180437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550-5739-47D6-A6B8-627D1112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5CC-7B22-4D22-A1AF-63B7A81A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AC8-28E1-4679-B7FA-F1EB2427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C2E-76FF-466D-8A17-9A66239C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7FC-6AB0-4808-905C-303486EA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15F-F132-4DFC-AFF2-A95B81F0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DF0-9258-420B-A1CD-2B4EF61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9F68-709D-46BF-8003-177091168B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9652-AE70-401C-9D6E-68658B7B33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oi.org/" TargetMode="External"/><Relationship Id="rId2" Type="http://schemas.openxmlformats.org/officeDocument/2006/relationships/hyperlink" Target="http://www.doi.org/" TargetMode="External"/><Relationship Id="rId3" Type="http://schemas.openxmlformats.org/officeDocument/2006/relationships/hyperlink" Target="http://www.doi.org/" TargetMode="External"/><Relationship Id="rId4" Type="http://schemas.openxmlformats.org/officeDocument/2006/relationships/hyperlink" Target="http://www.doi.org/" TargetMode="External"/><Relationship Id="rId5" Type="http://schemas.openxmlformats.org/officeDocument/2006/relationships/hyperlink" Target="http://www.doi.org/" TargetMode="External"/><Relationship Id="rId6" Type="http://schemas.openxmlformats.org/officeDocument/2006/relationships/hyperlink" Target="http://www.doi.org/" TargetMode="External"/><Relationship Id="rId7" Type="http://schemas.openxmlformats.org/officeDocument/2006/relationships/hyperlink" Target="http://www.doi.org/" TargetMode="External"/><Relationship Id="rId8" Type="http://schemas.openxmlformats.org/officeDocument/2006/relationships/hyperlink" Target="https://www.doi.org/" TargetMode="Externa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doi.org/10.15407/scin12.06.006" TargetMode="External"/><Relationship Id="rId2" Type="http://schemas.openxmlformats.org/officeDocument/2006/relationships/hyperlink" Target="https://doi.org/10.15407/scin12.06.006" TargetMode="External"/><Relationship Id="rId3" Type="http://schemas.openxmlformats.org/officeDocument/2006/relationships/hyperlink" Target="https://doi.org/10.15407/scin12.06.006" TargetMode="Externa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lovnyk.ua/services/translit.php" TargetMode="External"/><Relationship Id="rId2" Type="http://schemas.openxmlformats.org/officeDocument/2006/relationships/hyperlink" Target="http://litopys.org.ua/links/intrans.htm" TargetMode="Externa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citethisforme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itationmachine.net/apa/cite-a-book" TargetMode="External"/><Relationship Id="rId2" Type="http://schemas.openxmlformats.org/officeDocument/2006/relationships/hyperlink" Target="http://www.bibme.org/apa/book-citation/manual" TargetMode="External"/><Relationship Id="rId3" Type="http://schemas.openxmlformats.org/officeDocument/2006/relationships/hyperlink" Target="http://www.easybib.com/" TargetMode="External"/><Relationship Id="rId4" Type="http://schemas.openxmlformats.org/officeDocument/2006/relationships/hyperlink" Target="http://www.bibme.org/" TargetMode="External"/><Relationship Id="rId5" Type="http://schemas.openxmlformats.org/officeDocument/2006/relationships/hyperlink" Target="http://www.sourceaid.com/" TargetMode="External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eprints.kname.edu.ua/46333/1/metod.rec.DSTU2015.pdf" TargetMode="External"/><Relationship Id="rId2" Type="http://schemas.openxmlformats.org/officeDocument/2006/relationships/hyperlink" Target="https://doctorthinking.org/library/journals/digital_object_identifier/" TargetMode="External"/><Relationship Id="rId3" Type="http://schemas.openxmlformats.org/officeDocument/2006/relationships/hyperlink" Target="http://ela.kpi.ua/handle/123456789/18681" TargetMode="External"/><Relationship Id="rId4" Type="http://schemas.openxmlformats.org/officeDocument/2006/relationships/hyperlink" Target="http://ela.kpi.ua/handle/123456789/18681" TargetMode="External"/><Relationship Id="rId5" Type="http://schemas.openxmlformats.org/officeDocument/2006/relationships/hyperlink" Target="http://ela.kpi.ua/handle/123456789/18681" TargetMode="External"/><Relationship Id="rId6" Type="http://schemas.openxmlformats.org/officeDocument/2006/relationships/hyperlink" Target="http://ela.kpi.ua/handle/123456789/18681" TargetMode="External"/><Relationship Id="rId7" Type="http://schemas.openxmlformats.org/officeDocument/2006/relationships/hyperlink" Target="http://ela.kpi.ua/handle/123456789/18681" TargetMode="External"/><Relationship Id="rId8" Type="http://schemas.openxmlformats.org/officeDocument/2006/relationships/hyperlink" Target="http://ela.kpi.ua/handle/123456789/18681" TargetMode="Externa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lio25@ukr.ne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7488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Оформлення списку </a:t>
            </a:r>
            <a:br>
              <a:rPr sz="2400"/>
            </a:b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використаних джерел </a:t>
            </a:r>
            <a:br>
              <a:rPr sz="2400"/>
            </a:b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згідно ДСТУ 8302:2015 Інформація та документація. Бібліографічне посилання. Загальні положення та правила складання та </a:t>
            </a:r>
            <a:br>
              <a:rPr sz="2400"/>
            </a:b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міжнародного стилю </a:t>
            </a:r>
            <a:r>
              <a:rPr b="1" lang="en-US" sz="2400" spc="-1" strike="noStrike">
                <a:solidFill>
                  <a:srgbClr val="003366"/>
                </a:solidFill>
                <a:latin typeface="Cambria"/>
              </a:rPr>
              <a:t>APA</a:t>
            </a: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88000" y="5516640"/>
            <a:ext cx="4356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Cambria"/>
              </a:rPr>
              <a:t>Наукова бібліотека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Cambria"/>
              </a:rPr>
              <a:t>ХНПУ імені Г. С. Сковороди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0160" y="83304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кщ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іб чи організацій, відповідальних за видання, чотири та більш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у відомостях про відповідальність (за навcкісною рискою («/»)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елічують усіх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бо зазначають лише першог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із додаванням скороченн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[та ін.]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б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його еквівалент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[et al.]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5480" y="828360"/>
            <a:ext cx="77972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мість знак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крапка й тире» («. —»),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який розділяє зони бібліографічного опису, у бібліографічному посиланні рекомендовано застосовувати знак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крапка»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зик В. В., Панкова Л. А., Даниленко Н. Б. Міжнародні економічні відносини. 3-тє вид., перероб. і допов. Київ : Знання-Прес, 2002. С. 245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840" y="765000"/>
            <a:ext cx="777852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ві навкісні риски («//»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можна замінюват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апкою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а назву виділяти шрифтом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(курсивом)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зву дозволено скорочувати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уколова К. В. Вплив соціальних категорій на характер мовлення та мовну поведінку осіб.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існ. Дніпропетров. ун-ту імені Альфреда Нобеля. Філол. науки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2016, № 2(12). С. 205–211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3680" y="83304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ідомості, запозичені не з титульної сторінки документа, 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брати у квадратні дужк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 ]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карова М. В. Електронна комерція :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сібник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иїв : Академія, 2002. 272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0160" y="83304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ісля назви 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зазнача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гального позначення матеріал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«Текст», «Електронний ресурс», «Ноти» тощо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Шуберт Ф. Вибрані фортепіанні твор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[Ноти]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Київ : Муз. Україна, 1976. 78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Шуберт Ф. Вибрані фортепіанні твори. Київ : Муз. Україна, 1976. 78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0160" y="83016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 складі вихідних даних 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подавати найменування (ім’я видавця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бар О. О. Історія української школи і педагогіки : навч. посіб. Київ :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нанн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2006. 447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бар О. О. Історія української школи і педагогіки : навч. посіб. Київ, 2006. 447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28360" y="838080"/>
            <a:ext cx="7785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наводити відомостей про серію та Міжнародний стандартний номе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ISBN, ISMN, ISSN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зволено словосполучення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жим доступ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 або еквівалент іншою мовою замінити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UR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леха Ю. І., Леміш Н. О. Загальне документознавство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URL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: https://textbook.com.ua/dokumentoznavstvo/1473445811 (дата звернення: 26.09.2017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0160" y="83016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комендується застосовуват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DOI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замість електронної адрес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OI (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igital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object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identifier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— цифров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й ідентифікатор о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є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та, який надається науковим статтям і збірника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фіційний сайт ідентифікатору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Doi.org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25480" y="971280"/>
            <a:ext cx="77972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корочення слів у 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бібліографічному описі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560" y="1989000"/>
            <a:ext cx="813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СТУ 3582:2013 «Бібліографічний опис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КОРОЧЕННЯ СЛІВ І СЛОВОСПОЛУЧЕНЬ УКРАЇНСЬКОЮ МОВОЮ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Загальні вимоги та правил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СТУ 6095:2009 «Система стандартів з інформації, бібліотечної та видавничої справи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авила скорочення заголовків і слів у заголовках публікаці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ДСТУ 7093:2009 “Бібліографічний запис.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СКОРОЧЕННЯ СЛІВ І СЛОВОСПОЛУК, ПОДАНИХ ІНОЗЕМНИМИ ЄВРОПЕЙСЬКИМИ МОВАМИ”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(ГОСТ 7.11-2004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D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ГОСТ Р 7.0.12-2011 “Библиографическая запись.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СОКРАЩЕНИЕ СЛОВ И СЛОВОСОЧЕТАНИЙ НА РУССКОМ ЯЗ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Ы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КЕ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Общие требования и правила”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75440" y="999360"/>
            <a:ext cx="774180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днотомні видання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000" y="2478240"/>
            <a:ext cx="845964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Один авто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ндаренко В. Г. Український вільнокозацький рух в Україні та на еміграції (1919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993) : монографія. Запоріжжя : ЗНУ, 2016. 600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Два автор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Фединяк Г. С., Фединяк Л. С.    Міжнародне приватне право : навч. посіб. 2-ге вид., доп. Київ : Юрінком Інтер, 2000. 415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рокопенко І. Ф., Радченко Л. П.  Магістерська робота з економічної теорії: вимоги і рекомендації до підготовки, оформлення та захисту : для студ. 8.030501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кон. теорі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Харків : ХНПУ, 2009. 75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моги до оформлення списку використаних джерел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ndara"/>
              </a:rPr>
              <a:t>Наказ Міністерства освіти та науки Україн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ndara"/>
              </a:rPr>
              <a:t>№ </a:t>
            </a:r>
            <a:r>
              <a:rPr b="1" lang="ru-RU" sz="2400" spc="-1" strike="noStrike">
                <a:solidFill>
                  <a:srgbClr val="003366"/>
                </a:solidFill>
                <a:latin typeface="Candara"/>
              </a:rPr>
              <a:t>40 від 12.01.2017 р. «Вимоги до оформлення дисертації»</a:t>
            </a:r>
            <a:r>
              <a:rPr b="0" lang="ru-RU" sz="2400" spc="-1" strike="noStrike">
                <a:solidFill>
                  <a:srgbClr val="003366"/>
                </a:solidFill>
                <a:latin typeface="Candara"/>
              </a:rPr>
              <a:t> визначає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обхідність оформлення списку використаних джерел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у дисертації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 урахування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ціонального стандарту України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СТУ 8302:2015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Інформація та документація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ібліографічне посиланн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Загальні положення та правила складання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б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дним із стилів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віднесених до рекомендованого переліку стилів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формлення списку наукових публікаці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8459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Три автор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ічугін М. Ф., Канкін І. О.,  Воротніков  В. В. Комп'ютерна графіка : навч. посіб. для студ. вищ. навч. закл. Київ : Центр учб. л-ри, 2018. 345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Чотири автори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иференціальне числення числових функцій однієї числової змінної (конспект лекцій для дистанційного навчання) : навч. посіб. для студ. фіз.-мат. ф-тів вищ. пед. навч. закл. /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. Ф. Процай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та ін.]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Харків. нац. пед. ун-т імені Г. С. Сковороди. Харків : ХНПУ, 2018. 100 с. : іл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аб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роцай</a:t>
            </a:r>
            <a:r>
              <a:rPr b="0" lang="uk-UA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. Ф., Долгова</a:t>
            </a:r>
            <a:r>
              <a:rPr b="0" lang="uk-UA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О. Є., Проскурня О. І., Сушко Ю. С.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иференціальне числення числових функцій однієї числової змінної (конспект лекцій для дистанційного навчання) : навч. посіб. для студ. фіз.-мат. ф-тів вищ. пед. навч. закл. / Харків. нац. пед. ун-т імені Г. С. Сковороди. Харків : ХНПУ, 2018. 100 с. : і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П’ять авторів і більш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иференційований підхід в історії української школи (кінець XIX – перша третина XX ст.) : монографія /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О. В. Сухомлинська [та ін.]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НАПН України, Ін-т пед. Київ : Пед. думка, 2013. 637 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ectrodes of conductive metallic oxides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. M. Honig [et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.]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Amsterdam : Elsevier, 1980. 260 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втори та редактори / упорядник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Гуманістичне виховання дітей дошкільного віку в контексті інноваційної педагогічної діяльності : монографія / Т. І. Поніманська [та ін.] ;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 наук. ред. Т. І. Поніманської, І. М. Дичківської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Рівне : Волин. обереги, 2012. 206 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вчальний проект у школі / О. Гриценко  [та ін.] ;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упоряд. Ж. Сташко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Київ : Перше вересня, 2018. 108 с. : іл. (Бібліотека "Шкільного світу"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втор і переклада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суока, Сетаро.    Морской пейзаж : повесть ; рассказ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. с яп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Москва : Известия, 1983. 127 с. (Библиотека журнала "Иностранная литература"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ёлль Г.    Бильярд в половине десятого : роман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. с нем. Л. Черно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Москва : Изд-во иностр. л-ры, 1961. 302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ни, Джоаккино.    Избранные письма. Высказывания. Воспоминания / ред.-сост., авт. вступ. ст. и примеч. Е. Ф. Бронфин 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. с итал., фр., нем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Ленинград : Музыка, 1968. 232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805500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Без авто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часні здоров'язбережувальні технології : монографія / Харків. нац. пед. ун-т імені Г. С. Сковороди 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 заг. ред. Ю. Д. Бойчук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Харків : Оригінал, 2018. 723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роткий психологічний словник /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за ред. В. І. Войтка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Київ : Вища шк., 1976. 191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Загальні засади соціально-педагогічної роботи з сім’єю : навч.-метод. посіб. /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уклад.: Л. В. Ричкова, В. В. Костіна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Харків : ХНПУ, 2004. 32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д честі : у полі зору читача унікальний проект літопису Українотворення "Декларація...Аve, Ukraina!" : скорочений варіант : 2011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013 /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дкол.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Я. Зайко (голов. ред.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Луцьк : Волиньполіграф, 2013. 472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9822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Збірник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едагогіка та психологія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зб. наук. пр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Вип. 60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/ Харків. нац. пед. ун-т імені Г. С. Сковороди ; за заг. ред. І. Ф. Прокопенка, С. Т. Золотухіної. Харків : Діса Плюс, 2018. 319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Люба мати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зб. віршів та оповід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/ упоряд. І. Лимонова. Київ : Веселка, 1969. 96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Матеріали конференці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раєзнавство і учитель – 2014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матеріали міжнар. наук. конф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, м. Харків, 28 лют. 2014 р. / Харків. нац. пед. ун-т імені Г. С. Сковороди. Харків : Колегіум, 2014. 142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90640" y="825840"/>
            <a:ext cx="77317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66"/>
                </a:solidFill>
                <a:latin typeface="Arial"/>
              </a:rPr>
              <a:t>Багатотомні виданн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8137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ловник української мови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в 10 т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/ АН УРСР, Ін-т мовознавства ім. О. О. Потебні ; редкол.: І. К. Білодід (голов. ред.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]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Київ : Наук. думка, 1977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Т. 8 : Природа–Ряхтливий / ред.: В. О. Винник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927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раун Н. Л. Избранное 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2 т.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. 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Ленинград : Худож. лит., 1972. 239 с. : портр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Енциклопедія українознавства : репр. відтвор. вид. 1955–1984 рр. Київ : Глобус, 1994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Т. 2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395 с. : і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Інші видання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993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Дисертації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мпанієць І. В. Висловлення з відношенням номінації в сучасній українській мові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дис. … канд. філол. наук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10.02.01 / Харків. нац. пед. ун-т імені Г. С.  Сковороди. Харків, 2016. 194 с.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Автореферати дисертаці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Назимко О. В.  Когнітивні особливості формування розумових дій породження та сприйняття іншомовного висловлювання у студентів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автореф. дис. … канд. психол. наук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19.00.07 / Харків. нац. пед. ун-т імені Г. С. Сковороди. Харків, 2018. 21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981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Рецензі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тасевський С. Б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[Рецензія]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3366"/>
                </a:solidFill>
                <a:latin typeface="Arial"/>
              </a:rPr>
              <a:t>Лінгвістичні дослідженн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зб. наук. пр. / Харків. нац. пед. ун-т імені Г. С. Сковороди ; редкол.: Л. А. Лисиченко (голов. ред.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]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Харків : ХНПУ, 2009. Вип. 28. С. 285–288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Рец. на кн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Дорошенко С. І. Наукові простори : вибр. пр. Харків : Нове слово, 2009. 488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ульчицький С. В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[Рецензія].</a:t>
            </a:r>
            <a:r>
              <a:rPr b="0" i="1" lang="uk-UA" sz="2000" spc="-1" strike="noStrike">
                <a:solidFill>
                  <a:srgbClr val="003366"/>
                </a:solidFill>
                <a:latin typeface="Arial"/>
              </a:rPr>
              <a:t> Український історичний журнал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2017. № 2. С. 215–223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Рец. на кн.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: Онобль Е. Революція 1917 року: французький погляд: 100 років тлумачень і репрезентацій / пер. з фр. А. Рєпа. Київ : Ника-Центр, 2016. 248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Законодавчі документи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ро внесення змін до деяких законодавчих актів Укаїни : Закон України від 19 груд. 2017 р. № 2249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Урядовий кур'єр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2018. 24 січ. (№ 16). С. 29–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рхівні матеріал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нига протоколів загальних зборів та засідань президії спілки (31 жовтня 1922 р. – 5 березня 1924 р.). ЦДАВО України. Ф. 4411. Оп. 1. Спр. 2.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25480" y="1188720"/>
            <a:ext cx="77972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Частина видання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813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Розділ книг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стіна В. В. Професійна підготовка майбутніх фахівців соціальної галузі до профілактики дезадаптації учнів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Сучасні здоров’язбережувальні технології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кол. моногр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/ Харків. нац. пед. ун-т імені Г. С. Сковороди ; за заг. ред. Ю. Д. Бойчука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Харків : Оригінал, 2018. С. 147–155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ostina V.V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System of training of future social pedagogues and social workers to prevent maladjustment of students.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uropean vector of contemporary psychology, pedagogy and social sciences: the ecsperience of Ukraine and the Republic of Polan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ective monograph. Sandomierz : Izdevnieciba “Baltija Publishing”, 2018. Vol. 1. P. 160–181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77640" y="423360"/>
            <a:ext cx="7390080" cy="12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ерелік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іжнародних стилі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MLA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стосується гуманітарн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APA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суспільн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icago/Turabian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гуманітарних нау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rvard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гуманітарних і суспільних нау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S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хімії та інших природнич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AIP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фізик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 IEEE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інженерії, електроніки, телекомунікацій, інформатики та інформаційних технологі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 Vancouver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медицини та фізичн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. OSCOL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юриспруденції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 APS 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фізик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1. Springer Math Phys Style – математики, фізики, статистик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8126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Тези, доповід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Зайцев В. Ізотерапія в соціальній роботі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Цивілізаційний поступ сучасної освіти і науки: виклики, проблеми, перспективи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матеріали ІХ наук.-практ. конф. магістрантів ХНПУ ім. Г. С. Сковороди, м. Харків, 25–26 квіт., 2018 р. Харків : ХНПУ, 2018. Ч. 1. С. 117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таття з періодичного видання (журнал, газета)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Медвідь Л.  Муза Новаківського: мистецька спадщина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Образотворче мистецтво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2018. № 4. С. 46–47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арандій В.  Перспективи освітніх вимірювань: вектор розвитку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Освіта України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2018. 24 груд. (№ 50). С. 5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420640"/>
            <a:ext cx="7981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таття з продовжуваного виданн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Бондаренко Д. Р.  Теоретичні питання формування дослідницьких умінь студентів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Науково-дослідна робота студентів як чинник удосконалення професійної підготовки майбутнього вчител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Харків, 2017. Вип. 15. С. 26–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стіна В. В. Підготовка майбутніх фахівців соціальної сфери до формування здорового способу життя у дезадаптованих дітей та молоді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Наукові записки Ніжинського державного університету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Сер.: Психолого-педагогічні науки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Ніжин, 2016. № 1. С. 188–195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840" y="693720"/>
            <a:ext cx="77785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Електронні ресурс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лада очима історії : фотовиставка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URL: http://www.kmu.gov.ua/control/uk/photogallery/gallery?galleryId=15725757&amp; (дата звернення: 15.11.2017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Донік О. М. Благодійність в Україні (ХІХ – початок ХХ ст.). </a:t>
            </a:r>
            <a:r>
              <a:rPr b="0" i="1" lang="uk-UA" sz="2000" spc="-1" strike="noStrike">
                <a:solidFill>
                  <a:srgbClr val="003366"/>
                </a:solidFill>
                <a:latin typeface="Arial"/>
              </a:rPr>
              <a:t>Український історичний журнал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2005. № 4. С. 159–177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жим доступу: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http://history.org.ua/JournALL/journal/2005/4/8.pd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цків Я. С., Маліцький Б. А., Бублик С. Г. Трансформація наукової системи України протягом 90-х років ХХ століття: період переходу до ринку. 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Наука та інновації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2016. Т. 12, № 6. С. 6–14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DOI: 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s://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oi.org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10.15407/scin12.06.006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0160" y="90468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APA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American Psychological Association)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style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80661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міжнародний стиль оформлення наукових публікацій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AP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American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Psychological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Associ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— </a:t>
            </a: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Американська психологічна асоціаці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ризначений для суспільних наук (соціологія, право, психологія, історія тощо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цитату за стилем APA оформлюют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як внутрішньотекстове цитування у відповідному місці в тексті документ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556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як позатекстовий список джерел цитат або згадувань.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PA (American Psychological Association) sty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Шаблон оформлення за стилем АРА: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НИГ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Автор(и). (Рік публікації). </a:t>
            </a:r>
            <a:r>
              <a:rPr b="1" i="1" lang="uk-UA" sz="2800" spc="-1" strike="noStrike">
                <a:solidFill>
                  <a:srgbClr val="003366"/>
                </a:solidFill>
                <a:latin typeface="Arial"/>
              </a:rPr>
              <a:t>Назва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Місце видання (повністю): Видавництво. [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n Ukrainian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n English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n Russian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тощо)]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66"/>
                </a:solidFill>
                <a:latin typeface="Arial"/>
              </a:rPr>
              <a:t>В А Ж Л И В О: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 в елементах опису можна використовувати лише прямі лапки ("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PA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yle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Список літератури : загальні вимог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писок посилань слід починати з нової сторінки і дати йому назву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«Список літератури»,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яку розмістити посередині сторінк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писок має висячий відступ і подвійне розташування, де перший рядок кожного посилання вирівнюється по лівій межі поля, в той час, як усі наступні рядки розташовуються з відступом вправ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ідступ має бути розміром у 5–7 пробілів або 1,25 см. Ці параметри встановлюються за допомогою текстових редакторі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і посилання зі списку літератури мають бути наведені в тексті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илання в списку розташовуються в алфавітному порядку прізвищ авторі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840" y="693720"/>
            <a:ext cx="77785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це список літератури та джерел в абетковому порядку, виконаний латинським шрифто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писок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літератури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«References»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водит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ьс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креми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локом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ін повторює посилання або список  джерел з латинським алфавітом та наводить список кириличних джерел у транслітерованому вигляді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труктура бібліографічних посилань у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References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Б авторів (транслітерація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азва статті у варіанті, що транслітерується, і переклад назви статті англійською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вою в квадратних дужках [ ]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азва джерела (транслітерація) і переклад назви джерела англійською мовою [ ]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ихідні дані з позначеннями англійською мовою або лише цифрові (останнє - залежно від вживаного стандарту опису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19360" y="82872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нлайнові транслітерато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slovnyk.ua/services/translit.php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(Стандартна українська транслітерація – на порталі “Словник-UA”) 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litopys.org.ua/links/intrans.htm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(Транслітератор на порталі “Ізборник”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translit.net/ (транслітерація кириличних текстів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Бібліографічні менедже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zotero.or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mendeley.co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citethisforme.com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43840" y="846720"/>
            <a:ext cx="7760520" cy="11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Чинні ДСТУ, 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які визначають правила складання бібліографічного опису документі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491920"/>
            <a:ext cx="7693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СТУ ГОСТ 7.1:2006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Бібліографічний запис. Бібліографічний опис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. Загальні вимоги та правила складанн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,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набув чинності 1 липня 2007 рок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СТУ 8302:2015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нформація та документація. </a:t>
            </a: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Бібліографічне посилання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. Загальні положення та правила складання», набув чинності 1 липня 2016 рок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Автоматичне формування посилань відповідно до стилю APA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8197920" cy="42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</a:rPr>
              <a:t>Citation Machine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uk-UA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citationmachine.net/apa/cite-a-book</a:t>
            </a:r>
            <a:r>
              <a:rPr b="0" lang="uk-UA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bibme.org/apa/book-citation/manual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А також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easybib.com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://www.bibme.org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http://www.sourceaid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87280" y="2421000"/>
          <a:ext cx="7561440" cy="422100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дин автор =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A. A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орновол І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Компаративні     фронтири: світовий і вітчизняний вимір / Укр. наук. ін-т Гарвард. ун-ту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ук ред. Л. Зашкільняк. Київ : Критика, 2015. 376 с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орновол, І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5)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мпаративні фронтири: світовий і вітчизняний вимір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Київ: Крити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ornovol, I.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5). </a:t>
                      </a:r>
                      <a:r>
                        <a:rPr b="0" i="1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mparatyvni frontyry: svitovyj i vitchyznianyj vymir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Krytyka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21160" y="821520"/>
            <a:ext cx="7805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00000" y="2276640"/>
          <a:ext cx="8136000" cy="4344840"/>
        </p:xfrm>
        <a:graphic>
          <a:graphicData uri="http://schemas.openxmlformats.org/drawingml/2006/table">
            <a:tbl>
              <a:tblPr/>
              <a:tblGrid>
                <a:gridCol w="4122720"/>
                <a:gridCol w="4013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ва автори =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A. A., &amp; Author, B. B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ажан О. Г., Данилюк Ю. З. Опозиція в Україні (друга половина 50-х – 80-ті рр. XX ст.) / НАН України, Ін-т історії України. Київ : Рідний край, 2000. 616 с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ажан, О. Г.,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Данилюк, Ю. З. (2000)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позиція в Україні (друга половина 50-х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-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і рр. ХХ ст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Київ: Рідний край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zhan, O. H.,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nyliuk, Yu. Z.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0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i="1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ozytsiia v Ukraini (druha polovyna 50-kh – 80-ti rr. XX st.)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Ridnyj kraj.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21160" y="821520"/>
            <a:ext cx="7805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2349360"/>
          <a:ext cx="8126640" cy="417384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4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 т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ьох до семи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автор</a:t>
                      </a: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ів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or, A. A., Author, B. B., Author, C. C., Author, D. D., Author, E.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., Author, F. F.,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&amp;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or, G. G.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роші України / Р. М. Шуст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 Нац. банк України. Київ : УБС НБУ ; Харків : Фоліо, 2011. 502 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уст, Р. М., Крижанівський, А. Л., Целуйко, О. П., Швець, В. Є., Вовчак, О. Д.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маринська, З. М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011). 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роші України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иїв: УБС НБУ;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арк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в: Фоліо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ust, R. M., Kryzhanivsky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A. L., Tselu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, O. P., Shvets, V. Ye., Vovchak, O. D.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Komarynska, Z. M. (2011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roshi Ukrainy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UBS NBU; K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k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Folio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2349360"/>
          <a:ext cx="8305560" cy="4307040"/>
        </p:xfrm>
        <a:graphic>
          <a:graphicData uri="http://schemas.openxmlformats.org/drawingml/2006/table">
            <a:tbl>
              <a:tblPr/>
              <a:tblGrid>
                <a:gridCol w="4152600"/>
                <a:gridCol w="415296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50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 восьми і більше авторів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 перелічують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рші шість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вторів, потім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ри крапки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і останній автор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or, A. A., Author, B. B., Author, C. C., Author, D. D., Author, E. E., Author, F.</a:t>
                      </a: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,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Z. Z.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тематика / В. Г. Прусова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 : Освіта, 2004. 160 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усова, В. Г., Прихач, О. С., Довгань, К. Л., Остапенко, Г. Г., Бойко, С. О., Поліщук, О. О.,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Бондар, Г. Р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04). 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тематика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Освіта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sova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. G, 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hac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O. S.,D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vgan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K. L.,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penko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G. G., B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jko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. O., 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lischuk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. O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B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nda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G. R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004)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tematika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vita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21160" y="821520"/>
            <a:ext cx="7805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71640" y="2362320"/>
          <a:ext cx="7993080" cy="417672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аці одного і того ж року, того ж автора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 В. І. Практикум з трудового права України : навч. посіб. 2-ге вид., стер. Харків : Консум, 2000. 191 с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 В. І. Трудове право України : підручник. 2-ге вид., стер. Харків : Консум, 2000. 479 с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, В. І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Практикум з трудового права України: навчальний посібник. (2-ге вид.). Харків: Консум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, В. І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Трудове право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и: підручник (2-ге вид.). Харків: Консу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kopenk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I.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a)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ktikum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udovogo prava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rai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: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navchalnyi posibny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.)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arkiv: Ко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sum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kopenk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I.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b)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do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pra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rai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: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druchnyk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.)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arkiv: Ко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sum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38080" y="2362320"/>
          <a:ext cx="8055000" cy="4379760"/>
        </p:xfrm>
        <a:graphic>
          <a:graphicData uri="http://schemas.openxmlformats.org/drawingml/2006/table">
            <a:tbl>
              <a:tblPr/>
              <a:tblGrid>
                <a:gridCol w="4027680"/>
                <a:gridCol w="4027320"/>
              </a:tblGrid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втори і редактор:</a:t>
                      </a: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A. A.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 Editor, A. A. (Ed.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харченко В. М., Луговий В. І.,  Рашкевич Ю. М.,  Таланова Ж. В. Розроблення освітніх програм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м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тод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рек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 ред. В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. Кременя. К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їв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: Пріоритети, 2014. 120 с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харченко, В. М., Луговий, В. І., Шашкевич, Ю. М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Таланова, Ж. В. (2014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озроблення освітніх програм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ремень, В. Г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Ред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Пріоритети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harchenko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. M., L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govij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I.,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shkevic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J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M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lanova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Z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V. (2014). R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zroblennja osvitnih program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men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, V. G. (Ed.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oritet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00000" y="2349360"/>
          <a:ext cx="8064360" cy="4532400"/>
        </p:xfrm>
        <a:graphic>
          <a:graphicData uri="http://schemas.openxmlformats.org/drawingml/2006/table">
            <a:tbl>
              <a:tblPr/>
              <a:tblGrid>
                <a:gridCol w="3996000"/>
                <a:gridCol w="406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дактор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без автора)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itor, A. A. (Ed.)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бо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редактори: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itor, A. A.</a:t>
                      </a: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Editor, B. B.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Eds)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ізація українських націоналістів і Українська повстанська армія: Історичні нариси / НАН України, Ін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 історії України 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п. ред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С. В. Кульчицький. Київ : Наук. думка, 2005. 495 с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ульчицький, С. В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Ред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05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ізація українськиї націоналістів і Українська повстанська армія: Історичні нариси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Наукова думк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ulchytsky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. V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5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hanizatsiia ukrains'kykh natsionalistiv i Ukrains'ka povstans'ka armiia: Istorychni narysy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Nau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va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dumka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e-Chai, A. Y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rgh, J. A.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Eds.)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01).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use and abuse of power: Multiple perspectives on the causes of corruption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w York: Psychology Press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2362320"/>
          <a:ext cx="8126640" cy="396072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агатотомне видання: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кономічна історія України: Історико-економічне дослідження : в 2 т. / НАН України, Ін-т історії України ; редкол.: В. М. Литвин (голова)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п. ред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В. А. Смолій. Київ : Ніка-Центр, 2011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молій В. А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Ред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1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кономічна історія України: Історико-економічне дослідження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Т.1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–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Ніка-Центр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ol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A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)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konomichna istoriia Ukrainy: Istoryko-ekonomichne doslidzhennia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ols. 1–2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Nika-Tsentr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38080" y="2362320"/>
          <a:ext cx="8126640" cy="401796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агатотомне видання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кремий том):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ворницький Д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І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запорізьких козаків : у 3 т. / упоряд. О. М. Апанович.  Львів : Світ, 1992. Т. 3. 456 с. : іл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ворницький, Д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І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(1992). 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запорізьких козаків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Т. 3)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Львів: Світ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ornitskij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D. I.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992)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torija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aporizkih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zakiv.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ol.</a:t>
                      </a: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3)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viv: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it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53560" y="783720"/>
            <a:ext cx="79480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ДСТУ ГОСТ 7.1:2006. Бібліографічний запис. Бібліографічний опис. Загальні вимоги та правила складанн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гламентуючий документ для оформлення бібліографічних списків, списків використаної літератури, списків літератури в наукових роботах тощ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0000" y="2276640"/>
          <a:ext cx="8064720" cy="4566960"/>
        </p:xfrm>
        <a:graphic>
          <a:graphicData uri="http://schemas.openxmlformats.org/drawingml/2006/table">
            <a:tbl>
              <a:tblPr/>
              <a:tblGrid>
                <a:gridCol w="4033800"/>
                <a:gridCol w="403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орядник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е повсякдення ранньомодерної доби : зб. док. / НДІ українознавства МОН України [та ін.] ; упоряд.: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 В. Безпалько [та ін.]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; наук. ред. І. Ворончук ; редкол.: В. В. Бездрабко [та ін.]., 2014. Вип. 1: Волинь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VI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. 776 с. (Серія документальних джерел)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езпалько, В. В., Висотін, М. Б., Ворончук, І. О., Кучерук, М. М.,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Чубик, Ю. I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Упоряд.)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4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е повсякдення ранньомодерної доби: збірник документів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Вип. 1: Волинь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VI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. Серія документальних джерел). Київ: Фенікс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zpalko V. V.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ysotin M. B., Voronchuk I. O., Kucheruk M. M.,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ubyk Yu. I.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Comps.).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4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krains'ke povsiakdennia rann'omodernoi doby: zbirnyk dokumenti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l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1: Volyn' XVI st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riia dokumental'nykh dzherel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yiv: Feniks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38080" y="2362320"/>
          <a:ext cx="8126640" cy="347796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ревидання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йко О. Д. Історія України : навч. посіб. 5-те вид., доп. Київ : Академвидав, 2014. 720 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йко, О. Д. (2014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України: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вчальний посібник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5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е вид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Академвидав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, O. D. (2014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toriia Ukrainy: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chal'nyj posibnyk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 ed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Akademvydav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2362320"/>
          <a:ext cx="8126640" cy="414000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астина книги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евченко В. В. Розвиток галузей промисловості. </a:t>
                      </a:r>
                      <a:r>
                        <a:rPr b="0" i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кономічна історія України: Історико-економічне дослідження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в 2 т. / НАН України, Ін-т історії України ; редкол: В. М. Литвин (голова), [та ін.] ; відп. ред. В. А. Смолій. Київ : Ніка-Центр, 2011. Т.1. С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26–632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евченко, В. В. (2011). Розвиток галузей промисловості. В. А. Смолій (Ред.), </a:t>
                      </a:r>
                      <a:r>
                        <a:rPr b="0" i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кономічна історія України: Історико-економічне дослідження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Т. 1, с. 626–632). Київ: Ніка-Центр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evchenk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. V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zvytok haluzej promyslovosti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. A. Smol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),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konomichna istoriia Ukrainy: Istoryko-ekonomichne doslidzhennia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ol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p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6–632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Kyiv: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ika-Tsentr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2362320"/>
          <a:ext cx="8126640" cy="4027320"/>
        </p:xfrm>
        <a:graphic>
          <a:graphicData uri="http://schemas.openxmlformats.org/drawingml/2006/table">
            <a:tbl>
              <a:tblPr/>
              <a:tblGrid>
                <a:gridCol w="4027680"/>
                <a:gridCol w="4098960"/>
              </a:tblGrid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ття з журналу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 О. М. Благодійність в Україні (ХІХ – початок ХХ ст.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ий історичний журнал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2005. № 4. С. 159–177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, О. М. (2005). Благодійність в Україні (ХІХ – початок ХХ ст.)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країнський історичний журнал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 2005, 4, 159–177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ni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. M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5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ahod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ist v Ukraini (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pochatok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X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t.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krains'kyj istorychnyj zhurnal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Ukrainian Historical Journal,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4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9–177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71640" y="2349360"/>
          <a:ext cx="7921440" cy="4289400"/>
        </p:xfrm>
        <a:graphic>
          <a:graphicData uri="http://schemas.openxmlformats.org/drawingml/2006/table">
            <a:tbl>
              <a:tblPr/>
              <a:tblGrid>
                <a:gridCol w="3994200"/>
                <a:gridCol w="392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ття зі збірника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ровой С. Я. Особливості формування населення міст Південної України в дореформений період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народного господарства та економічної думки Української РСР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 : Наук. думка, 1982. Вип. 16.  С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3–68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ровой, С. Я. (1982). Особливості формування населення міст Південної України в дореформений період. </a:t>
                      </a:r>
                      <a:r>
                        <a:rPr b="0" i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Історія народного господарства та економічної думки Української РСР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(16),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–68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rov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. Ya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82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oblyvosti formuvannia naselennia mist Pivdennoi Ukrainy v doreformenyj period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storiia narodnoho hospodarstva ta ekonomichnoi dumky Ukrains'koi RSR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(16), 63–68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26920" y="2276640"/>
          <a:ext cx="8317080" cy="4502160"/>
        </p:xfrm>
        <a:graphic>
          <a:graphicData uri="http://schemas.openxmlformats.org/drawingml/2006/table">
            <a:tbl>
              <a:tblPr/>
              <a:tblGrid>
                <a:gridCol w="4159440"/>
                <a:gridCol w="415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теріали конференцій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 А. І., Зуб С. С., Ляшко Н. І.  Грід-технології в освіті та наукових дослідженнях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истанційна освіта: реалії та перспективи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: матеріали І Всеукр. наук.-практ. конф., 12 груд. 2018 р., м. Харків. Харків : ХНПУ, 2018. С. 21–24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, А. І., Зуб, С. С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Ляшко, Н. І. (2018).  Грід-технології в освіті та наукових дослідженнях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истанційна освіта: реалії та перспективи,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Матеріали І Всеукраїнської науково-практичної конференції, (с. 21–24). Харків : ХНПУ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kopenko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. I., Zub S. S.,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ashko, N. I. (2018). Hrid-tekhnolohii v osviti ta naukovykh doslidzhenniakh. </a:t>
                      </a:r>
                      <a:r>
                        <a:rPr b="0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ystantsiina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vita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alii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 perspektyvy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erialy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I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seukrainskoi naukovo-praktychnoi konferentsii, (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p. 21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).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arkiv: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NPU. [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55640" y="2276640"/>
          <a:ext cx="8209080" cy="4533840"/>
        </p:xfrm>
        <a:graphic>
          <a:graphicData uri="http://schemas.openxmlformats.org/drawingml/2006/table">
            <a:tbl>
              <a:tblPr/>
              <a:tblGrid>
                <a:gridCol w="4033800"/>
                <a:gridCol w="4175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исертації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єліков Ю. А. Купецтво Харківської губернії (друга половина ХІХ – початок ХХ ст.) : дис. … канд. іст. наук : 07.00.01. Харків, 2003.  267 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єліков, Ю. А. (2003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упецтво Харківської губернії (друга половина ХІХ – початок ХХ ст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Дис. канд. іст. наук). Назва установи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Харків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країн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elikov, Yu. A. (2003)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upetstvo Kharkivs'koi hubernii (druha polovyna 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IX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pochatok 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X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st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[Merchants of Kharkiv province (the second half of 19th – beginning of 20th century)] (</a:t>
                      </a:r>
                      <a:r>
                        <a:rPr b="0" i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ndidate’s thesis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zva ustanovy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k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349360"/>
          <a:ext cx="8126640" cy="414828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5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втореферати дисертацій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лониць В. С. Торговельно-комерційна діяльність греків-купців в Україні (середина XVII – ХІХ ст.): автореф. дис. … канд. іст. наук :  07.00.01.  Донецьк, 2007.  20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лониць, В. С. (2007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орговельно-комерційна діяльність греків-купців в Україні (середина XVII – ХІХ ст.)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Автореф. дис. канд. іст. наук)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зва установи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Донецьк.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країн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olonyts, V. S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7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rhovel'no-komertsijna diial'nist' hrekiv-kuptsiv v Ukraini (seredyna XVII –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t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Trade and Commerce of the Greek Merchants in Ukraine (middle of XVI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)]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tended abstract of Candidate’s thesis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zva ustanovy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Donetsk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k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2276640"/>
          <a:ext cx="8388360" cy="4518000"/>
        </p:xfrm>
        <a:graphic>
          <a:graphicData uri="http://schemas.openxmlformats.org/drawingml/2006/table">
            <a:tbl>
              <a:tblPr/>
              <a:tblGrid>
                <a:gridCol w="4195800"/>
                <a:gridCol w="4192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лектронні ресурс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 О. М. Благодійність в Україні (ХІХ – початок ХХ ст.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ий історичний журнал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005. № 4. С. 159–177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жим доступу: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http://history.org.ua/JournALL/journal/2005/4/8.pd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, О. М. (2005). Благодійність в Україні (ХІХ – початок ХХ ст.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ий історичний журнал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005, 4, 159–177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жим доступу: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http://history.org.ua/JournALL/journal/2005/4/8.pd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nik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. M.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5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ahodi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ist v Ukraini (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pochatok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X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t.)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krains'kyj istorychnyj zhurnal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Ukrainian Historical Journal,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4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9–177.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trieved from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ttp://history.org.ua/JournALL/journal/2005/4/8.pdf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бо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stina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 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(2018). Verification of the system of preparation of future specialists of the social sphere for the prevention of maladjustment of pupils in various social institutio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national Journal of Science Annals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1(1–2), 18–30.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I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 10.26697/ijsa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ПИСОК  ВИКОРИСТАНОЇ ЛІТЕРАТУР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459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Бібліографічне посилання (загальні правила складання) відповідно до ДСТУ 8302:2015, запровадженого в дію в Україні 01.07.2016 [Електронний ресурс] : метод. рек. / Харків. нац. ун-т міськ. госп-ва ім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. М. Бекетова ; уклад. С. В. Карпенко ; відп. за вип. О. М. Штангей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Харків : ХНУМГ ім. О. М. Бекетова, 2017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19 с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Режим доступу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: </a:t>
            </a:r>
            <a:r>
              <a:rPr b="0" lang="uk-UA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prints.kname.edu.ua/46333/1/metod.rec.DSTU2015.pd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СТУ 8302:2015. Інформація та документація. Бібліог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фічні посилання. Загальні положення та правила складання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Чинний від 2016–07–01. –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иїв : ДП «УкрНДНЦ», 2016. –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6 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3.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OI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igital Object Identifier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). –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зва з екрана. – Режим доступу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uk-UA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s://doctorthinking.org/library/journals/digital_object_identifier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4.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іжнародні правила цитування та посилання в наукових роботах [Електронний ресурс] : метод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рек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/ автори-укладачі: О. Боженко, Ю. Корян, М. Федорець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дкол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В. С. Пашкова, О. В. Воскобойнікова-Гузєва, Я. Є. Сошинська, О. М. Бруй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УБА,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ц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тех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у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 України «Київ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літех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І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 ім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І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Сікорського»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аук. техн. б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 ім. Г. І. Денисенк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Київ : УБА, 2016. – 117 с. 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RI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ela.kpi.ua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handle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/123456789/186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33640" y="640080"/>
            <a:ext cx="75949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орядок наведення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бібліографічних відомостей </a:t>
            </a:r>
            <a:br>
              <a:rPr sz="2800"/>
            </a:b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гідно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ГОСТ 7.1:2006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80643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аголовок опису. Основна назва [Загальне позначення матеріалу] = Паралельна назва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омості, що відносяться до назви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омості про Авторство чи Відповідальність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о інших Осіб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омості про повторність видання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повідальність за видання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Зона специфічних відомостей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Місце видання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ид-во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рік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Фізична (кількісна) характеристика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Серія і підсерія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№, т.)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имітки (додаткова інформація від бібліографа, напр.: системні вимоги до електрон. ресурсів)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ISB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ПИСОК  ВИКОРИСТАНОЇ ЛІТЕРАТУР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5. Міжнародні стилі оформлення бібліографічних посилань [Електронний ресурс] : презентація / Наук. б-ка НаУКМА ; уклад. О. Кордюкова.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иїв : НБ НаУКМА, 2012. – 82 сл. – Режим доступу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https://www.slideshare.net/naukmalibrary/ss-7026009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6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формлення списку літератури для розширеної анотації англійською мовою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– Назва з екрана. – Режим доступу: http://mmi.fem.sumdu.edu.ua/sites/default/files/references_extend_summary_ukr.pd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клади оформлення використаних джерел: відповідно до Нац. стандарту України ДСТУ 8302:2015 [Електронний ресурс] / НАН України, ВД «Академперіодика». – Київ, 2016. – Режим доступу: http://histj.oa.edu.ua/assets/files/Posylannia.pdf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ПИСОК  ВИКОРИСТАНОЇ ЛІТЕРАТУР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Про внесення поправок у ДСТУ 8302:2015 «Інформація та документація. Бібліографічне посилання. Загальні положення та правила складання» // Інформаційний покажчик стандартів. – 2016. – № 12. – С. 103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9. Про затвердження Вимог до оформлення дисертацій : наказ М-ва освіти і науки України № 40 від 12.01.2017 р. // Інформаційний збірник та коментарі Міністерства освіти і науки України. – 2017. – № 4. – С. 75–84. – Режим доступу :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http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:/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zakon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rad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gov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u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laws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show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0155-17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10. Радченко А. І. Методичні рекомендації щодо нового стандарту «Бібліографічне посилання. Загальні положення та правила складання» (ДСТУ 8302: 2015) / А. І. Радченко ; НАН України, ВД «Академперіодика»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2-ге вид., доп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Київ : Академперіодика, 2017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18 с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Режим доступу: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http://akademperiodyka.org.ua/sites/default/files/manual_Radchenko_2017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62200" y="720720"/>
            <a:ext cx="7723800" cy="13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Cambria"/>
              </a:rPr>
              <a:t>Дякую за увагу!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732720" y="2637000"/>
            <a:ext cx="1295280" cy="1422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348000" y="429264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Зав. наук.-мет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відділу  наукової бібліотек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ХНПУ імені Г. С. Сковород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О. І. Романовськ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email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lio25@ukr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83040" y="572040"/>
            <a:ext cx="7308000" cy="13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орядок наведення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бібліографічних відомостей </a:t>
            </a:r>
            <a:br>
              <a:rPr sz="2800"/>
            </a:b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гідно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ГОСТ 7.1:2006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6932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налітичний бібліографічний опи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ідомості про складову частину документ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//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ідомості про ідентифікуючий документ. – Відомості про місцезнаходження складової частини в документі. – Примітки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14920" y="834120"/>
            <a:ext cx="7499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установлює  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види бібліографічних посилань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, що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аводяться у формі бібліографічного запис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правила та особливості складання і розміщення відповідних записів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юється на бібліографічні посилання в опублікованих і неопублікованих документах незалежно від носія інформації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7360" y="774360"/>
            <a:ext cx="7767000" cy="11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 заголовку бібліографічного запису подають відомості про одного, двох чи трьох авторів, при цьому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імена цих авторів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у відомостях про відповідальність (за навкісною рискою)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 повторюють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нько Т. І., Кочан І. М., Мацюк Г. П. Українське термінознавство. Львів, 1994. 216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6T08:00:31Z</dcterms:created>
  <dc:creator>user205b</dc:creator>
  <dc:description/>
  <dc:language>en-US</dc:language>
  <cp:lastModifiedBy>user227b</cp:lastModifiedBy>
  <dcterms:modified xsi:type="dcterms:W3CDTF">2020-02-12T14:13:05Z</dcterms:modified>
  <cp:revision>432</cp:revision>
  <dc:subject/>
  <dc:title>Оформлення списку  використаних джерел  згідно ДСТУ 8302:2015 Бібліографічне посилання. Загальні положення та правила складання та  міжнародного стилю APA.</dc:title>
</cp:coreProperties>
</file>