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992-9C32-4F5A-BB97-75F9B545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EA7-0966-4252-A7F2-4E3D22AB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5B5-69E5-4A34-9820-3C4B9F36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C31-613C-4403-9EB8-0A637677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7278-1EE5-4088-9592-7CD0FEDD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2CDA-9FD6-4223-A81F-D1BB37A5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0CA7-D389-4769-B32E-87B15EC2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13A9-B5C8-42EF-B8A5-5CFB6990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CBE0-C515-438E-B89C-EBDA3E64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D156-6701-436D-9FB4-3115DC91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1C2E-A0C0-45E5-A941-F5725D74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906-2071-435D-9F74-64D892B8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69E5-59FE-4EC4-BC32-8F7BE9A4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4E74-CEBD-4619-8410-E1FAC2E6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21B6-1AA2-4EE9-93A4-B73FF9EE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B94B-671E-482D-8AB7-5D4040FA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9847-01C2-473B-BE74-DBD8CDFB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9A2-ABA3-4ED5-A276-6A1A638A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924B-F8EC-4990-8952-96B05586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BD37-F14A-4BCE-9E5E-802B29FC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31C-6B2A-4731-A18A-77CACF4B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DE5F-2171-40D5-8AED-5E21DEC9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66A0-7B95-4319-8526-8628FA7A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789-6116-4C84-9F72-F7992891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C8D5-B502-4567-998B-A219A35D1C8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EBF7-508D-4C68-8E70-DA6ADF808CE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buv.gov.ua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ua.unicheck.com/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zakon.rada.gov.ua/laws/show/3792-12" TargetMode="External"/><Relationship Id="rId2" Type="http://schemas.openxmlformats.org/officeDocument/2006/relationships/hyperlink" Target="https://zakon.rada.gov.ua/laws/show/1556-18" TargetMode="External"/><Relationship Id="rId3" Type="http://schemas.openxmlformats.org/officeDocument/2006/relationships/hyperlink" Target="https://zakon.rada.gov.ua/laws/show/2145-19" TargetMode="External"/><Relationship Id="rId4" Type="http://schemas.openxmlformats.org/officeDocument/2006/relationships/hyperlink" Target="https://day.kyiv.ua/.../ukrayinskiy-osviti-akademichnu-dobro" TargetMode="External"/><Relationship Id="rId5" Type="http://schemas.openxmlformats.org/officeDocument/2006/relationships/hyperlink" Target="https://www.univer.kharkov.ua/images/redactor/news/2016-09-07/Kurbatov.pdf" TargetMode="External"/><Relationship Id="rId6" Type="http://schemas.openxmlformats.org/officeDocument/2006/relationships/hyperlink" Target="http://library.kubg.edu.ua/poslygy-ta-servis/dostup-do-internet.html" TargetMode="External"/><Relationship Id="rId7" Type="http://schemas.openxmlformats.org/officeDocument/2006/relationships/hyperlink" Target="https://saiup.org.ua/universiteti-uchasniki/" TargetMode="External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clio25@ukr.net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Академічна доброчесність як основа успіх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708360" y="3581280"/>
            <a:ext cx="5184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3399"/>
                </a:solidFill>
                <a:latin typeface="Cambria"/>
              </a:rPr>
              <a:t>Чесність починається з тебе…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272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Законодавчі докумен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345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Cambria"/>
              </a:rPr>
              <a:t>Закон України «Про освіту»</a:t>
            </a:r>
            <a:r>
              <a:rPr b="0" lang="uk-UA" sz="2400" spc="-1" strike="noStrike">
                <a:solidFill>
                  <a:srgbClr val="990099"/>
                </a:solidFill>
                <a:latin typeface="Cambria"/>
              </a:rPr>
              <a:t> від 05.09.2017 року  № 2145-</a:t>
            </a:r>
            <a:r>
              <a:rPr b="0" lang="en-US" sz="2400" spc="-1" strike="noStrike">
                <a:solidFill>
                  <a:srgbClr val="990099"/>
                </a:solidFill>
                <a:latin typeface="Cambria"/>
              </a:rPr>
              <a:t>VIII</a:t>
            </a:r>
            <a:r>
              <a:rPr b="0" lang="ru-RU" sz="2400" spc="-1" strike="noStrike">
                <a:solidFill>
                  <a:srgbClr val="990099"/>
                </a:solidFill>
                <a:latin typeface="Cambria"/>
              </a:rPr>
              <a:t> у ст. 42 визначає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014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501480" indent="34596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основні принципи академічної доброчесності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01480" indent="34596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особливості дотримання академічної доброчесності науково-педагогічними і науковими працівниками та здобувачами освіти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01480" indent="34596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єдині для всіх рівнів освіти види порушень академічної доброчесності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01480" indent="34596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види академічної відповідальності науково-педагогічних і наукових працівників та здобувачів освіти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01480" indent="34596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права осіб, стосовно яких порушено питання про порушення ними академічної доброчесності, тощо.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831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Законодавчі докумен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63180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Cambria"/>
              </a:rPr>
              <a:t>Закон України “Про вищу освіту”</a:t>
            </a: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990099"/>
                </a:solidFill>
                <a:latin typeface="Cambria"/>
              </a:rPr>
              <a:t>у </a:t>
            </a:r>
            <a:r>
              <a:rPr b="1" lang="uk-UA" sz="2800" spc="-1" strike="noStrike">
                <a:solidFill>
                  <a:srgbClr val="990099"/>
                </a:solidFill>
                <a:latin typeface="Cambria"/>
              </a:rPr>
              <a:t>ст. 69 </a:t>
            </a:r>
            <a:r>
              <a:rPr b="0" lang="uk-UA" sz="2800" spc="-1" strike="noStrike">
                <a:solidFill>
                  <a:srgbClr val="990099"/>
                </a:solidFill>
                <a:latin typeface="Cambria"/>
              </a:rPr>
              <a:t>визначає</a:t>
            </a:r>
            <a:r>
              <a:rPr b="1" lang="uk-UA" sz="2800" spc="-1" strike="noStrike">
                <a:solidFill>
                  <a:srgbClr val="990099"/>
                </a:solidFill>
                <a:latin typeface="Cambria"/>
              </a:rPr>
              <a:t> академічний плагіат як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3399"/>
                </a:solidFill>
                <a:latin typeface="Cambria"/>
              </a:rPr>
              <a:t>оприлюднення (часткове або повністю) наукових результатів, отриманих іншими особами, як результатів власного дослідження та/ або відтворення опублікованих текстів інших авторів без зазначення авторств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63180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Cambria"/>
              </a:rPr>
              <a:t>Закон України “Про авторське право і суміжні права”</a:t>
            </a:r>
            <a:r>
              <a:rPr b="0" lang="uk-UA" sz="2800" spc="-1" strike="noStrike">
                <a:solidFill>
                  <a:srgbClr val="990099"/>
                </a:solidFill>
                <a:latin typeface="Cambria"/>
              </a:rPr>
              <a:t> визначає юридичну відповідальність за плагіат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Cambria"/>
              </a:rPr>
              <a:t>Дотримання академічної доброчесності передбача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13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1800" indent="-54612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самостійне виконання навчальних завдань, завдань поточного та підсумкового контролю результатів навчання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901800" indent="-54612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посилання на джерела інформації у разі використання ідей, тверджень, відомостей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901800" indent="-54612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дотримання норм законодавства про авторське право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901800" indent="-54612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надання достовірної інформації про результати власної навчальної (наукової, творчої) діяльності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901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90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96840"/>
            <a:ext cx="697392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ambria"/>
              </a:rPr>
              <a:t>Порушенням академічної доброчесності </a:t>
            </a:r>
            <a:r>
              <a:rPr b="1" lang="en-US" sz="3600" spc="-1" strike="noStrike">
                <a:solidFill>
                  <a:srgbClr val="009999"/>
                </a:solidFill>
                <a:latin typeface="Cambria"/>
              </a:rPr>
              <a:t> </a:t>
            </a:r>
            <a:r>
              <a:rPr b="1" lang="ru-RU" sz="3600" spc="-1" strike="noStrike">
                <a:solidFill>
                  <a:srgbClr val="009999"/>
                </a:solidFill>
                <a:latin typeface="Cambria"/>
              </a:rPr>
              <a:t>вважає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mbria"/>
              </a:rPr>
              <a:t>фабрикація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 – фальсифікація результатів досліджень, посилань, або будь-яких інших даних, що стосуються освітнього процесу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mbria"/>
              </a:rPr>
              <a:t>обман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 – надання завідомо неправдивої інформації стосовно власної освітньої (наукової, творчої) діяльності чи організації освітньої процесу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mbria"/>
              </a:rPr>
              <a:t>списування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 – використання без відповідного дозволу зовнішніх джерел інформації під час оцінювання результатів навчання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mbria"/>
              </a:rPr>
              <a:t>хабарництво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 – надання (отримання) учасником освітнього процесу чи пропозиція щодо надання (отримання) коштів, майна чи послуг матеріального або нематеріального характеру з метою отримання неправомірної вигоди в освітньому процесі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920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Відповідальність за порушення академічної доброчесн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64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ambria"/>
              </a:rPr>
              <a:t>повторне проходження оцінювання (контрольна робота, іспит, залік тощо)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ambria"/>
              </a:rPr>
              <a:t>повторне проходження навчального курсу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ambria"/>
              </a:rPr>
              <a:t>відрахування</a:t>
            </a:r>
            <a:r>
              <a:rPr b="0" lang="en-US" sz="3200" spc="-1" strike="noStrike">
                <a:solidFill>
                  <a:srgbClr val="003399"/>
                </a:solidFill>
                <a:latin typeface="Cambria"/>
              </a:rPr>
              <a:t> із закладу освіти (крім осіб, що здобувають загальну середню освіту)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189000"/>
            <a:ext cx="7157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Що сприяє академічній доброчесності?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інформаційна грамотність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надійність інформаційних джерел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культура інформаційного пошуку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боротьба з плагіатом,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равильність посилань та цитувань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равильність оформлення наукових робіт, зокрема джерел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академічна етика користувачів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дотримання авторського прав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129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Що таке плагіат?</a:t>
            </a:r>
            <a:br>
              <a:rPr sz="3600"/>
            </a:b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Види плагіа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20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3682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Плагіат</a:t>
            </a: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 –</a:t>
            </a:r>
            <a:r>
              <a:rPr b="1" lang="en-US" sz="24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ambria"/>
              </a:rPr>
              <a:t>(</a:t>
            </a:r>
            <a:r>
              <a:rPr b="1" lang="uk-UA" sz="1800" spc="-1" strike="noStrike">
                <a:solidFill>
                  <a:srgbClr val="003399"/>
                </a:solidFill>
                <a:latin typeface="Cambria"/>
              </a:rPr>
              <a:t>походить від латинського “</a:t>
            </a:r>
            <a:r>
              <a:rPr b="1" lang="en-US" sz="1800" spc="-1" strike="noStrike">
                <a:solidFill>
                  <a:srgbClr val="003399"/>
                </a:solidFill>
                <a:latin typeface="Cambria"/>
              </a:rPr>
              <a:t>plagium</a:t>
            </a:r>
            <a:r>
              <a:rPr b="1" lang="uk-UA" sz="1800" spc="-1" strike="noStrike">
                <a:solidFill>
                  <a:srgbClr val="003399"/>
                </a:solidFill>
                <a:latin typeface="Cambria"/>
              </a:rPr>
              <a:t>”, що означає </a:t>
            </a:r>
            <a:r>
              <a:rPr b="1" lang="uk-UA" sz="1800" spc="-1" strike="noStrike">
                <a:solidFill>
                  <a:srgbClr val="cc3300"/>
                </a:solidFill>
                <a:latin typeface="Cambria"/>
              </a:rPr>
              <a:t>“крадіжка”</a:t>
            </a:r>
            <a:r>
              <a:rPr b="1" lang="en-US" sz="1800" spc="-1" strike="noStrike">
                <a:solidFill>
                  <a:srgbClr val="003399"/>
                </a:solidFill>
                <a:latin typeface="Cambria"/>
              </a:rPr>
              <a:t>)</a:t>
            </a: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привласнення авторства на чужий твір науки, літератури, мистецтва або на чуже відкриття, винахід чи раціоналізаторську пропозицію, а також використання у своїх працях чужого твору без посилання на автора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55680" indent="3682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Дослівний плагіат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це коли текст першоджерела переписується без істотних змін. При цьому копіюються великі частини авторського тексту без посилань на джерело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55680" indent="3682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Мозаїчний плагіат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це компіляція декількох джерел та перефразування окремих слів. В результаті з’являється мозаїка, в якій не зрозуміло, де закінчується одне джерело, де починається інше, де коментар автора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55680" indent="3682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Самоплагіат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копіювання у себе робіт минулих рокі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55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697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Види плагіа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-411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3300"/>
                </a:solidFill>
                <a:latin typeface="Cambria"/>
              </a:rPr>
              <a:t>Компіляція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укладання з кількох чужих матеріалів свого тексту; редагування без дозволу чужого матеріалу: смислова, стилістична, граматична правка й скорочення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3300"/>
                </a:solidFill>
                <a:latin typeface="Cambria"/>
              </a:rPr>
              <a:t>Рерайт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додавання до чужого матеріалу без дозволу автора додаткової інформації, з переробкою раніше обнародуваного матеріалу із зміною слів та виразі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Републікація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повторне або багаторазове обнародування в іншому джерелі чужої інформації зі справжнім підписом автора й посиланням на джерело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Реплікація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процес копіювання даних з одного джерела на інші і навпаки, тобто своєрідне «тиражування» інформації без дозволу автора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Перефразування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– перефразування частин тексту інших авторів зі зміною порядку слів або наслідування структури їхньої аргументації без посилання на джерело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333000"/>
            <a:ext cx="7157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Що не є плагіат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Загальновідомі знання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загальновідомі факти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ідеї або визначення, що широко розповсюджені та відомі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овідомлення про новини (прес-інформація)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твори народної творчості (фольклору)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офіційні документи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державні символи України і таке інше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грошові знаки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розклади руху транспортних засобів, розклади телерадіопередач, телефонних довідників та інших аналогічних баз даних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6581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Як уникнути   плагіат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дотримуватись правил цитування та перевіряти посилання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завжди копіювати назву сайту та повну назву джерела, з яким працюєш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у процесі роботи свої коментарі та висновки писати окремо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висловлювати власну думку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систематизувати інформацію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бути самостійним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шукати свій стиль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96840"/>
            <a:ext cx="7488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Що таке академічна доброчесність</a:t>
            </a:r>
            <a:r>
              <a:rPr b="1" lang="uk-UA" sz="32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99"/>
                </a:solidFill>
                <a:uFillTx/>
                <a:latin typeface="Cambria"/>
              </a:rPr>
              <a:t>Академічна доброчесність</a:t>
            </a: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 – це моральний кодекс та етичні правила цивілізованого наукового та освітнього співтовариств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оняття «академічної доброчесності» включає в себе такі </a:t>
            </a:r>
            <a:r>
              <a:rPr b="0" lang="uk-UA" sz="2800" spc="-1" strike="noStrike">
                <a:solidFill>
                  <a:srgbClr val="cc3300"/>
                </a:solidFill>
                <a:latin typeface="Cambria"/>
              </a:rPr>
              <a:t>цінності</a:t>
            </a: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, як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3399"/>
                </a:solidFill>
                <a:latin typeface="Cambria"/>
              </a:rPr>
              <a:t>запобігання шахрайству, фальшуванню та плагіату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3399"/>
                </a:solidFill>
                <a:latin typeface="Cambria"/>
              </a:rPr>
              <a:t>підтримку академічних стандартів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3399"/>
                </a:solidFill>
                <a:latin typeface="Cambria"/>
              </a:rPr>
              <a:t>чесність і ретельність у дослідженнях і науковому видавництві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6973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Правила циту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07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42984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Точне відтворення цитованого тексту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Текст цитати починається і закінчується лапками, наводиться в тій граматичній формі, в якій він поданий у джерелі, зі збереженням особливостей авторського написання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Цитування повинне бути повним, без довільного скорочення авторського тексту і без перекручень думок автора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Якщо не використовується цитата, то можна зазначити основну ідею, а після неї в дужках указати прізвище автора, який уперше її висловив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Цитата не може бути дуже великою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Ненадійні джерела не можна цитувати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9999"/>
                </a:solidFill>
                <a:uFillTx/>
                <a:latin typeface="Cambria"/>
              </a:rPr>
              <a:t>Заборонено: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 надмірно цитувати, не цитувати зовсім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7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Як робити посиланн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У квадратних дужках, наприклад 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[2]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,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 [1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;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3]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, де цифри 1, 2, 3 відповідають порядковому номеру праці або джерела у списку використаних джерел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Якщо посилання на джерела підряд з 1 по 3, тоді 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[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1-3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]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Посилання на конкретні сторінки наводити після номера джерела через кому з маленької букви (с.), наприклад 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[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1, с. 5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]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Якщо посилання на кілька праць, вони розділяються крапкою з комою: 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[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1, с. 5; 2, с. 25-33</a:t>
            </a:r>
            <a:r>
              <a:rPr b="0" lang="en-US" sz="2400" spc="-1" strike="noStrike">
                <a:solidFill>
                  <a:srgbClr val="003399"/>
                </a:solidFill>
                <a:latin typeface="Cambria"/>
              </a:rPr>
              <a:t>]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Як оформити список використаних джере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468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За допомогою ДСТУ ГОСТ 7.1:2006 Бібліографічний запис. Бібліографічний опис. Загальні вимоги і правила складання (ГОСТ 7.1-2003, </a:t>
            </a:r>
            <a:r>
              <a:rPr b="0" lang="en-US" sz="2800" spc="-1" strike="noStrike">
                <a:solidFill>
                  <a:srgbClr val="003399"/>
                </a:solidFill>
                <a:latin typeface="Cambria"/>
              </a:rPr>
              <a:t>IDT)</a:t>
            </a: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4680" algn="just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За допомогою ДСТУ 8302:2015 Бібліографічне посилання. Загальні положення та правила складання.</a:t>
            </a:r>
            <a:r>
              <a:rPr b="0" lang="uk-UA" sz="3200" spc="-1" strike="noStrike">
                <a:solidFill>
                  <a:srgbClr val="003399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(Стандарти спрямовані на унормування різного роду посилань і діють паралельно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2040" y="0"/>
            <a:ext cx="752760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Приклади опису </a:t>
            </a:r>
            <a:br>
              <a:rPr sz="3200"/>
            </a:b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використаних джерел</a:t>
            </a:r>
            <a:br>
              <a:rPr sz="3600"/>
            </a:br>
            <a:r>
              <a:rPr b="1" lang="uk-UA" sz="1800" spc="-1" strike="noStrike">
                <a:solidFill>
                  <a:srgbClr val="009999"/>
                </a:solidFill>
                <a:latin typeface="Cambria"/>
              </a:rPr>
              <a:t>згідно 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ДСТУ ГОСТ 7.1:2006 Бібліографічний запис. Бібліографічний опис. Загальні вимоги і правила складання (ГОСТ 7.1-2003, </a:t>
            </a:r>
            <a:r>
              <a:rPr b="0" lang="en-US" sz="1800" spc="-1" strike="noStrike">
                <a:solidFill>
                  <a:srgbClr val="009999"/>
                </a:solidFill>
                <a:latin typeface="Cambria"/>
              </a:rPr>
              <a:t>IDT)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496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Без автор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Тіло чи особистість? Жіноча тілесність у вибраній малій українській прозі та графіці кінця ХІХ – початку ХХ століття : [антологія] / упоряд.: Л. Таран, О. Лагутенко. – Київ : Грані-Т, 2007. – 190, [1]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Багатотомний документ 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99"/>
                </a:solidFill>
                <a:latin typeface="Times New Roman"/>
              </a:rPr>
              <a:t>Багаторівневий опис</a:t>
            </a:r>
            <a:br>
              <a:rPr sz="1800"/>
            </a:b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Адміністративне право України: академ. курс : підруч. для студ. юрид. спец. вищ. навч. закл. : у 2 т. / НАН України, Ін-т держави і права ім. В. М. Корецького. – Київ : Юрид. думка, 2004–2005. – Т. 1 : Загальна частина. – 2004. – 583 с. ; 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Т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. 2 : Особлива частина. – 2005. – 624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99"/>
                </a:solidFill>
                <a:latin typeface="Times New Roman"/>
              </a:rPr>
              <a:t>Однорівневий опис</a:t>
            </a:r>
            <a:br>
              <a:rPr sz="1800"/>
            </a:b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Адміністративне право України: академ. курс : підруч. для студ. юрид. спец. вищих навч. закл. : у 2 т. Т. 1 : Загальна частина / НАН України, Ін-т держави і права ім. В.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М. Корецького. – Київ : Юрид. думка, 2004. – 583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Матеріали конференцій, з’їздів</a:t>
            </a:r>
            <a:br>
              <a:rPr sz="1800"/>
            </a:b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Оцінка й обгрунтування продовження ресурсу елементів конструкцій : праці конф., 6–9 черв. 2000 р., Київ. Т. 2 / відп. ред. В. Т. Трощенко. – Київ : Ін-т пробл. міцності, 2000. – С. 559–956, ХІІІ, [2] с. – (Ресурс 2000).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2040" y="-360"/>
            <a:ext cx="73850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Приклади опису </a:t>
            </a:r>
            <a:br>
              <a:rPr sz="3200"/>
            </a:b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використаних джерел</a:t>
            </a:r>
            <a:br>
              <a:rPr sz="3600"/>
            </a:br>
            <a:r>
              <a:rPr b="1" lang="uk-UA" sz="1800" spc="-1" strike="noStrike">
                <a:solidFill>
                  <a:srgbClr val="009999"/>
                </a:solidFill>
                <a:latin typeface="Cambria"/>
              </a:rPr>
              <a:t>згідно 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ДСТУ ГОСТ 7.1:2006 Бібліографічний запис. Бібліографічний опис. Загальні вимоги і правила складання (ГОСТ 7.1-2003, </a:t>
            </a:r>
            <a:r>
              <a:rPr b="0" lang="en-US" sz="1800" spc="-1" strike="noStrike">
                <a:solidFill>
                  <a:srgbClr val="009999"/>
                </a:solidFill>
                <a:latin typeface="Cambria"/>
              </a:rPr>
              <a:t>IDT)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Дисертації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Петров П. П. Активність молодих зірок сонячної маси : дис. … д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ра фіз.-мат. наук : 01.03.02 / 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П. П.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Петров. – Київ, 2005. – 276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Іванова К. Ю. Господарсько-правове регулювання договірних зобов’язань інноваційного характеру : дис. ... канд. юрид. наук : 12.00.04 / К. Ю. Іванова ; М-во освіти і науки, молоді та спорту України, Нац. ун-т “Юрид. акад. України ім. Ярослава Мудрого” ; наук. кер. Ю. Є. Атаманова. – Харків, 2012. – 202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Автореферати дисертаці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Новосад І. Я. Технологічне забезпеченя виготовлення секцій робочих органів гнучких гвинтових конвеєрів : автореф. дис. на здоб. наук. ступеня канд. техн. наук : спец. 05.02.08 – технологія машинобудування / І. Я. Новосад. – Тернопіль, 2007. – 20, [1] с.</a:t>
            </a:r>
            <a:br>
              <a:rPr sz="1600"/>
            </a:b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2040" y="-171720"/>
            <a:ext cx="73850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Приклади опису </a:t>
            </a:r>
            <a:br>
              <a:rPr sz="3200"/>
            </a:b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використаних джерел</a:t>
            </a:r>
            <a:br>
              <a:rPr sz="3600"/>
            </a:br>
            <a:r>
              <a:rPr b="1" lang="uk-UA" sz="1800" spc="-1" strike="noStrike">
                <a:solidFill>
                  <a:srgbClr val="009999"/>
                </a:solidFill>
                <a:latin typeface="Cambria"/>
              </a:rPr>
              <a:t>згідно 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ДСТУ ГОСТ 7.1:2006 Бібліографічний запис. Бібліографічний опис. Загальні вимоги і правила складання (ГОСТ 7.1-2003, </a:t>
            </a:r>
            <a:r>
              <a:rPr b="0" lang="en-US" sz="1800" spc="-1" strike="noStrike">
                <a:solidFill>
                  <a:srgbClr val="009999"/>
                </a:solidFill>
                <a:latin typeface="Cambria"/>
              </a:rPr>
              <a:t>IDT)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,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" y="1699920"/>
            <a:ext cx="8928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Times New Roman"/>
              </a:rPr>
              <a:t>Книги 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Один автор </a:t>
            </a:r>
            <a:br>
              <a:rPr sz="1600"/>
            </a:b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Василій Великий. Гомілії / Василій Великий ; [пер. з давньогрец. Л. Звонська]. – Львів : Свічадо, 2006.  307 с. – (Джерела християнського Сходу. Золотий вік патристики ІV–V ст. ; № 14).</a:t>
            </a:r>
            <a:br>
              <a:rPr sz="1400"/>
            </a:b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Два автори</a:t>
            </a:r>
            <a:br>
              <a:rPr sz="1600"/>
            </a:b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 Матяш І. Б. Діяльність Надзвичайної дипломатичної місії УНР в Угорщині : історія, спогади, арх. док. / І. Матяш, Ю. Мушка. – Київ : Києво-Могилян. акад., 2005. – 397, [1] с. – (Бібліотека наукового щорічника "Україна дипломатична" ; вип. 1).</a:t>
            </a:r>
            <a:br>
              <a:rPr sz="1400"/>
            </a:b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Три автори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br>
              <a:rPr sz="1600"/>
            </a:b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Любар О.О. Історія української школи і педагогіки : навч. посіб. / О. О. Любар, М. Г. Стельмахович, А. Т. Федоренко. – Київ : Знання, 2006. – 447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Чотири автори</a:t>
            </a:r>
            <a:br>
              <a:rPr sz="1400"/>
            </a:b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Механізація переробної галузі агропромислового комплексу : [підруч. для учнів проф.-техн. навч. закл.] / О. В. Гвоздєв, Ф. Ю. Ялпачик, Ю. П. Рогач, М. М. Сердюк. – Київ : Вища освіта, 2006. – 478, [1] с. – (ПТО: Професійно-технічна освіта). 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П’ять і більше авторів</a:t>
            </a:r>
            <a:r>
              <a:rPr b="1" lang="ru-RU" sz="1400" spc="-1" strike="noStrike">
                <a:solidFill>
                  <a:srgbClr val="003399"/>
                </a:solidFill>
                <a:latin typeface="Times New Roman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Формування здорового способу життя молоді : навч.-метод. посіб. для працівників соц. служб для сім’ї, дітей та молоді / Т. В. Бондар, О. Г. Карпенко, Д. М. Дикова-Фаворська </a:t>
            </a: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[</a:t>
            </a: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та ін.]. – Київ : Укр. ін-т соц. дослідж., 2005. – 115 с.  – (Серія "Формування здорового способу життя молоді" : у 14 кн. ; кн. 13). 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2040" y="0"/>
            <a:ext cx="73850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Приклади опису </a:t>
            </a:r>
            <a:br>
              <a:rPr sz="3200"/>
            </a:br>
            <a:r>
              <a:rPr b="1" lang="uk-UA" sz="3200" spc="-1" strike="noStrike">
                <a:solidFill>
                  <a:srgbClr val="009999"/>
                </a:solidFill>
                <a:latin typeface="Cambria"/>
              </a:rPr>
              <a:t>використаних джерел</a:t>
            </a:r>
            <a:br>
              <a:rPr sz="3600"/>
            </a:br>
            <a:r>
              <a:rPr b="1" lang="uk-UA" sz="1800" spc="-1" strike="noStrike">
                <a:solidFill>
                  <a:srgbClr val="009999"/>
                </a:solidFill>
                <a:latin typeface="Cambria"/>
              </a:rPr>
              <a:t>згідно 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ДСТУ ГОСТ 7.1:2006 Бібліографічний запис. Бібліографічний опис. Загальні вимоги і правила складання (ГОСТ 7.1-2003, </a:t>
            </a:r>
            <a:r>
              <a:rPr b="0" lang="en-US" sz="1800" spc="-1" strike="noStrike">
                <a:solidFill>
                  <a:srgbClr val="009999"/>
                </a:solidFill>
                <a:latin typeface="Cambria"/>
              </a:rPr>
              <a:t>IDT)</a:t>
            </a:r>
            <a:r>
              <a:rPr b="0" lang="uk-UA" sz="1800" spc="-1" strike="noStrike">
                <a:solidFill>
                  <a:srgbClr val="009999"/>
                </a:solidFill>
                <a:latin typeface="Cambri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Аналітичний опис 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Times New Roman"/>
              </a:rPr>
              <a:t>Частина книги, періодичного, продовжуваного видання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Козіна Ж. Л. Теоретичні основи і результати практичного застосування системного аналізу в наукових дослідженнях в області спортивних ігор // Теорія та методика фізичного виховання. – 2007. – № 6. – С. 15–18, 35–38.</a:t>
            </a:r>
            <a:br>
              <a:rPr sz="1600"/>
            </a:b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Ярошенко Т. О. Електронний журнал у дзеркалі публікацій у професійній пресі // Вісник Книжкової палати. – 2006. – № 5. – С. 29–32.</a:t>
            </a:r>
            <a:br>
              <a:rPr sz="1600"/>
            </a:b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Електронні ресурс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Нормативні акти України [Електронний ресурс] // Кадрове діловодство : довідник роботодавця / І. Б. Єрмаков. – 3-тє вид., допов. – Електрон. дані та прогр. – Київ : Бізнес Сисеми, 2005. – 1 електронний опт. диск (CD-ROM): кол. : 12 см. – Системні вимоги: Microsoft Windiws 95/98/2000/XP  ; 128 Mb RAM ;  SVGA (1024 ×768). – Назва з екрана. – Відом. про вид. з буклету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Національна бібліотека України імені В. І. Вернадського [Електронний ресурс] : [веб-сайт]. – Електронні дані. – Київ : НБУВ, 2013–2015. – Режим доступу: </a:t>
            </a:r>
            <a:r>
              <a:rPr b="0" lang="ru-RU" sz="16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www.nbuv.gov.u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 (дата звернення 30.03.2015)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– Назва з екрана. 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820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Приклад списку </a:t>
            </a:r>
            <a:br>
              <a:rPr sz="3600"/>
            </a:b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використаних джерел</a:t>
            </a: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8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Cambria"/>
              </a:rPr>
              <a:t>згідно ДСТУ 8302:2015 БІБЛІОГРАФІЧНЕ ПОСИЛАННЯ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Cambria"/>
              </a:rPr>
              <a:t>Загальні положення та правила складання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1. 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Бондар О. Г. Земля як об'єкт права власності за земельним законодавством України : автореф. дис. ... канд. юрид. наук : 12.00.06. Київ, 2005. 20 с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2. Бондаренко В. Г. Український вільнокозацький рух в Україні та на еміграції (1919–1993 рр.) : монографія. Запоріжжя : ЗНУ, 2016. 600 с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</a:rPr>
              <a:t>3. Брензавич В. Проект закону “Про забезпечення функціонування української мови як державної” і європейська інтеграція України. </a:t>
            </a:r>
            <a:r>
              <a:rPr b="0" i="1" lang="uk-UA" sz="1800" spc="-1" strike="noStrike">
                <a:solidFill>
                  <a:srgbClr val="003399"/>
                </a:solidFill>
                <a:latin typeface="Times New Roman"/>
              </a:rPr>
              <a:t>Голос України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</a:rPr>
              <a:t>. 2019. 17 січ. (№ 10). С. 4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4. Вініченко О. М. Система динамічного контролю соціально-економічного розвитку промислового підприємства : дис. ... д-ра екон. наук : 08.00.04. Дніпро, 2017. 424 с.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78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5. Воронкова, А. Е., Єрохіна Л. В., Рябенко Л. І.  Міжнародні економічні організації : навч. посіб. для студ. вищ. навч. закл. Київ : Професіонал, 2006. 343 с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8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6. Гура О. І., Гура Т. Є.  Психологія управління соціальною організацією : навч. посіб. 2-ге вид., доп. Херсон : ОЛДІ-ПЛЮС, 2015. 212 с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8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78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Приклад списку використаних джер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3516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7.    Енциклопедія Сучасної України / редкол.: І. М. Дзюба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[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та ін.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]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Київ : САМ, 2016. Т. 17. 712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8.    Загальні засади соціально-педагогічної роботи з сім’єю : навч.-метод. посіб. / уклад.: Л. В. Ричкова, В. В. Костіна. Харків : ХНПУ, 2004. 32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9.    Лук’яненко Л.  Не дам загинуть Україні! Київ, 1994. 510 с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10. Маслов, М. П. Розвиток на Слобідській Україні малих виробництв із фарбування текстилю у ХІХ – першій третини ХХ сторіччя. </a:t>
            </a:r>
            <a:r>
              <a:rPr b="0" i="1" lang="ru-RU" sz="1600" spc="-1" strike="noStrike">
                <a:solidFill>
                  <a:srgbClr val="003399"/>
                </a:solidFill>
                <a:latin typeface="Times New Roman"/>
              </a:rPr>
              <a:t>Краєзнавство і учитель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0" i="1" lang="ru-RU" sz="1600" spc="-1" strike="noStrike">
                <a:solidFill>
                  <a:srgbClr val="003399"/>
                </a:solidFill>
                <a:latin typeface="Times New Roman"/>
              </a:rPr>
              <a:t> 2014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: матеріали міжнар. наук. конф., м. Харків, 28 лют. 2014 р. Харків : Колегіум, 2014. С. 76–78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11.  Менеджмент : навч. посіб. / Д. Т. Бікулов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[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та ін.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]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. Запоріжжя : ЗНУ, 2017. 360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12.  Основи охорони праці : підручник / О. І. Запорожець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[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та ін.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].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2-ге вид. Київ : ЦУЛ, 2016. 264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13.  Пасічник З. Самоосвіта вчителя: розвиток методичної компетентності. </a:t>
            </a:r>
            <a:r>
              <a:rPr b="0" i="1" lang="uk-UA" sz="1600" spc="-1" strike="noStrike">
                <a:solidFill>
                  <a:srgbClr val="003399"/>
                </a:solidFill>
                <a:latin typeface="Times New Roman"/>
              </a:rPr>
              <a:t>Завуч. Шкільний світ.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2018. № 12. С. 4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29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14.  Сучасні здоров'язбережувальні технології : монографія / Х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арків. нац. пед. ун-т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ім. Г. С. Сковороди ; за заг. ред. Ю. Д. Бойчука. Харків : Оригінал, 2018. 723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80496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Перевірка на плагі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49320" y="1981080"/>
          <a:ext cx="7661160" cy="4577040"/>
        </p:xfrm>
        <a:graphic>
          <a:graphicData uri="http://schemas.openxmlformats.org/drawingml/2006/table">
            <a:tbl>
              <a:tblPr/>
              <a:tblGrid>
                <a:gridCol w="3830760"/>
                <a:gridCol w="3830400"/>
              </a:tblGrid>
              <a:tr h="252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Безкоштовні програми</a:t>
                      </a:r>
                      <a:r>
                        <a:rPr b="1" lang="uk-UA" sz="31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1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переваги: </a:t>
                      </a:r>
                      <a:endParaRPr b="0" lang="en-US" sz="27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buClr>
                          <a:srgbClr val="cc9900"/>
                        </a:buClr>
                        <a:buSzPct val="5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2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ільний доступ,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ростий інтерфейс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1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латні програми</a:t>
                      </a:r>
                      <a:r>
                        <a:rPr b="0" lang="uk-UA" sz="31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7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переваги:</a:t>
                      </a:r>
                      <a:endParaRPr b="0" lang="en-US" sz="27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рекомендовані МОН України</a:t>
                      </a:r>
                      <a:r>
                        <a:rPr b="0" lang="uk-UA" sz="2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cc9900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3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гарантують конфіденційність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999933"/>
                          </a:solidFill>
                          <a:latin typeface="Times New Roman"/>
                          <a:ea typeface="Times New Roman"/>
                        </a:rPr>
                        <a:t>PLAGIARISMA</a:t>
                      </a:r>
                      <a:endParaRPr b="0" lang="en-US" sz="27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999933"/>
                          </a:solidFill>
                          <a:latin typeface="Times New Roman"/>
                          <a:ea typeface="Times New Roman"/>
                        </a:rPr>
                        <a:t>UNICHECK</a:t>
                      </a:r>
                      <a:r>
                        <a:rPr b="0" lang="ru-RU" sz="23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999933"/>
                          </a:solidFill>
                          <a:latin typeface="Times New Roman"/>
                          <a:ea typeface="Times New Roman"/>
                        </a:rPr>
                        <a:t>ADVEGO Plagiatus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999933"/>
                          </a:solidFill>
                          <a:latin typeface="Times New Roman"/>
                          <a:ea typeface="Times New Roman"/>
                        </a:rPr>
                        <a:t>StrikePlagiarism</a:t>
                      </a:r>
                      <a:r>
                        <a:rPr b="0" lang="ru-RU" sz="2300" spc="-1" strike="noStrike">
                          <a:solidFill>
                            <a:srgbClr val="9999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14120" y="333000"/>
            <a:ext cx="71578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Ситуація в Україн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cc3300"/>
                </a:solidFill>
                <a:uFillTx/>
                <a:latin typeface="Cambria"/>
              </a:rPr>
              <a:t>2009 рік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99"/>
                </a:solidFill>
                <a:latin typeface="Cambria"/>
              </a:rPr>
              <a:t>вперше в українському освітньому середовищі з’явилось визначення “</a:t>
            </a:r>
            <a:r>
              <a:rPr b="1" lang="uk-UA" sz="3200" spc="-1" strike="noStrike">
                <a:solidFill>
                  <a:srgbClr val="003399"/>
                </a:solidFill>
                <a:latin typeface="Cambria"/>
              </a:rPr>
              <a:t>академічної доброчесності</a:t>
            </a:r>
            <a:r>
              <a:rPr b="0" lang="uk-UA" sz="3200" spc="-1" strike="noStrike">
                <a:solidFill>
                  <a:srgbClr val="003399"/>
                </a:solidFill>
                <a:latin typeface="Cambria"/>
              </a:rPr>
              <a:t>”,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99"/>
                </a:solidFill>
                <a:latin typeface="Cambria"/>
              </a:rPr>
              <a:t>розпочато впровадження Кодексів честі у ЗВО,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99"/>
                </a:solidFill>
                <a:latin typeface="Cambria"/>
              </a:rPr>
              <a:t>проведено заходи на підтримку цієї ініціативи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6902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Cambria"/>
              </a:rPr>
              <a:t>Як працює український пошук плагіату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981080"/>
            <a:ext cx="79261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3360" indent="-51336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9933"/>
                </a:solidFill>
                <a:uFillTx/>
                <a:latin typeface="Cambria"/>
                <a:hlinkClick r:id="rId1"/>
              </a:rPr>
              <a:t>UNICHEK</a:t>
            </a:r>
            <a:r>
              <a:rPr b="0" lang="ru-RU" sz="2800" spc="-1" strike="noStrike">
                <a:solidFill>
                  <a:srgbClr val="292929"/>
                </a:solidFill>
                <a:latin typeface="Cambria"/>
              </a:rPr>
              <a:t> </a:t>
            </a: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(раніше </a:t>
            </a:r>
            <a:r>
              <a:rPr b="1" lang="ru-RU" sz="2800" spc="-1" strike="noStrike">
                <a:solidFill>
                  <a:srgbClr val="003399"/>
                </a:solidFill>
                <a:latin typeface="Cambria"/>
              </a:rPr>
              <a:t>UNPLAG</a:t>
            </a: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) ― це сервіс з перевірки робіт на ознаки плагіату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13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	</a:t>
            </a: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—   </a:t>
            </a: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Створений українськими розробниками у 2014 році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13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	</a:t>
            </a: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— </a:t>
            </a: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Може використовуватись онлайн або інтегруватись з навчальними системами ВЗО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1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3399"/>
                </a:solidFill>
                <a:uFillTx/>
                <a:latin typeface="Cambria"/>
              </a:rPr>
              <a:t>Переваги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13360" indent="-51336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зручний функціонал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13360" indent="-51336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можливість порівнювати роботи з інтернет-джереалами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13360" indent="-51336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робота з багатьма мовами (укр., англ., ісп., фр., рос., нім. та ін.)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13360" indent="-51336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автоматичне визначення заміни символів і літер в тексті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13360" indent="-51336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автоматичне виключення цитування та списку використаних джерел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513360" indent="-51336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конфіденційність робот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632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Переваги дотримання академічної доброчесност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ідняття якості вищої освіти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розвиток репутаційного капіталу ЗВО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ідвищення рейтингу ЗВО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визнання дипломів університетів на європейському та світовому рівнях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ідвищення конкурентоспроможності випускників ЗВО</a:t>
            </a: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Список використаних джер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281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Закон України «Про авторське право і суміжні права». URL:  </a:t>
            </a:r>
            <a:r>
              <a:rPr b="0" lang="uk-UA" sz="16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s://zakon.rada.gov.ua/laws/show/3792-1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Закон України «Про вищу освіту». URL: </a:t>
            </a:r>
            <a:r>
              <a:rPr b="0" lang="uk-UA" sz="16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https://zakon.rada.gov.ua/laws/show/1556-18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Закон України «Про освіту». URL: </a:t>
            </a:r>
            <a:r>
              <a:rPr b="0" lang="uk-UA" sz="16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https://zakon.rada.gov.ua/laws/show/2145-19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Констанкевич І. Українській освіті — академічну доброчесність. URL: </a:t>
            </a:r>
            <a:r>
              <a:rPr b="0" lang="uk-UA" sz="16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https://day.kyiv.ua/.../ukrayinskiy-osviti-akademichnu-dobro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Курбатов С. Етичні принципи в академічній діяльності : презентація.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URL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uk-UA" sz="1600" spc="-1" strike="noStrike" u="sng">
                <a:solidFill>
                  <a:srgbClr val="999933"/>
                </a:solidFill>
                <a:uFillTx/>
                <a:latin typeface="Times New Roman"/>
                <a:hlinkClick r:id="rId5"/>
              </a:rPr>
              <a:t>https://www.univer.kharkov.ua/images/redactor/news/2016-09-07/Kurbatov.pdf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Мельниченко А. Прояви академічної нечесності. </a:t>
            </a:r>
            <a:r>
              <a:rPr b="0" i="1" lang="uk-UA" sz="1600" spc="-1" strike="noStrike">
                <a:solidFill>
                  <a:srgbClr val="292929"/>
                </a:solidFill>
                <a:latin typeface="Arial"/>
              </a:rPr>
              <a:t>Академічна чесність як основа сталого розвитку університету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 / за заг. ред. Т. В. Фінікова, А. Є. Артюхова. Київ : Таксон, 2016. С. 107—120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Перевірка на плагіат. URL: </a:t>
            </a:r>
            <a:r>
              <a:rPr b="0" lang="uk-UA" sz="16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tp://library.kubg.edu.ua/poslygy-ta-servis/dostup-do-internet.html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. (Назва з екрана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Універсальний навчальний посібник з академічної доброчесності для вчителів / уклад. О. С. Ройбу ; за заг. ред. О. О. Гужви. Вид. 2-ге, випр. та доп. Харків : ХНУ імені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В. Н. Каразіна, 2017. 32 с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Університети — учасники проекту SAIUP. URL: </a:t>
            </a:r>
            <a:r>
              <a:rPr b="0" lang="uk-UA" sz="16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https://saiup.org.ua/universiteti-uchasniki/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. (Назва з екрана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Яворська Т. М. Академічна доброчесність — запорука якісної освіти. URL: http: //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library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vn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ua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Konf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2017/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ext</a:t>
            </a:r>
            <a:r>
              <a:rPr b="0" lang="uk-UA" sz="1600" spc="-1" strike="noStrike">
                <a:solidFill>
                  <a:srgbClr val="292929"/>
                </a:solidFill>
                <a:latin typeface="Arial"/>
              </a:rPr>
              <a:t>/2017_26.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oc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488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9999"/>
                </a:solidFill>
                <a:latin typeface="Cambria"/>
              </a:rPr>
              <a:t>Дякую за увагу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99"/>
                </a:solidFill>
                <a:latin typeface="Times New Roman"/>
              </a:rPr>
              <a:t>Зав. наук.-метод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9999"/>
                </a:solidFill>
                <a:latin typeface="Times New Roman"/>
              </a:rPr>
              <a:t>відділу  НБ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99"/>
                </a:solidFill>
                <a:latin typeface="Times New Roman"/>
              </a:rPr>
              <a:t>ХНПУ імені Г. С. Сковород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99"/>
                </a:solidFill>
                <a:latin typeface="Times New Roman"/>
              </a:rPr>
              <a:t>Романовська О. І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email: </a:t>
            </a: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clio25@ukr.ne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380360" y="1844640"/>
            <a:ext cx="1152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582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Результати опитува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271800" algn="ctr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За даними соціологічного опитування </a:t>
            </a:r>
            <a:r>
              <a:rPr b="0" lang="ru-RU" sz="2400" spc="-1" strike="noStrike">
                <a:solidFill>
                  <a:srgbClr val="003399"/>
                </a:solidFill>
                <a:latin typeface="Cambria"/>
              </a:rPr>
              <a:t>TNS-Україна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Cambria"/>
              </a:rPr>
              <a:t>(</a:t>
            </a:r>
            <a:r>
              <a:rPr b="0" lang="uk-UA" sz="1800" spc="-1" strike="noStrike">
                <a:solidFill>
                  <a:srgbClr val="003399"/>
                </a:solidFill>
                <a:latin typeface="Cambria"/>
              </a:rPr>
              <a:t>3 </a:t>
            </a: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–</a:t>
            </a:r>
            <a:r>
              <a:rPr b="0" lang="uk-UA" sz="1800" spc="-1" strike="noStrike">
                <a:solidFill>
                  <a:srgbClr val="003399"/>
                </a:solidFill>
                <a:latin typeface="Cambria"/>
              </a:rPr>
              <a:t> 20.03.2016)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Cambria"/>
              </a:rPr>
              <a:t>Найбільш корумпованими сферами в Україні</a:t>
            </a:r>
            <a:r>
              <a:rPr b="0" lang="ru-RU" sz="24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1" i="1" lang="ru-RU" sz="2400" spc="-1" strike="noStrike">
                <a:solidFill>
                  <a:srgbClr val="003399"/>
                </a:solidFill>
                <a:latin typeface="Cambria"/>
              </a:rPr>
              <a:t>є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1. Медична сфера – 61 %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2. </a:t>
            </a:r>
            <a:r>
              <a:rPr b="1" lang="ru-RU" sz="2000" spc="-1" strike="noStrike">
                <a:solidFill>
                  <a:srgbClr val="cc3300"/>
                </a:solidFill>
                <a:latin typeface="Cambria"/>
              </a:rPr>
              <a:t>Освіта – 34 %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3. Силові структури – 24 %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4. Дозвільні контролюючі органи – 19 %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5. Місцеві органи влади – 18 %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92929"/>
              </a:solidFill>
              <a:latin typeface="Arial"/>
            </a:endParaRPr>
          </a:p>
          <a:p>
            <a:pPr marL="447840" indent="-271800" algn="ctr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За даними соціологічних опитувань громадських організацій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Cambria"/>
              </a:rPr>
              <a:t>99 %  студентів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1" i="1" lang="uk-UA" sz="2400" spc="-1" strike="noStrike">
                <a:solidFill>
                  <a:srgbClr val="003399"/>
                </a:solidFill>
                <a:latin typeface="Cambria"/>
              </a:rPr>
              <a:t>вдавались до тих чи інших нечесних методів під час навчання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96840"/>
            <a:ext cx="690264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Результати опитува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3160" indent="-443160" algn="just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За даними соціологічного опитування Східноукраїнського Фонду соціальних досліджень та Інституту соціально-гуманітарних досліджень ХНУ імені В. Н. Каразіна </a:t>
            </a:r>
            <a:r>
              <a:rPr b="1" i="1" lang="uk-UA" sz="2000" spc="-1" strike="noStrike">
                <a:solidFill>
                  <a:srgbClr val="003399"/>
                </a:solidFill>
                <a:latin typeface="Cambria"/>
              </a:rPr>
              <a:t>“Академічна культура українського студентства: основні чинники формування та розвитку”(25.12.2014 </a:t>
            </a:r>
            <a:r>
              <a:rPr b="1" i="1" lang="ru-RU" sz="2400" spc="-1" strike="noStrike">
                <a:solidFill>
                  <a:srgbClr val="003399"/>
                </a:solidFill>
                <a:latin typeface="Cambria"/>
              </a:rPr>
              <a:t>–</a:t>
            </a:r>
            <a:r>
              <a:rPr b="1" i="1" lang="uk-UA" sz="2000" spc="-1" strike="noStrike">
                <a:solidFill>
                  <a:srgbClr val="003399"/>
                </a:solidFill>
                <a:latin typeface="Cambria"/>
              </a:rPr>
              <a:t> 10.07.2015) у 25 ЗВО України</a:t>
            </a:r>
            <a:r>
              <a:rPr b="0" i="1" lang="uk-UA" sz="2000" spc="-1" strike="noStrike">
                <a:solidFill>
                  <a:srgbClr val="003399"/>
                </a:solidFill>
                <a:latin typeface="Cambria"/>
              </a:rPr>
              <a:t>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31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1.</a:t>
            </a:r>
            <a:r>
              <a:rPr b="0" lang="uk-UA" sz="2000" spc="-1" strike="noStrike">
                <a:solidFill>
                  <a:srgbClr val="cc3300"/>
                </a:solidFill>
                <a:latin typeface="Cambria"/>
              </a:rPr>
              <a:t>     67 % студентів вступають до українських ЗВО</a:t>
            </a: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 без домінуючої мотивації на отримання професійних знань – </a:t>
            </a:r>
            <a:r>
              <a:rPr b="0" lang="uk-UA" sz="2000" spc="-1" strike="noStrike">
                <a:solidFill>
                  <a:srgbClr val="cc3300"/>
                </a:solidFill>
                <a:latin typeface="Cambria"/>
              </a:rPr>
              <a:t>за отриманням формальної освіти (дипломів),</a:t>
            </a: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 лише14 % мають стійку орієнтацію на професійну роботу за отриманим фахом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31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Cambria"/>
              </a:rPr>
              <a:t>2.    78 % студентів складають іспити не самостійно, 67 % з них вдаються до списування під час іспиту, 23 % студентів вказують на випадки отримання оцінок за послуги або гроші, </a:t>
            </a:r>
            <a:r>
              <a:rPr b="0" lang="uk-UA" sz="2000" spc="-1" strike="noStrike">
                <a:solidFill>
                  <a:srgbClr val="cc3300"/>
                </a:solidFill>
                <a:latin typeface="Cambria"/>
              </a:rPr>
              <a:t>90 % студентів вдаються до плагіату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848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ambria"/>
              </a:rPr>
              <a:t>Проєкт сприяння академічній доброчесності в Україні (SAIUP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mbria"/>
              </a:rPr>
              <a:t>Проєкт реалізується Американськими Радами з міжнародної освіти в Україні за підтримки Посольства США та партнерства з Міністерством освіти і науки України.</a:t>
            </a:r>
            <a:r>
              <a:rPr b="0" lang="ru-RU" sz="24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Cambria"/>
              </a:rPr>
              <a:t>(</a:t>
            </a:r>
            <a:r>
              <a:rPr b="0" i="1" lang="uk-UA" sz="2400" spc="-1" strike="noStrike">
                <a:solidFill>
                  <a:srgbClr val="cc3300"/>
                </a:solidFill>
                <a:latin typeface="Cambria"/>
              </a:rPr>
              <a:t>Термін реалізації Проєкту – 1 січня 2016 року – 31 грудня 2019 року</a:t>
            </a:r>
            <a:r>
              <a:rPr b="0" i="1" lang="ru-RU" sz="2400" spc="-1" strike="noStrike">
                <a:solidFill>
                  <a:srgbClr val="cc3300"/>
                </a:solidFill>
                <a:latin typeface="Cambria"/>
              </a:rPr>
              <a:t>)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99"/>
                </a:solidFill>
                <a:latin typeface="Cambria"/>
              </a:rPr>
              <a:t>Місія проєкту</a:t>
            </a: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 – 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формування нової академічної культури, яка базуватиметься на довірі, чесності, прозорості, реальному навчанні, справжній науковій роботі.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Учасниками проєкту є </a:t>
            </a:r>
            <a:r>
              <a:rPr b="1" lang="uk-UA" sz="2800" spc="-1" strike="noStrike">
                <a:solidFill>
                  <a:srgbClr val="003399"/>
                </a:solidFill>
                <a:latin typeface="Cambria"/>
              </a:rPr>
              <a:t>1</a:t>
            </a:r>
            <a:r>
              <a:rPr b="1" lang="en-US" sz="2800" spc="-1" strike="noStrike">
                <a:solidFill>
                  <a:srgbClr val="003399"/>
                </a:solidFill>
                <a:latin typeface="Cambria"/>
              </a:rPr>
              <a:t>5</a:t>
            </a: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 українських університетів, </a:t>
            </a:r>
            <a:r>
              <a:rPr b="1" lang="en-US" sz="2800" spc="-1" strike="noStrike">
                <a:solidFill>
                  <a:srgbClr val="003399"/>
                </a:solidFill>
                <a:latin typeface="Cambria"/>
              </a:rPr>
              <a:t>4</a:t>
            </a: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 університети знаходяться у процесі приєднання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902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Реалізація проєкту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9999"/>
                </a:solidFill>
                <a:latin typeface="Cambria"/>
              </a:rPr>
              <a:t>(SAIUP) передбачає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розробку і впровадження курсу «Основи академічного письма»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рийняття університетами Кодексів честі, які встановлюють загальні моральні принципи та правила етичної поведінки осіб, що працюють і навчаються у ЗВО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опублікування Положення про протидію плагіату у ЗВО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створення єдиного національного репозитарію академічних текстів</a:t>
            </a:r>
            <a:r>
              <a:rPr b="0" lang="ru-RU" sz="2800" spc="-1" strike="noStrike">
                <a:solidFill>
                  <a:srgbClr val="003399"/>
                </a:solidFill>
                <a:latin typeface="Cambria"/>
              </a:rPr>
              <a:t> для </a:t>
            </a:r>
            <a:r>
              <a:rPr b="0" i="1" lang="uk-UA" sz="2800" spc="-1" strike="noStrike">
                <a:solidFill>
                  <a:srgbClr val="003399"/>
                </a:solidFill>
                <a:latin typeface="Cambria"/>
              </a:rPr>
              <a:t>забезпечення відкритого доступу до результатів наукових досліджень, які проводяться в університетах України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Результати</a:t>
            </a: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uk-UA" sz="3600" spc="-1" strike="noStrike">
                <a:solidFill>
                  <a:srgbClr val="009999"/>
                </a:solidFill>
                <a:latin typeface="Cambria"/>
              </a:rPr>
              <a:t>проєкту</a:t>
            </a: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3600" spc="-1" strike="noStrike">
                <a:solidFill>
                  <a:srgbClr val="009999"/>
                </a:solidFill>
                <a:latin typeface="Cambria"/>
              </a:rPr>
              <a:t>(SAIUP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ambria"/>
              </a:rPr>
              <a:t>Онлайн-курс</a:t>
            </a: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 «Академічна доброчесність для вчителів» на платформі EdEra (стартував у вересні 2019 року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ambria"/>
              </a:rPr>
              <a:t>дослідження</a:t>
            </a: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 «Мотивація студентів до навчання як визначальна умова академічної доброчесності»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ambria"/>
              </a:rPr>
              <a:t>тренінг</a:t>
            </a: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 «Планування курсу і розробка навчальних подій як інструменти запобігання порушень академічної доброчесності і підвищення академічної культури»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ambria"/>
              </a:rPr>
              <a:t>Конференція</a:t>
            </a: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 «Академічна доброчесність: практичний вимір»</a:t>
            </a:r>
            <a:r>
              <a:rPr b="1" lang="ru-RU" sz="20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(відбулась 11-12 квітня 2019 року в Національному університеті «Києво-Могилянська академія»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Cambria"/>
              </a:rPr>
              <a:t>Науково-практичні семінари</a:t>
            </a:r>
            <a:r>
              <a:rPr b="0" lang="ru-RU" sz="2000" spc="-1" strike="noStrike">
                <a:solidFill>
                  <a:srgbClr val="003399"/>
                </a:solidFill>
                <a:latin typeface="Cambria"/>
              </a:rPr>
              <a:t> за участю Роберта А. Коте, д-ра філософії з вивчення та викладання другої мови (SLAT) Університету Арізони, директора програми з вдосконалення навичок письма (WSIP);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1582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Результати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9999"/>
                </a:solidFill>
                <a:latin typeface="Cambria"/>
              </a:rPr>
              <a:t>проєкту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9999"/>
                </a:solidFill>
                <a:latin typeface="Cambria"/>
              </a:rPr>
              <a:t>(SAIU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59608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mbria"/>
              </a:rPr>
              <a:t>авторський курс </a:t>
            </a:r>
            <a:r>
              <a:rPr b="0" lang="ru-RU" sz="2400" spc="-1" strike="noStrike">
                <a:solidFill>
                  <a:srgbClr val="003399"/>
                </a:solidFill>
                <a:latin typeface="Cambria"/>
              </a:rPr>
              <a:t>«Академічна доброчесність та основи академічного письма»,</a:t>
            </a:r>
            <a:r>
              <a:rPr b="0" lang="ru-RU" sz="2400" spc="-1" strike="noStrike">
                <a:solidFill>
                  <a:srgbClr val="292929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Cambria"/>
              </a:rPr>
              <a:t>запроваджений в НаУКМА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mbria"/>
              </a:rPr>
              <a:t>програма</a:t>
            </a:r>
            <a:r>
              <a:rPr b="0" lang="ru-RU" sz="2400" spc="-1" strike="noStrike">
                <a:solidFill>
                  <a:srgbClr val="003399"/>
                </a:solidFill>
                <a:latin typeface="Cambria"/>
              </a:rPr>
              <a:t> «Студенти – Учням»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mbria"/>
              </a:rPr>
              <a:t>співпраця з волонтерами Корпусу Миру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mbria"/>
              </a:rPr>
              <a:t>EdCamp Ukraine </a:t>
            </a:r>
            <a:r>
              <a:rPr b="0" lang="ru-RU" sz="2400" spc="-1" strike="noStrike">
                <a:solidFill>
                  <a:srgbClr val="003399"/>
                </a:solidFill>
                <a:latin typeface="Cambria"/>
              </a:rPr>
              <a:t>– (не)конференції для професійного зростання шкільних педагогів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mbria"/>
              </a:rPr>
              <a:t>III </a:t>
            </a:r>
            <a:r>
              <a:rPr b="1" lang="uk-UA" sz="2400" spc="-1" strike="noStrike">
                <a:solidFill>
                  <a:srgbClr val="003399"/>
                </a:solidFill>
                <a:latin typeface="Cambria"/>
              </a:rPr>
              <a:t>Всеукраїнський студентсько-учнівський конкурс соціальної відеореклами</a:t>
            </a:r>
            <a:r>
              <a:rPr b="0" lang="uk-UA" sz="2400" spc="-1" strike="noStrike">
                <a:solidFill>
                  <a:srgbClr val="003399"/>
                </a:solidFill>
                <a:latin typeface="Cambria"/>
              </a:rPr>
              <a:t> “Чесність починається з тебе”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8T09:27:06Z</dcterms:created>
  <dc:creator>user205b</dc:creator>
  <dc:description/>
  <dc:language>en-US</dc:language>
  <cp:lastModifiedBy>user205b</cp:lastModifiedBy>
  <dcterms:modified xsi:type="dcterms:W3CDTF">2021-10-06T10:23:03Z</dcterms:modified>
  <cp:revision>272</cp:revision>
  <dc:subject/>
  <dc:title>Академічна доброчесність як основа успіху</dc:title>
</cp:coreProperties>
</file>