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57093-3566-47C3-8847-538F36C3A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CBEDB-C010-4307-A643-44430DDE8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024BA-552F-4CDE-AC91-297EEB93C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1BA08-FE0A-43E6-99ED-E2A95AC32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E37E7-D1A1-4486-B9AA-A53EED0EF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186F7-889A-4331-A457-F98607C77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324D7-0233-4504-B494-0FCC53C72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649FE-9DDC-461E-B540-BB4D954D4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C084-395E-4402-A160-CE399BC7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A9240-40C4-4A09-9869-9BDE7A721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9BD8-0264-45B4-8256-C2E576B82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8B98D-4088-4658-B65C-E12C822C7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03AE-1915-4436-BC94-16709C3CB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152280"/>
            <a:ext cx="56386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Наукова бібліотека Харківського національного педагогічного університету імені Г. С. Сковороди</a:t>
            </a:r>
            <a:endParaRPr b="0" lang="en-US" sz="1800" spc="-1" strike="noStrike">
              <a:solidFill>
                <a:srgbClr val="000000"/>
              </a:solidFill>
              <a:latin typeface="Arial"/>
            </a:endParaRPr>
          </a:p>
        </p:txBody>
      </p:sp>
      <p:sp>
        <p:nvSpPr>
          <p:cNvPr id="43" name=""/>
          <p:cNvSpPr/>
          <p:nvPr/>
        </p:nvSpPr>
        <p:spPr>
          <a:xfrm>
            <a:off x="3429000" y="6400800"/>
            <a:ext cx="19051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Харків, 2019</a:t>
            </a:r>
            <a:endParaRPr b="0" lang="en-US" sz="1800" spc="-1" strike="noStrike">
              <a:solidFill>
                <a:srgbClr val="000000"/>
              </a:solidFill>
              <a:latin typeface="Arial"/>
            </a:endParaRPr>
          </a:p>
        </p:txBody>
      </p:sp>
      <p:sp>
        <p:nvSpPr>
          <p:cNvPr id="44" name=""/>
          <p:cNvSpPr/>
          <p:nvPr/>
        </p:nvSpPr>
        <p:spPr>
          <a:xfrm>
            <a:off x="0" y="4267080"/>
            <a:ext cx="9144000" cy="1371600"/>
          </a:xfrm>
          <a:prstGeom prst="rect">
            <a:avLst/>
          </a:prstGeom>
          <a:gradFill rotWithShape="0">
            <a:gsLst>
              <a:gs pos="0">
                <a:srgbClr val="566768"/>
              </a:gs>
              <a:gs pos="50000">
                <a:srgbClr val="bbe0e3"/>
              </a:gs>
              <a:gs pos="100000">
                <a:srgbClr val="566768"/>
              </a:gs>
            </a:gsLst>
            <a:lin ang="5400000"/>
          </a:gra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a:t>
            </a:r>
            <a:r>
              <a:rPr b="1" lang="uk-UA" sz="2800" spc="-1" strike="noStrike">
                <a:solidFill>
                  <a:srgbClr val="000000"/>
                </a:solidFill>
                <a:latin typeface="Arial"/>
              </a:rPr>
              <a:t>АЛЬБЕРТ ЕЙНШТЕЙН: ТВОРЕЦЬ ТА БУНТАР”</a:t>
            </a:r>
            <a:r>
              <a:rPr b="1" lang="uk-UA" sz="2800" spc="-1" strike="noStrike">
                <a:solidFill>
                  <a:srgbClr val="000000"/>
                </a:solidFill>
                <a:latin typeface="Arial"/>
                <a:ea typeface="Times New Roman"/>
              </a:rPr>
              <a:t>,</a:t>
            </a:r>
            <a:r>
              <a:rPr b="0" lang="uk-UA" sz="2800" spc="-1" strike="noStrike">
                <a:solidFill>
                  <a:srgbClr val="000000"/>
                </a:solidFill>
                <a:latin typeface="Arial"/>
                <a:ea typeface="Times New Roman"/>
              </a:rPr>
              <a:t> </a:t>
            </a:r>
            <a:r>
              <a:rPr b="0" i="1" lang="uk-UA" sz="2800" spc="-1" strike="noStrike">
                <a:solidFill>
                  <a:srgbClr val="000000"/>
                </a:solidFill>
                <a:latin typeface="Arial"/>
                <a:ea typeface="Times New Roman"/>
              </a:rPr>
              <a:t>присвячується 1</a:t>
            </a:r>
            <a:r>
              <a:rPr b="0" i="1" lang="en-US" sz="2800" spc="-1" strike="noStrike">
                <a:solidFill>
                  <a:srgbClr val="000000"/>
                </a:solidFill>
                <a:latin typeface="Arial"/>
                <a:ea typeface="Times New Roman"/>
              </a:rPr>
              <a:t>40</a:t>
            </a:r>
            <a:r>
              <a:rPr b="0" i="1" lang="uk-UA" sz="2800" spc="-1" strike="noStrike">
                <a:solidFill>
                  <a:srgbClr val="000000"/>
                </a:solidFill>
                <a:latin typeface="Arial"/>
                <a:ea typeface="Times New Roman"/>
              </a:rPr>
              <a:t>-річчю від дня народження вченог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5" name=""/>
          <p:cNvSpPr/>
          <p:nvPr/>
        </p:nvSpPr>
        <p:spPr>
          <a:xfrm>
            <a:off x="0" y="5562720"/>
            <a:ext cx="9144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іртуальна виставка літератур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p:nvPr/>
        </p:nvSpPr>
        <p:spPr>
          <a:xfrm>
            <a:off x="228600" y="1523880"/>
            <a:ext cx="502920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Georgia"/>
              </a:rPr>
              <a:t>«</a:t>
            </a:r>
            <a:r>
              <a:rPr b="1" i="1" lang="ru-RU" sz="2000" spc="-1" strike="noStrike">
                <a:solidFill>
                  <a:srgbClr val="003300"/>
                </a:solidFill>
                <a:latin typeface="Georgia"/>
              </a:rPr>
              <a:t>Ідеї Ейнштейна дали фізичній науці імпульс, який звільнив її від застарілих філософських доктрин і перетворив на одну з вирішальних сил сучасного світу людей».</a:t>
            </a:r>
            <a:r>
              <a:rPr b="1" i="1" lang="ru-RU" sz="2000" spc="-1" strike="noStrike">
                <a:solidFill>
                  <a:srgbClr val="003300"/>
                </a:solidFill>
                <a:latin typeface="Arial"/>
              </a:rPr>
              <a:t> </a:t>
            </a:r>
            <a:r>
              <a:rPr b="1" lang="ru-RU" sz="1800" spc="-1" strike="noStrike">
                <a:solidFill>
                  <a:srgbClr val="003300"/>
                </a:solidFill>
                <a:latin typeface="Georgia"/>
              </a:rPr>
              <a:t>Макс Бор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енкель, Виктор Яковл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 изобретения и эксперимент / В. Я. Френкель, Б. Е. Явелов ; АН СССР ; А. Т. Григорьян (отв. ред.). - 2-е изд., перераб. и доп. - Москва : Наука, 1990. - 237 с. : ил. - (История науки и техники. Основана в 1977 г.) </a:t>
            </a:r>
            <a:endParaRPr b="0" lang="en-US" sz="2000" spc="-1" strike="noStrike">
              <a:solidFill>
                <a:srgbClr val="000000"/>
              </a:solidFill>
              <a:latin typeface="Arial"/>
            </a:endParaRPr>
          </a:p>
        </p:txBody>
      </p:sp>
      <p:sp>
        <p:nvSpPr>
          <p:cNvPr id="83"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В книге освещена малоизвестная область деятельности А. Эйнштейна - его конструкторско-изобретательское творчество и экспериментальные работы. Великий физик-теоретик всю свою жизнь уделял внимание сугубо практическим, прикладным задачам, связанным с текущим техническим прогрессом. Он занимался конструированием электрометра, холодильных машин, магнитогидродинамического насоса, гироскопических компасов, автоматической камеры, слухового аппарата и т. д. Живо и активно занимался экспериментированием - от предложения соответствующих экспериментов и до непосредственной работы над ними - наладки приборов и измерения на них.</a:t>
            </a:r>
            <a:endParaRPr b="0" lang="en-US" sz="1600" spc="-1" strike="noStrike">
              <a:solidFill>
                <a:srgbClr val="000000"/>
              </a:solidFill>
              <a:latin typeface="Arial"/>
            </a:endParaRPr>
          </a:p>
        </p:txBody>
      </p:sp>
      <p:pic>
        <p:nvPicPr>
          <p:cNvPr id="84" name="" descr=""/>
          <p:cNvPicPr/>
          <p:nvPr/>
        </p:nvPicPr>
        <p:blipFill>
          <a:blip r:embed="rId2"/>
          <a:stretch/>
        </p:blipFill>
        <p:spPr>
          <a:xfrm>
            <a:off x="838080" y="1676520"/>
            <a:ext cx="3038760" cy="48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офман, Б.</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творец и бунтарь / Б. Хофман ; при участии Э. Дюкас ; под ред. Ю. А. Данилова, Б. Г. Кузнецова ; пер.с англ. Н. И. Войскунской, И. С. Хорола. - Москва : Прогресс, 1983. - 216 с. : ил. </a:t>
            </a:r>
            <a:endParaRPr b="0" lang="en-US" sz="2000" spc="-1" strike="noStrike">
              <a:solidFill>
                <a:srgbClr val="000000"/>
              </a:solidFill>
              <a:latin typeface="Arial"/>
            </a:endParaRPr>
          </a:p>
        </p:txBody>
      </p:sp>
      <p:sp>
        <p:nvSpPr>
          <p:cNvPr id="87"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Автор любой биографической книги всегда стоит перед проблемой отбора, тем более автор книги об Эйнштейне. Автор книги дает представление об этом человеке так, чтобы его образ проступил, насколько это возможно, через все то, что он сам написал; при этом большое место было отведено его научной деятельности. Ибо наука была такой существенной частью натуры этого человека, таким стержнем всего его существа, что любая биография была бы не более чем собранием анекдотов и весьма поверхностным сочинением, если бы с легкостью прошла мимо этого. О его научной деятельности сказано достаточно, чтобы показать во всей глубине те отличительные черты, которые придают ей величие. Книга имеет повествовательный характер, чтобы читатель мог уловить сущность этого человека и его научной работы, а также окунуться в научную и политическую атмосферу той эпохи, в которой жил и творил Альберт Эйнштейн.</a:t>
            </a:r>
            <a:endParaRPr b="0" lang="en-US" sz="1600" spc="-1" strike="noStrike">
              <a:solidFill>
                <a:srgbClr val="000000"/>
              </a:solidFill>
              <a:latin typeface="Arial"/>
            </a:endParaRPr>
          </a:p>
        </p:txBody>
      </p:sp>
      <p:pic>
        <p:nvPicPr>
          <p:cNvPr id="88" name="" descr=""/>
          <p:cNvPicPr/>
          <p:nvPr/>
        </p:nvPicPr>
        <p:blipFill>
          <a:blip r:embed="rId2"/>
          <a:stretch/>
        </p:blipFill>
        <p:spPr>
          <a:xfrm>
            <a:off x="838080" y="1752480"/>
            <a:ext cx="307044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ущность теории относительности / А. Эйнштейн ; пер.с англ. - Москва : Инлитиздат, 1955. - 160 с. : портр. </a:t>
            </a:r>
            <a:endParaRPr b="0" lang="en-US" sz="2000" spc="-1" strike="noStrike">
              <a:solidFill>
                <a:srgbClr val="000000"/>
              </a:solidFill>
              <a:latin typeface="Arial"/>
            </a:endParaRPr>
          </a:p>
        </p:txBody>
      </p:sp>
      <p:sp>
        <p:nvSpPr>
          <p:cNvPr id="91"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Автор любой биографической книги всегда стоит перед проблемой отбора, тем более автор книги об Эйнштейне. Автор книги дает представление об этом человеке так, чтобы его образ проступил, насколько это возможно, через все то, что он сам написал; при этом большое место было отведено его научной деятельности. Ибо наука была такой существенной частью натуры этого человека, таким стержнем всего его существа, что любая биография была бы не более чем собранием анекдотов и весьма поверхностным сочинением, если бы с легкостью прошла мимо этого. О его научной деятельности сказано достаточно, чтобы показать во всей глубине те отличительные черты, которые придают ей величие. Книга имеет повествовательный характер, чтобы читатель мог уловить сущность этого человека и его научной работы, а также окунуться в научную и политическую атмосферу той эпохи, в которой жил и творил Альберт Эйнштейн.</a:t>
            </a:r>
            <a:endParaRPr b="0" lang="en-US" sz="1600" spc="-1" strike="noStrike">
              <a:solidFill>
                <a:srgbClr val="000000"/>
              </a:solidFill>
              <a:latin typeface="Arial"/>
            </a:endParaRPr>
          </a:p>
        </p:txBody>
      </p:sp>
      <p:pic>
        <p:nvPicPr>
          <p:cNvPr id="92" name="" descr=""/>
          <p:cNvPicPr/>
          <p:nvPr/>
        </p:nvPicPr>
        <p:blipFill>
          <a:blip r:embed="rId2"/>
          <a:stretch/>
        </p:blipFill>
        <p:spPr>
          <a:xfrm>
            <a:off x="838080" y="1905120"/>
            <a:ext cx="2905200" cy="45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льберт</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Физика и реальность : сб. статей / А. Эйнштейн ; АН СССР ; пер.с англ. С. Г. Суворова. - Москва : Наука, 1965. - 360 с. : ил., портр.</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5" name="PlaceHolder 2"/>
          <p:cNvSpPr>
            <a:spLocks noGrp="1"/>
          </p:cNvSpPr>
          <p:nvPr>
            <p:ph/>
          </p:nvPr>
        </p:nvSpPr>
        <p:spPr>
          <a:xfrm>
            <a:off x="4266720" y="1904760"/>
            <a:ext cx="4419720" cy="4601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Сборник статей Альберта Эйнштей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инципы теоретической физик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едшественники и современники (Макс Планк, Мариан Смолуховский, ЭмильВарбург, лорд Кельвин, Исаак Ньютон, Иоганн Кеплер, Эдисон, Мария Кюри, Г. А. Лоренц, Поль Ланжевен, Коперник и др.);</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теория относительност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риложении:</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узнецов Б. Г. Физика и реальность у Эйнштей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ляус Е. М. Альберт Эйнштейн</a:t>
            </a:r>
            <a:endParaRPr b="0" lang="en-US" sz="1600" spc="-1" strike="noStrike">
              <a:solidFill>
                <a:srgbClr val="000000"/>
              </a:solidFill>
              <a:latin typeface="Arial"/>
            </a:endParaRPr>
          </a:p>
        </p:txBody>
      </p:sp>
      <p:pic>
        <p:nvPicPr>
          <p:cNvPr id="96" name="" descr=""/>
          <p:cNvPicPr/>
          <p:nvPr/>
        </p:nvPicPr>
        <p:blipFill>
          <a:blip r:embed="rId2"/>
          <a:stretch/>
        </p:blipFill>
        <p:spPr>
          <a:xfrm>
            <a:off x="914400" y="1905120"/>
            <a:ext cx="3038400" cy="4572000"/>
          </a:xfrm>
          <a:prstGeom prst="rect">
            <a:avLst/>
          </a:prstGeom>
          <a:ln w="0">
            <a:noFill/>
          </a:ln>
        </p:spPr>
      </p:pic>
      <p:sp>
        <p:nvSpPr>
          <p:cNvPr id="97" name=""/>
          <p:cNvSpPr/>
          <p:nvPr/>
        </p:nvSpPr>
        <p:spPr>
          <a:xfrm>
            <a:off x="4114800" y="5257800"/>
            <a:ext cx="4648320" cy="12952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Смысл жизни имеет лишь жизнь, посвященная другим».</a:t>
            </a:r>
            <a:endParaRPr b="0" lang="en-US" sz="2800" spc="-1" strike="noStrike">
              <a:solidFill>
                <a:srgbClr val="000000"/>
              </a:solidFill>
              <a:latin typeface="Arial"/>
            </a:endParaRPr>
          </a:p>
          <a:p>
            <a:pPr marL="281160" indent="-2811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r>
              <a:rPr b="0" lang="en-US" sz="2800" spc="-1" strike="noStrike">
                <a:solidFill>
                  <a:srgbClr val="003300"/>
                </a:solidFill>
                <a:latin typeface="Monotype Corsiv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и современная физика : сб. ст. - Москва : Знание, 1979. - 80 с. : ил. - (Новое в жизни, науке, технике. Серия. Физика ; вып. 10)</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00"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Брошюра посвящена столетию со дня рождения одного из выдающихся физиков — Альберта Эйнштейна. В ней рассмотрены некоторые аспекты научного творчества и мировоззрения Эйнштейна. В брошюре освещены актуальные проблемы общей теории относительности, показан вклад Эйнштейна в развитие квантовой теории и стиль научного мышления физиков XX в.</a:t>
            </a:r>
            <a:endParaRPr b="0" lang="en-US" sz="1600" spc="-1" strike="noStrike">
              <a:solidFill>
                <a:srgbClr val="000000"/>
              </a:solidFill>
              <a:latin typeface="Arial"/>
            </a:endParaRPr>
          </a:p>
        </p:txBody>
      </p:sp>
      <p:pic>
        <p:nvPicPr>
          <p:cNvPr id="101" name="" descr=""/>
          <p:cNvPicPr/>
          <p:nvPr/>
        </p:nvPicPr>
        <p:blipFill>
          <a:blip r:embed="rId2"/>
          <a:stretch/>
        </p:blipFill>
        <p:spPr>
          <a:xfrm>
            <a:off x="914400" y="1981080"/>
            <a:ext cx="2905200" cy="4572000"/>
          </a:xfrm>
          <a:prstGeom prst="rect">
            <a:avLst/>
          </a:prstGeom>
          <a:ln w="0">
            <a:noFill/>
          </a:ln>
        </p:spPr>
      </p:pic>
      <p:sp>
        <p:nvSpPr>
          <p:cNvPr id="102" name=""/>
          <p:cNvSpPr/>
          <p:nvPr/>
        </p:nvSpPr>
        <p:spPr>
          <a:xfrm>
            <a:off x="4038480" y="3962520"/>
            <a:ext cx="4648320" cy="25146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Есть только два способа прожить свою жизнь. Первый — так, будто никаких чудес не бывает. Второй — так, будто все на свете является чудом». </a:t>
            </a:r>
            <a:endParaRPr b="0" lang="en-US" sz="2800" spc="-1" strike="noStrike">
              <a:solidFill>
                <a:srgbClr val="000000"/>
              </a:solidFill>
              <a:latin typeface="Arial"/>
            </a:endParaRPr>
          </a:p>
          <a:p>
            <a:pPr marL="312120" indent="-3121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и философские проблемы физики ХХ века / АН СССР , Ин-т философии. - Москва : Наука, 1979. - 568 с. : ил.  </a:t>
            </a:r>
            <a:endParaRPr b="0" lang="en-US" sz="2000" spc="-1" strike="noStrike">
              <a:solidFill>
                <a:srgbClr val="000000"/>
              </a:solidFill>
              <a:latin typeface="Arial"/>
            </a:endParaRPr>
          </a:p>
        </p:txBody>
      </p:sp>
      <p:sp>
        <p:nvSpPr>
          <p:cNvPr id="105"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Эта книга посвящена столетию со дня рождения Альберта Эйнштейна. В ней освещаются преимущественно философские аспекты научного наследия А. Эйнштейна — его мировоззрение, философское значение созданных им физических теорий. Главное внимание уделяется проблемам специальной и общей теории относительности — таким, как развитие понятия пространства и времени в релятивистской физике, их взаимосвязь, размерность физического пространства, дополнительность физики и геометрии. В книге дается оценка взглядов Эйнштейна на философские основания квантовой механики и его поисков единой теории поля. Специально рассматриваются философские проблемы релятивистской космологии и ее роль в описании пространственно-временной структуры вселенной.</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pic>
        <p:nvPicPr>
          <p:cNvPr id="106" name="" descr=""/>
          <p:cNvPicPr/>
          <p:nvPr/>
        </p:nvPicPr>
        <p:blipFill>
          <a:blip r:embed="rId2"/>
          <a:stretch/>
        </p:blipFill>
        <p:spPr>
          <a:xfrm>
            <a:off x="914400" y="1752480"/>
            <a:ext cx="3135240" cy="47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йнштейн, Альберт</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волюция физики. Развитие идей от первоначальных понятий до теории относительности и квантов / А. Эйнштейн, Л. Инфельд ; пер.с англ. и послесл. С. Г. Суворова. - 3-е изд., испр. - Москва : Наука, 1965. - 327 с. : ил.</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9" name="PlaceHolder 2"/>
          <p:cNvSpPr>
            <a:spLocks noGrp="1"/>
          </p:cNvSpPr>
          <p:nvPr>
            <p:ph/>
          </p:nvPr>
        </p:nvSpPr>
        <p:spPr>
          <a:xfrm>
            <a:off x="4114800" y="2133720"/>
            <a:ext cx="4572000" cy="4373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Книга Альберта Эйнштейна и Леопольда Инфельда знакомит читателя с развитием основных идей физики. В книге дается «представление о вечной борьбе изобретательного человеческого разума за более полное понимание законов, управляющих физическими явлениями», в ней показано, как каждая последующая, уточненная картина мира закономерно сменяет предыдущую. Книга отражает известную среди специалистов эйнштейновскую оценку задач современной физики и ее основных тенденций развития, которые в конечном счете ведут к созданию единой физической теории.</a:t>
            </a:r>
            <a:endParaRPr b="0" lang="en-US" sz="1600" spc="-1" strike="noStrike">
              <a:solidFill>
                <a:srgbClr val="000000"/>
              </a:solidFill>
              <a:latin typeface="Arial"/>
            </a:endParaRPr>
          </a:p>
        </p:txBody>
      </p:sp>
      <p:pic>
        <p:nvPicPr>
          <p:cNvPr id="110" name="" descr=""/>
          <p:cNvPicPr/>
          <p:nvPr/>
        </p:nvPicPr>
        <p:blipFill>
          <a:blip r:embed="rId2"/>
          <a:stretch/>
        </p:blipFill>
        <p:spPr>
          <a:xfrm>
            <a:off x="838080" y="1981080"/>
            <a:ext cx="2971800" cy="453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685440" y="228600"/>
            <a:ext cx="8001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обрание научных трудов</a:t>
            </a:r>
            <a:endParaRPr b="0" lang="en-US" sz="2800" spc="-1" strike="noStrike">
              <a:solidFill>
                <a:srgbClr val="000000"/>
              </a:solidFill>
              <a:latin typeface="Arial"/>
            </a:endParaRPr>
          </a:p>
        </p:txBody>
      </p:sp>
      <p:sp>
        <p:nvSpPr>
          <p:cNvPr id="113" name="PlaceHolder 2"/>
          <p:cNvSpPr>
            <a:spLocks noGrp="1"/>
          </p:cNvSpPr>
          <p:nvPr>
            <p:ph/>
          </p:nvPr>
        </p:nvSpPr>
        <p:spPr>
          <a:xfrm>
            <a:off x="5409720" y="837720"/>
            <a:ext cx="3505320" cy="5791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 [перевод]. Т. 1 : Работы по теории относительности 1905—1920 / А. Эйнштейн ; под ред. И. Е. Тамма [и др.]. – Москва : Наука, 1965. – 700 с. : черт. – (Академия наук СССР. Классики нау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 [перевод]. Т. 2 : Работы по теории относительности 1921—1955 / А. Эйнштейн ; под ред. И. Е. Тамма [и др.]. – Москва : Наука, 1966. – 878 с. : черт. – (Академия наук СССР. Классики нау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йнштейн, А.  Собрание научных трудов : в 4 т. Т. 3 : Работы по кинетической теории, теории излучения и основам квантовой механики . 1901—1955 / А. Эйнштейн ; под ред. И. Е. Тамма [и др.]. – Москва : Наука, 1965. – 632 с. : ил. – (Академия наук СССР. Классики науки).</a:t>
            </a:r>
            <a:endParaRPr b="0" lang="en-US" sz="1600" spc="-1" strike="noStrike">
              <a:solidFill>
                <a:srgbClr val="000000"/>
              </a:solidFill>
              <a:latin typeface="Arial"/>
            </a:endParaRPr>
          </a:p>
        </p:txBody>
      </p:sp>
      <p:pic>
        <p:nvPicPr>
          <p:cNvPr id="114" name="" descr=""/>
          <p:cNvPicPr/>
          <p:nvPr/>
        </p:nvPicPr>
        <p:blipFill>
          <a:blip r:embed="rId2"/>
          <a:stretch/>
        </p:blipFill>
        <p:spPr>
          <a:xfrm>
            <a:off x="762120" y="914400"/>
            <a:ext cx="4647960" cy="2789280"/>
          </a:xfrm>
          <a:prstGeom prst="rect">
            <a:avLst/>
          </a:prstGeom>
          <a:ln w="0">
            <a:noFill/>
          </a:ln>
        </p:spPr>
      </p:pic>
      <p:sp>
        <p:nvSpPr>
          <p:cNvPr id="115" name=""/>
          <p:cNvSpPr/>
          <p:nvPr/>
        </p:nvSpPr>
        <p:spPr>
          <a:xfrm>
            <a:off x="762120" y="3962520"/>
            <a:ext cx="4647960" cy="2666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Информация в чистом виде ‒ это не знание. Настоящий источник знания ‒ это опыт». </a:t>
            </a:r>
            <a:endParaRPr b="0" lang="en-US" sz="2800" spc="-1" strike="noStrike">
              <a:solidFill>
                <a:srgbClr val="000000"/>
              </a:solidFill>
              <a:latin typeface="Arial"/>
            </a:endParaRPr>
          </a:p>
          <a:p>
            <a:pPr marL="315360" indent="-315360">
              <a:lnSpc>
                <a:spcPct val="8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Поиск истины важнее, чем обладание истиной».</a:t>
            </a:r>
            <a:endParaRPr b="0" lang="en-US" sz="2800" spc="-1" strike="noStrike">
              <a:solidFill>
                <a:srgbClr val="000000"/>
              </a:solidFill>
              <a:latin typeface="Arial"/>
            </a:endParaRPr>
          </a:p>
          <a:p>
            <a:pPr marL="315360" indent="-3153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380880" y="228600"/>
            <a:ext cx="87631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СПИСОК ЛІТЕРАТУРИ</a:t>
            </a:r>
            <a:endParaRPr b="0" lang="en-US" sz="3200" spc="-1" strike="noStrike">
              <a:solidFill>
                <a:srgbClr val="000000"/>
              </a:solidFill>
              <a:latin typeface="Arial"/>
            </a:endParaRPr>
          </a:p>
        </p:txBody>
      </p:sp>
      <p:sp>
        <p:nvSpPr>
          <p:cNvPr id="118" name=""/>
          <p:cNvSpPr/>
          <p:nvPr/>
        </p:nvSpPr>
        <p:spPr>
          <a:xfrm>
            <a:off x="685800" y="990720"/>
            <a:ext cx="8229600" cy="571500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Борн, М.  Эйнштейновская теория относительности / М. Борн ; пер.с англ. Н. В. Мицкевича. – 2-е изд., испр. – Москва : Мир, 1972. – 36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2.</a:t>
            </a:r>
            <a:r>
              <a:rPr b="1" lang="ru-RU" sz="1000" spc="-1" strike="noStrike">
                <a:solidFill>
                  <a:srgbClr val="000000"/>
                </a:solidFill>
                <a:latin typeface="Times New Roman"/>
              </a:rPr>
              <a:t>	</a:t>
            </a:r>
            <a:r>
              <a:rPr b="1" lang="ru-RU" sz="1000" spc="-1" strike="noStrike">
                <a:solidFill>
                  <a:srgbClr val="000000"/>
                </a:solidFill>
                <a:latin typeface="Times New Roman"/>
              </a:rPr>
              <a:t>Гернек, Ф.  Альберт Эйнштейн / Ф. Гернек ; послесл. Б. Г. Кузнецова ; пер.с нем. И. Д. Рожанского. – Изд. 2-е. – Москва : Мир, 1984. – 128 с. : ил., портр.</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3.</a:t>
            </a:r>
            <a:r>
              <a:rPr b="1" lang="ru-RU" sz="1000" spc="-1" strike="noStrike">
                <a:solidFill>
                  <a:srgbClr val="000000"/>
                </a:solidFill>
                <a:latin typeface="Times New Roman"/>
              </a:rPr>
              <a:t>	</a:t>
            </a:r>
            <a:r>
              <a:rPr b="1" lang="ru-RU" sz="1000" spc="-1" strike="noStrike">
                <a:solidFill>
                  <a:srgbClr val="000000"/>
                </a:solidFill>
                <a:latin typeface="Times New Roman"/>
              </a:rPr>
              <a:t>Зелиг, К.  Альберт Эйнштейн / К. Зелиг ; пер.с нем. Н. Е. Барабановой и др. – Изд. 2-е, испр. и доп. – Москва : Атомиздат, 1966. – 231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4.</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йнштейн : АН СССР / Борис Григорьевич. Кузнецов. – Москва : Изд-во АН СССР, 1962. – 407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5.</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йнштейн : жизнь, смерть, бессмертие / Б. Г. Кузнецов. – Изд. 5-е, перераб. и доп. – Москва : Наука, 1979. – 680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6.</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Развитие физических идей от Галилея до Эйнштейна в свете современной науки / Б. Г. Кузнецов ; АН СССР , Ин-т ист. естествознан. и тех. – 2-е изд. – Москва : Наука, 1966. – 51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7.</a:t>
            </a:r>
            <a:r>
              <a:rPr b="1" lang="ru-RU" sz="1000" spc="-1" strike="noStrike">
                <a:solidFill>
                  <a:srgbClr val="000000"/>
                </a:solidFill>
                <a:latin typeface="Times New Roman"/>
              </a:rPr>
              <a:t>	</a:t>
            </a:r>
            <a:r>
              <a:rPr b="1" lang="ru-RU" sz="1000" spc="-1" strike="noStrike">
                <a:solidFill>
                  <a:srgbClr val="000000"/>
                </a:solidFill>
                <a:latin typeface="Times New Roman"/>
              </a:rPr>
              <a:t>Кузнецов, Б. Г.  Этюды об Энштейне / Б. Г. Кузнецов ; АН СССР. – Москва : Наука, 1965. – 383 с. – (Библиотека по теории относительност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8.</a:t>
            </a:r>
            <a:r>
              <a:rPr b="1" lang="ru-RU" sz="1000" spc="-1" strike="noStrike">
                <a:solidFill>
                  <a:srgbClr val="000000"/>
                </a:solidFill>
                <a:latin typeface="Times New Roman"/>
              </a:rPr>
              <a:t>	</a:t>
            </a:r>
            <a:r>
              <a:rPr b="1" lang="ru-RU" sz="1000" spc="-1" strike="noStrike">
                <a:solidFill>
                  <a:srgbClr val="000000"/>
                </a:solidFill>
                <a:latin typeface="Times New Roman"/>
              </a:rPr>
              <a:t>Френкель, В. Я.  Эйнштейн: изобретения и эксперимент / В. Я. Френкель, Б. Е. Явелов ; АН СССР ; А. Т. Григорьян (отв. ред.). – 2-е изд., перераб. и доп. – Москва : Наука, 1990. – 237 с. : ил. – (История науки и техники. Основана в 1977 г.).</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9.</a:t>
            </a:r>
            <a:r>
              <a:rPr b="1" lang="ru-RU" sz="1000" spc="-1" strike="noStrike">
                <a:solidFill>
                  <a:srgbClr val="000000"/>
                </a:solidFill>
                <a:latin typeface="Times New Roman"/>
              </a:rPr>
              <a:t>	</a:t>
            </a:r>
            <a:r>
              <a:rPr b="1" lang="ru-RU" sz="1000" spc="-1" strike="noStrike">
                <a:solidFill>
                  <a:srgbClr val="000000"/>
                </a:solidFill>
                <a:latin typeface="Times New Roman"/>
              </a:rPr>
              <a:t>Хофман, Б.  Альберт Эйнштейн : творец и бунтарь / Б. Хофман ; при участии Э. Дюкас ; под ред. Ю. А. Данилова, Б. Г. Кузнецова ; пер.с англ. Н. И. Войскунской, И. С. Хорола. – Москва : Прогресс, 1983. – 216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0.</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и современная физика : сб. ст. – Москва : Знание, 1979. – 80 с. : ил. – (Новое в жизни, науке, технике. Серия. Физика ; вып. 10).</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1.</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и философские проблемы физики ХХ века / АН СССР , Ин-т философии. – Москва : Наука, 1979. – 568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2.</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Эволюция физики. Развитие идей от первоначальных понятий до теории относительности и квантов / А. Эйнштейн, Л. Инфельд ; пер.с англ. и послесл. С. Г. Суворова. – 3-е изд., испр. – Москва : Наука, 1965. – 327 с. : ил.</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3.</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 [перевод]. Т. 2 : Работы по теории относительности 1921—1955 / А. Эйнштейн ; под ред. И. Е. Тамма [и др.]. – Москва : Наука, 1966. – 878 с. : черт.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4.</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 [перевод]. Т. 1 : Работы по теории относительности 1905—1920 / А. Эйнштейн ; под ред. И. Е. Тамма [и др.]. – Москва : Наука, 1965. – 700 с. : черт.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5.</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обрание научных трудов : в 4 т. Т. 3 : Работы по кинетической теории, теории излучения и основам квантовой механики . 1901—1955 / А. Эйнштейн ; под ред. И. Е. Тамма [и др.]. – Москва : Наука, 1965. – 632 с. : ил. – (Академия наук СССР. Классики науки).</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6.</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Сущность теории относительности / А. Эйнштейн ; пер.с англ. – Москва : Инлитиздат, 1955. – 160 с. : портр.</a:t>
            </a:r>
            <a:endParaRPr b="0" lang="en-US" sz="1000" spc="-1" strike="noStrike">
              <a:solidFill>
                <a:srgbClr val="000000"/>
              </a:solidFill>
              <a:latin typeface="Arial"/>
            </a:endParaRPr>
          </a:p>
          <a:p>
            <a:pPr marL="591120" indent="-591120">
              <a:lnSpc>
                <a:spcPct val="100000"/>
              </a:lnSpc>
              <a:spcBef>
                <a:spcPts val="2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7.</a:t>
            </a:r>
            <a:r>
              <a:rPr b="1" lang="ru-RU" sz="1000" spc="-1" strike="noStrike">
                <a:solidFill>
                  <a:srgbClr val="000000"/>
                </a:solidFill>
                <a:latin typeface="Times New Roman"/>
              </a:rPr>
              <a:t>	</a:t>
            </a:r>
            <a:r>
              <a:rPr b="1" lang="ru-RU" sz="1000" spc="-1" strike="noStrike">
                <a:solidFill>
                  <a:srgbClr val="000000"/>
                </a:solidFill>
                <a:latin typeface="Times New Roman"/>
              </a:rPr>
              <a:t>Эйнштейн, А.  Физика и реальность : сб. статей / А. Эйнштейн ; АН СССР ; пер.с англ. С. Г. Суворова. – Москва : Наука, 1965. – 360 с. : ил., портр.</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914400" y="304920"/>
            <a:ext cx="739152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 віртуальній виставці літератури представлені труди А. Ейнштейна та література про нього з фондів Наукової бібліотеки Харківського національного педагогічного університету імені Г. С. Сковороди.</a:t>
            </a:r>
            <a:endParaRPr b="0" lang="en-US" sz="2400" spc="-1" strike="noStrike">
              <a:solidFill>
                <a:srgbClr val="000000"/>
              </a:solidFill>
              <a:latin typeface="Arial"/>
            </a:endParaRPr>
          </a:p>
        </p:txBody>
      </p:sp>
      <p:sp>
        <p:nvSpPr>
          <p:cNvPr id="121" name=""/>
          <p:cNvSpPr/>
          <p:nvPr/>
        </p:nvSpPr>
        <p:spPr>
          <a:xfrm>
            <a:off x="685800" y="2666880"/>
            <a:ext cx="8153280" cy="10670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000000"/>
                </a:solidFill>
                <a:latin typeface="Monotype Corsiva"/>
              </a:rPr>
              <a:t>Запрошуємо до бібліотеки</a:t>
            </a:r>
            <a:endParaRPr b="0" lang="en-US" sz="6000" spc="-1" strike="noStrike">
              <a:solidFill>
                <a:srgbClr val="000000"/>
              </a:solidFill>
              <a:latin typeface="Arial"/>
            </a:endParaRPr>
          </a:p>
        </p:txBody>
      </p:sp>
      <p:sp>
        <p:nvSpPr>
          <p:cNvPr id="122" name=""/>
          <p:cNvSpPr/>
          <p:nvPr/>
        </p:nvSpPr>
        <p:spPr>
          <a:xfrm>
            <a:off x="3048120" y="5029200"/>
            <a:ext cx="579096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u="sng">
                <a:solidFill>
                  <a:srgbClr val="000000"/>
                </a:solidFill>
                <a:uFillTx/>
                <a:latin typeface="Arial"/>
              </a:rPr>
              <a:t>РОБОТУ ВИКОНАЛА:</a:t>
            </a:r>
            <a:endParaRPr b="0" lang="en-US" sz="3200" spc="-1" strike="noStrike">
              <a:solidFill>
                <a:srgbClr val="000000"/>
              </a:solidFill>
              <a:latin typeface="Arial"/>
            </a:endParaRPr>
          </a:p>
        </p:txBody>
      </p:sp>
      <p:sp>
        <p:nvSpPr>
          <p:cNvPr id="123" name=""/>
          <p:cNvSpPr/>
          <p:nvPr/>
        </p:nvSpPr>
        <p:spPr>
          <a:xfrm>
            <a:off x="2362320" y="5715000"/>
            <a:ext cx="6248160" cy="8380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ажара Світлана Сергіївна,</a:t>
            </a:r>
            <a:r>
              <a:rPr b="0" lang="ru-RU" sz="2000" spc="-1" strike="noStrike">
                <a:solidFill>
                  <a:srgbClr val="000000"/>
                </a:solidFill>
                <a:latin typeface="Arial"/>
              </a:rPr>
              <a:t> </a:t>
            </a:r>
            <a:endParaRPr b="0" lang="en-US" sz="2000" spc="-1" strike="noStrike">
              <a:solidFill>
                <a:srgbClr val="000000"/>
              </a:solidFill>
              <a:latin typeface="Arial"/>
            </a:endParaRPr>
          </a:p>
          <a:p>
            <a:pPr marL="294840" indent="-294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ібліограф 1 кат. НБ ХНПУ імені Г. С. Сковороди.</a:t>
            </a:r>
            <a:br>
              <a:rPr sz="20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p:nvPr>
        </p:nvSpPr>
        <p:spPr>
          <a:xfrm>
            <a:off x="685800" y="152280"/>
            <a:ext cx="8153280" cy="64771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Georgia"/>
              </a:rPr>
              <a:t>ИНТЕРЕСНО О Альберте Эйнштейне:</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Физик-теоретик, один из основателей современной теоретической физики.</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Лауреат Нобелевской премии по физике 1921 года.</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Общественный деятель-гуманист.</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Жил в Германии (1879—1893, 1914—1933), Швейцарии (1893—1914) и США (1933—1955).</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Почётный доктор около 20 ведущих университетов мира, член многих Академий наук, в том числе иностранный почётный член АН СССР (1926).</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Эйнштейн — автор более 300 научных работ по физике, а также около 150 книг и статей в области истории и философии науки, публицистики и др.</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Активно выступал против войны, против применения ядерного оружия, за гуманизм, уважение прав человека, взаимопонимание между народами.</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Он разработал несколько значительных физических теорий. Эйнштейну принадлежит решающая роль в популяризации и введении в научный оборот новых физических концепций и теорий. В первую очередь это относится к пересмотру понимания физической сущности пространства и времени и к построению новой теории гравитации взамен ньютоновской. Эйнштейн также, вместе с Планком, заложил основы квантовой теории. Эти концепции, многократно подтверждённые экспериментами, образуют фундамент современной физ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рн, Мак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овская теория относительности / М. Борн ; пер.с англ. Н. В. Мицкевича. - 2-е изд., испр. - Москва : Мир, 1972. - 368 с. : ил. </a:t>
            </a:r>
            <a:endParaRPr b="0" lang="en-US" sz="2000" spc="-1" strike="noStrike">
              <a:solidFill>
                <a:srgbClr val="000000"/>
              </a:solidFill>
              <a:latin typeface="Arial"/>
            </a:endParaRPr>
          </a:p>
        </p:txBody>
      </p:sp>
      <p:sp>
        <p:nvSpPr>
          <p:cNvPr id="51" name="PlaceHolder 2"/>
          <p:cNvSpPr>
            <a:spLocks noGrp="1"/>
          </p:cNvSpPr>
          <p:nvPr>
            <p:ph/>
          </p:nvPr>
        </p:nvSpPr>
        <p:spPr>
          <a:xfrm>
            <a:off x="4114800" y="1828800"/>
            <a:ext cx="4572000" cy="45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Книга Макса Борна «Эйнштейновская теория относительности» в ее современном варианте выходит на русском языке вторым изданием. Первое издание (1964 г.) быстро разошлось. Объясняется это как заслуженной известностью имени ее автора, так и весьма удачной подачей им обширного, ценного в познавательном отношении и интересного материала. Книга сочетает популярность изложения с подробностью и деловитостью учебника, охватывая значительную часть основ современной физики. Очень важно, что такую книгу написал ученый, лично принимавший деятельное участие в главных научных событиях первой половины нашего века. Макс Борн внес существенный вклад в современную физику, и его «Эйнштейновская теория относительности» всегда будет в числе книг, которыми дорожит как опытный физик-профессионал, так и готовящийся к научной карьере студент. </a:t>
            </a:r>
            <a:endParaRPr b="0" lang="en-US" sz="1600" spc="-1" strike="noStrike">
              <a:solidFill>
                <a:srgbClr val="000000"/>
              </a:solidFill>
              <a:latin typeface="Arial"/>
            </a:endParaRPr>
          </a:p>
        </p:txBody>
      </p:sp>
      <p:pic>
        <p:nvPicPr>
          <p:cNvPr id="52" name="" descr=""/>
          <p:cNvPicPr/>
          <p:nvPr/>
        </p:nvPicPr>
        <p:blipFill>
          <a:blip r:embed="rId2"/>
          <a:stretch/>
        </p:blipFill>
        <p:spPr>
          <a:xfrm>
            <a:off x="914400" y="1905120"/>
            <a:ext cx="3025800" cy="45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ернек, Фридри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Ф. Гернек ; послесл. Б. Г. Кузнецова ; пер.с нем. И. Д. Рожанского. - Изд. 2-е. - Москва : Мир, 1984. - 128 с. : ил., портр. </a:t>
            </a:r>
            <a:endParaRPr b="0" lang="en-US" sz="2000" spc="-1" strike="noStrike">
              <a:solidFill>
                <a:srgbClr val="000000"/>
              </a:solidFill>
              <a:latin typeface="Arial"/>
            </a:endParaRPr>
          </a:p>
        </p:txBody>
      </p:sp>
      <p:sp>
        <p:nvSpPr>
          <p:cNvPr id="55" name="PlaceHolder 2"/>
          <p:cNvSpPr>
            <a:spLocks noGrp="1"/>
          </p:cNvSpPr>
          <p:nvPr>
            <p:ph/>
          </p:nvPr>
        </p:nvSpPr>
        <p:spPr>
          <a:xfrm>
            <a:off x="4114800" y="15998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нига известного историка науки Ф.Гернека (ГДР) представляет собой краткий очерк жизни и деятельности величайшего физика XX века, столетие со дня рождения которого широко отмечалось в 1979 г. во всем мире. Наряду с популярным изложением научных открытий Эйнштейна особое внимание уделяется его общественной, гуманистической деятельности. Перед читателями возникает многогранный образ не только великого ученого, но и подлинного гуманиста и последовательного борца за мир и взаимопонимание между народами.</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56" name="" descr=""/>
          <p:cNvPicPr/>
          <p:nvPr/>
        </p:nvPicPr>
        <p:blipFill>
          <a:blip r:embed="rId2"/>
          <a:stretch/>
        </p:blipFill>
        <p:spPr>
          <a:xfrm>
            <a:off x="914400" y="1600200"/>
            <a:ext cx="2960640" cy="4876920"/>
          </a:xfrm>
          <a:prstGeom prst="rect">
            <a:avLst/>
          </a:prstGeom>
          <a:ln w="0">
            <a:noFill/>
          </a:ln>
        </p:spPr>
      </p:pic>
      <p:sp>
        <p:nvSpPr>
          <p:cNvPr id="57" name=""/>
          <p:cNvSpPr/>
          <p:nvPr/>
        </p:nvSpPr>
        <p:spPr>
          <a:xfrm>
            <a:off x="4114800" y="4495680"/>
            <a:ext cx="4648320" cy="20574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Если хотите, чтобы ваши дети были умными, читайте им сказки. Если хотите, чтобы они были еще умней, читайте им еще больше сказок». </a:t>
            </a:r>
            <a:endParaRPr b="0" lang="en-US" sz="2800" spc="-1" strike="noStrike">
              <a:solidFill>
                <a:srgbClr val="000000"/>
              </a:solidFill>
              <a:latin typeface="Arial"/>
            </a:endParaRPr>
          </a:p>
          <a:p>
            <a:pPr marL="277560" indent="-2775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лиг, Карл</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льберт Эйнштейн / К. Зелиг ; пер.с нем. Н. Е. Барабановой и др. - Изд. 2-е, испр. и доп. - Москва : Атомиздат, 1966. - 231 с. : ил. </a:t>
            </a:r>
            <a:endParaRPr b="0" lang="en-US" sz="2000" spc="-1" strike="noStrike">
              <a:solidFill>
                <a:srgbClr val="000000"/>
              </a:solidFill>
              <a:latin typeface="Arial"/>
            </a:endParaRPr>
          </a:p>
        </p:txBody>
      </p:sp>
      <p:sp>
        <p:nvSpPr>
          <p:cNvPr id="60"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Все, что писал и творил Эйнштейн, не может быть забыто. Но люди, знавшие его, написали пока очень мало. Письма его, а их было очень много, опубликованы лишь частично. Поэтому книги, написанные теми, кто знал великого физика, представляют особую ценность. Зелиг много лет знал Эйнштейна; он отнесся бережно к тому, что слышал и видел, и оставил очень интересную книгу, которую прочли уже многие читатели как за рубежом, так и в нашей стране.</a:t>
            </a:r>
            <a:endParaRPr b="0" lang="en-US" sz="1600" spc="-1" strike="noStrike">
              <a:solidFill>
                <a:srgbClr val="000000"/>
              </a:solidFill>
              <a:latin typeface="Arial"/>
            </a:endParaRPr>
          </a:p>
        </p:txBody>
      </p:sp>
      <p:pic>
        <p:nvPicPr>
          <p:cNvPr id="61" name="" descr=""/>
          <p:cNvPicPr/>
          <p:nvPr/>
        </p:nvPicPr>
        <p:blipFill>
          <a:blip r:embed="rId2"/>
          <a:stretch/>
        </p:blipFill>
        <p:spPr>
          <a:xfrm>
            <a:off x="914400" y="1905120"/>
            <a:ext cx="2933640" cy="4572000"/>
          </a:xfrm>
          <a:prstGeom prst="rect">
            <a:avLst/>
          </a:prstGeom>
          <a:ln w="0">
            <a:noFill/>
          </a:ln>
        </p:spPr>
      </p:pic>
      <p:sp>
        <p:nvSpPr>
          <p:cNvPr id="62" name=""/>
          <p:cNvSpPr/>
          <p:nvPr/>
        </p:nvSpPr>
        <p:spPr>
          <a:xfrm>
            <a:off x="4114800" y="4876920"/>
            <a:ext cx="4648320" cy="167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Наблюдай внимательно за природой, и ты будешь все понимать намного лучше». </a:t>
            </a:r>
            <a:endParaRPr b="0" lang="en-US" sz="2800" spc="-1" strike="noStrike">
              <a:solidFill>
                <a:srgbClr val="000000"/>
              </a:solidFill>
              <a:latin typeface="Arial"/>
            </a:endParaRPr>
          </a:p>
          <a:p>
            <a:pPr marL="312120" indent="-3121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звитие физических идей от Галилея до Эйнштейна в свете современной науки / Б. Г. Кузнецов ; АН СССР , Ин-т ист. естествознан. и тех. - 2-е изд. - Москва : Наука, 1966. - 518 с. : ил. </a:t>
            </a:r>
            <a:endParaRPr b="0" lang="en-US" sz="2000" spc="-1" strike="noStrike">
              <a:solidFill>
                <a:srgbClr val="000000"/>
              </a:solidFill>
              <a:latin typeface="Arial"/>
            </a:endParaRPr>
          </a:p>
        </p:txBody>
      </p:sp>
      <p:sp>
        <p:nvSpPr>
          <p:cNvPr id="65" name="PlaceHolder 2"/>
          <p:cNvSpPr>
            <a:spLocks noGrp="1"/>
          </p:cNvSpPr>
          <p:nvPr>
            <p:ph/>
          </p:nvPr>
        </p:nvSpPr>
        <p:spPr>
          <a:xfrm>
            <a:off x="4114440" y="1752120"/>
            <a:ext cx="4876920" cy="480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нига была задумана давно. В 50-е годы этот замысел оказался в некоторой мере реализованным в трех книгах: «Развитие научной картины мира в физике XVII—XVIII вв.» (1955 г.), «Принципы классической физики» (1958 г.) и «Основы теории относительности и квантовой механики в их историческом развитии» (1957 г.). В 60-е годы, возможна более конкретная формулировка новых исходных позиций исторической ретроспекции. В результате основательной переработки указанных томов появилась предлагаемая читателю книга. В нее вошли и некоторые оценки из других работ автора, выпущенных в самом конце 50-х и в начале 60-х годов, в особенности из физических глав «Эволюции картины мира» (1961 г.). Настоящее, второе издание отличается от первого более общим освещением соотношения между идеей относительности, с одной стороны, и идеей дополнительности — с другой, и несколько более подробным освещением развития релятивистской космологии после Эйнштейна.</a:t>
            </a:r>
            <a:endParaRPr b="0" lang="en-US" sz="1600" spc="-1" strike="noStrike">
              <a:solidFill>
                <a:srgbClr val="000000"/>
              </a:solidFill>
              <a:latin typeface="Arial"/>
            </a:endParaRPr>
          </a:p>
        </p:txBody>
      </p:sp>
      <p:pic>
        <p:nvPicPr>
          <p:cNvPr id="66" name="" descr=""/>
          <p:cNvPicPr/>
          <p:nvPr/>
        </p:nvPicPr>
        <p:blipFill>
          <a:blip r:embed="rId2"/>
          <a:stretch/>
        </p:blipFill>
        <p:spPr>
          <a:xfrm>
            <a:off x="838080" y="1676520"/>
            <a:ext cx="3241800" cy="48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Эйнштейн : АН СССР / Б. Г. Кузнецов. - Москва : Изд-во АН СССР, 1962. - 407 с. : ил. </a:t>
            </a:r>
            <a:endParaRPr b="0" lang="en-US" sz="2000" spc="-1" strike="noStrike">
              <a:solidFill>
                <a:srgbClr val="000000"/>
              </a:solidFill>
              <a:latin typeface="Arial"/>
            </a:endParaRPr>
          </a:p>
        </p:txBody>
      </p:sp>
      <p:sp>
        <p:nvSpPr>
          <p:cNvPr id="69"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В этой книге жизненный путь, мировоззрение и творчество Эйнштейна рассматриваются в свете новейших тенденций современной науки. При таком освещении отчетливее видна внутренняя связь между физическими концепциями Эйнштейна, его философскими взглядами, общественными идеями, моральными принципами, психологией творчества, эстетическими склонностями и обаянием его личности. Вместе с тем подобный аспект позволяет оценить глубину связанного с именем Эйнштейна переворота в представлениях о пространстве, времени, движении и веществе, увидеть особенности науки XX века и понять, почему бессмертными останутся не только физические теории, но и весь облик великого мыслителя.</a:t>
            </a:r>
            <a:endParaRPr b="0" lang="en-US" sz="1600" spc="-1" strike="noStrike">
              <a:solidFill>
                <a:srgbClr val="000000"/>
              </a:solidFill>
              <a:latin typeface="Arial"/>
            </a:endParaRPr>
          </a:p>
        </p:txBody>
      </p:sp>
      <p:pic>
        <p:nvPicPr>
          <p:cNvPr id="70" name="" descr=""/>
          <p:cNvPicPr/>
          <p:nvPr/>
        </p:nvPicPr>
        <p:blipFill>
          <a:blip r:embed="rId2"/>
          <a:stretch/>
        </p:blipFill>
        <p:spPr>
          <a:xfrm>
            <a:off x="914400" y="1752480"/>
            <a:ext cx="307008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тюды об Энштейне / Б. Г. Кузнецов ; АН СССР. - Москва : Наука, 1965. - 383 с. - (Библиотека по теории относительности) </a:t>
            </a:r>
            <a:endParaRPr b="0" lang="en-US" sz="2000" spc="-1" strike="noStrike">
              <a:solidFill>
                <a:srgbClr val="000000"/>
              </a:solidFill>
              <a:latin typeface="Arial"/>
            </a:endParaRPr>
          </a:p>
        </p:txBody>
      </p:sp>
      <p:sp>
        <p:nvSpPr>
          <p:cNvPr id="73"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Книга посвящена значению идей Эйнштейна для современной науки и для эволюции человеческой мысли в целом. В ней рассмотрены гносеологические позиции Эйнштейна, затронуты психологические истоки его идей (в связи с некоторыми экскурсами в область отношений между художественной литературой и наукой), логико-математические основы теории относительности, связь между идеями Эйнштейна, квантовой механикой и современными поисками обобщения релятивистской квантовой теории.</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pic>
        <p:nvPicPr>
          <p:cNvPr id="74" name="" descr=""/>
          <p:cNvPicPr/>
          <p:nvPr/>
        </p:nvPicPr>
        <p:blipFill>
          <a:blip r:embed="rId2"/>
          <a:stretch/>
        </p:blipFill>
        <p:spPr>
          <a:xfrm>
            <a:off x="914400" y="1828800"/>
            <a:ext cx="2962440" cy="4591080"/>
          </a:xfrm>
          <a:prstGeom prst="rect">
            <a:avLst/>
          </a:prstGeom>
          <a:ln w="0">
            <a:noFill/>
          </a:ln>
        </p:spPr>
      </p:pic>
      <p:sp>
        <p:nvSpPr>
          <p:cNvPr id="75" name=""/>
          <p:cNvSpPr/>
          <p:nvPr/>
        </p:nvSpPr>
        <p:spPr>
          <a:xfrm>
            <a:off x="4114800" y="4648320"/>
            <a:ext cx="4572000" cy="182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Жизнь — как вождение велосипеда. Чтобы сохранить равновесие, ты должен двигаться».</a:t>
            </a:r>
            <a:endParaRPr b="0" lang="en-US" sz="2800" spc="-1" strike="noStrike">
              <a:solidFill>
                <a:srgbClr val="000000"/>
              </a:solidFill>
              <a:latin typeface="Arial"/>
            </a:endParaRPr>
          </a:p>
          <a:p>
            <a:pPr marL="339480" indent="-339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685800" y="152280"/>
            <a:ext cx="8229600" cy="1447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знецов, Борис Григорьевич</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йнштейн : жизнь, смерть, бессмертие / Б. Г. Кузнецов. - Изд. 5-е, перераб. и доп. - Москва : Наука, 1979. - 680 с. : ил. </a:t>
            </a:r>
            <a:endParaRPr b="0" lang="en-US" sz="2000" spc="-1" strike="noStrike">
              <a:solidFill>
                <a:srgbClr val="000000"/>
              </a:solidFill>
              <a:latin typeface="Arial"/>
            </a:endParaRPr>
          </a:p>
        </p:txBody>
      </p:sp>
      <p:sp>
        <p:nvSpPr>
          <p:cNvPr id="78" name="PlaceHolder 2"/>
          <p:cNvSpPr>
            <a:spLocks noGrp="1"/>
          </p:cNvSpPr>
          <p:nvPr>
            <p:ph/>
          </p:nvPr>
        </p:nvSpPr>
        <p:spPr>
          <a:xfrm>
            <a:off x="4114800" y="1828440"/>
            <a:ext cx="4572000" cy="4678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Книга рассказывает о жизни, мировоззрении и творчестве Альберта Эйнштейна (1879—1955), о возникновении и развитии его идей, об их значении в истории науки, философии и культуры. Заключительный раздел книги «Параллели» представляет собой ряд очерков, в которых мировоззрение Эйнштейна сопоставляется с мировоззрением ряда мыслителей (Аристотель, Ньютон, Декарт, Спиноза, Бор, Достоевский, Моцарт и др.).</a:t>
            </a:r>
            <a:endParaRPr b="0" lang="en-US" sz="1600" spc="-1" strike="noStrike">
              <a:solidFill>
                <a:srgbClr val="000000"/>
              </a:solidFill>
              <a:latin typeface="Arial"/>
            </a:endParaRPr>
          </a:p>
        </p:txBody>
      </p:sp>
      <p:pic>
        <p:nvPicPr>
          <p:cNvPr id="79" name="" descr=""/>
          <p:cNvPicPr/>
          <p:nvPr/>
        </p:nvPicPr>
        <p:blipFill>
          <a:blip r:embed="rId2"/>
          <a:stretch/>
        </p:blipFill>
        <p:spPr>
          <a:xfrm>
            <a:off x="838080" y="1676520"/>
            <a:ext cx="3170520" cy="4800600"/>
          </a:xfrm>
          <a:prstGeom prst="rect">
            <a:avLst/>
          </a:prstGeom>
          <a:ln w="0">
            <a:noFill/>
          </a:ln>
        </p:spPr>
      </p:pic>
      <p:sp>
        <p:nvSpPr>
          <p:cNvPr id="80" name=""/>
          <p:cNvSpPr/>
          <p:nvPr/>
        </p:nvSpPr>
        <p:spPr>
          <a:xfrm>
            <a:off x="4114800" y="4648320"/>
            <a:ext cx="4572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Monotype Corsiva"/>
              </a:rPr>
              <a:t>«Образование есть то, что остается после того, когда забывается все, чему нас учили».</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Monotype Corsiva"/>
              </a:rPr>
              <a:t>А. Эйнштей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Борисова</cp:lastModifiedBy>
  <dcterms:modified xsi:type="dcterms:W3CDTF">2019-03-12T12:17:28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