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09A-09A5-4CDD-93D1-F2321E79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96C-1FCA-42AC-B693-22FF509E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049-18B4-418E-B705-9444F798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19B-D1B2-4334-AFCF-19B66ED5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CAED-18B6-4273-AB1A-FE6D2FF8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23EF-E1E6-4D0F-9C96-21F727FB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B647-8C90-46AA-B0C5-8E812A7A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57F4-8C16-44D1-942D-2B9B305B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7387-F0DF-4CC0-B7F8-A5107644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DD72-327B-4FD4-9078-294A10D4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C1BA-29D3-4F38-8DB1-0C87A3C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488-9EAE-484E-ACBF-D8A6BE0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18CE-A69B-4C03-9783-5736E08D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89A3-2A22-49F5-B4FB-3B40FA39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607A-51B8-4131-AACD-029587C4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DEA9-6DCB-48CE-9B71-6FE139CD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F32B-F001-432B-820C-A821B661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556B-FAFB-4C3B-9757-B36B7401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53D5-B6F0-4BCD-9E5C-AF561FA1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51F5-E039-4F09-9D1E-79621725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5F31-3D1D-4091-86BE-49671BFC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16B1-C6DF-4E99-ACB9-BED2EA1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B31-980F-4134-B4B8-7CA3BDE5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DF77-15C3-432A-9581-EA563257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5A6E-8CD5-4782-9228-6053701B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D77B-C5F7-48FF-A588-236E6C0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EFF3-5035-42A1-ADEA-D2B0D3C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6725-639C-4AFE-A117-C03B46A8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3D1E-6850-48F1-A703-61C4F642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FC1F-19EB-4777-BDB3-10DABDA7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5DCF1-70A7-45CF-A6B8-76D6A8D4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63A8-1A29-492B-B4CD-3A200F28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7CA67-EB41-4851-8507-1A04BE44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957-0CFA-43E7-AB1C-667B2B7E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0942F-6305-4B93-91C9-82E65882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904E8-8262-41F3-B7A9-F97BF6C4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5A37-A422-4C4A-BDC5-10CD05A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2A76-4210-4ED3-9117-7E4FB2E7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0336-E152-4102-9CB5-63B5C869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D993E-883E-42DF-BFAB-F3B47ECA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12D1-B3DE-4D0B-989E-8CBEC2CD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FFCB6-DE94-4151-BFEB-34A81411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6089-D770-476D-8254-7BD2B55D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EF5-26B6-48C4-A1EE-6A0EB966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37D-DCFB-4164-A128-25B41C49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201-6635-40A3-9B0A-AAF0E95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AC1-F002-4DE4-853A-E8A6DC5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714-8A1E-4073-A066-F5E0C87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BEF52-B6B4-4D67-9382-5B2CDE8B4E28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A9DC6-DDC8-4D8C-AB74-456F2262D5CD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26DE6-00BC-42AB-A535-40E52A89FA72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98BA5-DFE2-4701-8266-D342058F39E5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uv.gov.ua/articles/2003/03klinko.htm." TargetMode="External"/><Relationship Id="rId2" Type="http://schemas.openxmlformats.org/officeDocument/2006/relationships/hyperlink" Target="http://www.health-ua.com/articles/1331.html.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svetlana.kovalenko2018@gmail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1362240" y="1690560"/>
            <a:ext cx="92088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Приклади бібліографі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  <a:ea typeface="Arial Unicode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опису докуме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99"/>
              </a:lnSpc>
              <a:spcBef>
                <a:spcPts val="117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347840" y="941400"/>
            <a:ext cx="9698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конодавчі і норматив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5.09.2017 р. № 2145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/ Відомості Верховної Ради України. – 2017. – № 38–39, ст. 380. – С.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вищу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1.07.2014 р. № 1556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 Верховна Рада України. – Офіц. вид. – Київ : Парламентське вид-во, 2017. – 108 с. – (Закон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 і зако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законодавчо-правових док. / уклад. Г. Ф. Труханов, С. М. Романюк ; Асоц. профспілкових організацій студентів України . – Київ : Четверта хвиля, 1997. – 24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С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3008-95. Документація. Звіти у сфері науки і техніки. Структура і правила оформлення. – Введ. 23.02.95. – Київ : Держстандарт України, 2005. – 38 с. – (Державні стандарт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209600" y="932040"/>
            <a:ext cx="97538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атент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76915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ПК А61К 31/198 (2006.01) А61Р 11/06 (2006.01) Спосіб лікування хворих на тяжку персистувальну бронхіальну астму із застосуванням ацетилцистеїну / Ю. І. Фещенко, Л. О. Яшина, В. І. Ігнатьєва, І. Ф. Ільїнська, Ю. О. Матвієнко, С. М. Москаленко, Г. В. Сідун ; заявник Інститут фтизіатрії і пульмонології імені Ф. Г. Яновського Академії медичних наук України. – № а 200503501 ; заявл. 14.04.2005 ; опубл. 15.09.2006, Бюл. № 9, 2006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81883 Украї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МПК С 2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 5/0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ивне середовище для культивування стовбурових  клітин  / А. А. Сколожабський, В. М. Лісовий. –  № 200703097 ; заявл. 23.03.07 ; опубл. 11.02.08, Бюл.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217902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ссийская Федерация, МПК А 61К 35/14. Гематоген / О. И. Кочерга. – № 20000131551/14 ; заявл. 18.12.00 ; опубл. 10.02.02, Бюл. №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338120" y="1200240"/>
            <a:ext cx="9799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і ли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ка здоров’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ІІ Всеукраїнська наук.-практ. конф., м. Харків, 18–19 трав. 2018 р. :  інформаційний лист /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іння шко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молодих науковців : інформаційний лист про проведення лекційних і тренінгових занять для молодих учених / Г. С. Дідоренко ;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а  спадщи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еміка Івана Зязюна у вимірах сучасності та майбутнього :  І Міжнародна наук.-практ. конф.,  м.  Київ,  30–31  берез. 2017 р.  :  інформаційний лист / М-во освіти і науки України  ;  Нац. пед. ун-т  імені  М. П. Драгоманова.  – Київ, 2017. – 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950760" y="468360"/>
            <a:ext cx="1023156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окаль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находи  в  Україн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ціональни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ий ресурс] / М-во  освіти і наук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и,  Держ.  Департамент  інтелектуал. власності,  Держ. Підприємство «Укр. Ін-т про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ласності». – Київ, 2005. – № 1–12. – 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омольний Б. Р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дицина екстремальних ситуацій [Електронний ресурс] : навч. посіб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ме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узі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івнів акредитації / Б. Р. Богомольний, В. В. Кононенко, П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уєв. – 8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n / 700 MB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еса : Одес. мед. ун-т, 2003. – (Бібліотека студента-медика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edical student'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brary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початк. 199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.). – 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. опт. диск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ддале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тека і доступність інформації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 сучасному світі : електронні ресурси в науці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льтурі т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віті : (підсумки 10-ї Міжнар. конф. „Крим-2003”) [Електронний ресурс] / Л. Й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стенко, А. О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кмарьов, А. Г. Бровкін, І. А. Павлуша // Бібліотечний вісник – 2003. –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– С. 43. – Режим доступу до журн. : 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1"/>
              </a:rPr>
              <a:t>http://www.nbuv.gov.ua/articles/2003/03klinko.h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 Э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рачебная деятельность : проблемы и задачи [Электронный ресурс] / Э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П. Кидонь // Здоров'я України. – 2006. – № 145. – Режим доступ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http://www.health-ua.com/articles/1331.ht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5240" y="452520"/>
            <a:ext cx="94453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з періодичних вида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лексєєнко А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чні ідеї Григорія Сковороди у контексті сучасної гуманітарної освіти / А. П. Алексєєнко // Новий Колегіум : наук. інформ. журн. : вих. раз на два міс. / Харк. нац. ун-т радіоелектрон. – Харків : [б. в], 2016. – №1. – С. 3–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осування кейс-метод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професійній підготовці майбутніх учителів фізичної культури / І. Б. Гринченко, А. В. Попова, О. І. Чуприна [та ін.] // Здоровье, спорт, реабилитация / Харьков. нац. техн. ун-т сельск. хоз-ва имени П. Василенко, Харьков. нац. пед. ун-т имени Г. С. Сковороды, Харьков. гос. акад. дизайна и искусств ; [редкол. : Козина Ж. Л. (гл. ред.) и др.]. ‒ Харьков : Мадрид, 2015. ‒    № 1. ‒ С. 20‒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lyova H. 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culiarities of interconnection of self-actualizaation and psychopathological symptomatology of women and men from the crisis families / H. Y. Falyova, H. V. Vysotckaya // Modern European Researches : scientific journal. – Salzburg, 2016. – Is. 1. – P. 11–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reactivity of propyl est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f N-[(2-oxoindolin-3-ylidene)- 2-oxiacetyl]amino acids / O. M. Svechnikova and etc.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сник фармації : наук. журн. / МОЗ України, Нац. фармац. ун-т ; [редкол.: Черних В. П. (голов. ред.) та ін.]. – Харків : НФаУ, 2017. – №2 (90). – С. 3–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147680" y="0"/>
            <a:ext cx="96948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із збі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урс і текст : формально-змістові диференціації // Іноземні мови у вищій освіті : лінгвістичні, психолого-педагогічні та методичні перспективи : матеріали ІІІ Всеукр. наук.-практ. конф. / Нац. юрид. ун-т імені Я. Мудрого. – Харків : НЮУ, 2016. – С. 29–3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апенко А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фографіка як ефективний засіб запам'ятовування учнями навчального матеріалу / А. А. Сапенко, С. Т. Золотухіна // Наумовські читання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ської наук.-метод. конф., Харків, 24–25 листоп. 2016 р. / Харк. нац. пед. ун-т імені Г. С. Сковороди. – Харків : ХНПУ, 2017  . – С. 21–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дубний О. Г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ливості організації відбору в команду з аеронавтичного багатоборства в ВВНЗ / О. Г. Піддубний, Ж. О. Цимбалюк // Стратегічне управління розвитком фізичної культури і спорту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гіон. наук.-практ. інтернет-конф. з міжнар. участю, Харків, 26–28 квіт. 2017 р. / Харк. держ. акад. фіз. культури – Харків : ХДАФК, 2017. – С. 89–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сихолого-педагогические аспек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блемы формирования здоровьесберегающей ответственности  у  студентов / О. В. Костикова, С. Н. Корсун, И. И. Шапошникова,  Я. В. Суворова // Актуальні проблеми медико-біологічного забезпечення фізичної культури, спорту  та  фізичної  реабілітації : зб. ст. ІІ Міжнар. наук.-практ. інтернет-конф., присвяч. 25-річчю  Незалежності  України  та  20-річчю  Дня Конституції, Харків, 21 квіт. 2016 р. / Харк. держ. акад. фіз. культури. – Харків : ХДАФК, 2016. – С. 545–55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344600" y="420840"/>
            <a:ext cx="941868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озділи, глави, 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деологічні імперативи політичної культу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контексті формування соціальної ідентичності / Г. М. Куц, І. В. Головко, Т. В. Панченко, О. М. Кузь, К. Г. Яцура // Правова і політична культура українського соціуму за умов модернізації політико-правового життя : монографія / [О. О. Безрук, Л. М. Герасіна, І. В. Головко та ін.] ; Нац. юрид. ун-т імені Я. Мудрого ; за ред. М. П. Требіна. – Харків : Право, 2017. – Розд. 4. – С. 358–5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елібо Є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оретичні основи безпеки життєдіяльності / Є. П. Желібо, Н. М. Заверуха, В. В. Зацарний // Безпека життєдіяльності : навч. посіб. для студ. вищ. навч. закл. ; за ред. Є. П. Желібо. – 6-те вид. – Київ : Каравела, 2010. – Розд. 1. – С. 14–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вгань Г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: учебник для 7 кл. общеобразоват. учеб.  заведений с обучением на рус. яз. / Г. Д. Довгань, А. Г. Стадник. — Харьков : Ранок, 2015. – Раз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еаны, тема 1. Тихий океан. – С. 257–267. : и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ubin Lewis I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егочная гипертензия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wis I. Rubin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рсонз Полли Э. Секреты пульманологии / Полли Э. Парсонз, Джон Э. Хеффнер. – Москва, 2004. – Гл. 40. – С. 307–3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єчникова О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дсорбційні індикатори / О. М. Свєчнікова // Фармацевтична енциклопедія / Нац. фарм. ун-т ; редкол. : В. П. Черних (голов. ред.) та ін. – Вид. 2-ге, допов. – Київ : МОРІОН, 2010. – С. 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407960" y="809640"/>
            <a:ext cx="94726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бразотворчі, картографічні, аудіо- та відеоматері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і харків’я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Образотворчий матеріал] : фотоальбом / [фото Р. Т. Папік’яна ; текст Р. Б. Гнатишина]. – Київ : Мистецтво, 1989. – 184 с. : іл. – Загол. на авантит., зміст парал. укр., рос., англ. м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гальногеографічний атлас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Карти] / [уклад. та підгот. до друку Держ. наук.-виробн. підпр. «Картографія» у 2004 р. ; гол. ред. І. Руденко ; відпов. ред. Л. Марченко]. – Київ : ДНВП «Картографія» : Укргеодезкартографія, 2004. – 11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ерда Х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Атлас ботаніки / Хосе Куерда ; [пер. з ісп. В. Й. Шовкун]. – Харків : Ранок, 2005. – 9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салоч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[Видеозапись] : мультфильм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lt Disney Co. – L. Angeles, 1994. – 9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н. – 1 в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omantic collec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Millennium ed. [Sound recording]. – Germany, 2001. – 45 min. – 1 mc. – Title from label cass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308240" y="325440"/>
            <a:ext cx="95551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і покажчики та катало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ц О. С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покажчик та анотації кандидатських дисертацій, захищених у спеціалізованій вченій раді Львівського державного університету фізичної культури у 2006 році / О. Куц, О. Вацеба. – Львів : Укр. Технології, 2007. – 74 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ований покажч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теріалів з кримінального права, опублікованих у Віснику Конституційного Суду України за 1997–2005 роки / [уклад. Б. О. Кирись, О. С. Потлань]. – Львів : Львів. держ. ун-т внутр. справ, 2006. – 11 с. – (Серія : Бібліографічні довідники ; вип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м’ят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історії та мистецтва Львівської області : каталог-довідник / [ав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оряд. М. Зобків та ін.]. – Львів : Новий час, 2003. – 16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ніверситетська книг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осінь, 2003 р. : [каталог]. – [Суми : Університет. кн., 2003]. – 1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рницкая И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талог растений для работ по фитодизайну / Донец. ботан. сад НАН Украины. – Донецк : Лебедь, 2005. – 22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ико-правова спадщина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кат. вист. / Харків. держ. наук. б-ка імені В. Г. Короленка ; уклад. : Л. І. Романова, О. В. Земляніщина. – Харків, 1996. – 6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050840" y="347760"/>
            <a:ext cx="10049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еопублікова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'ясоєдов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нливість як властивість життя і генетичне явище : слайд-лекція 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ів [Електронний ресурс] : [презентаці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werPoint] 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М'ясоєдов. – Електр. да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125 слайдів). – Харків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іт про науково-дослідну ро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звиток наукового співробітниц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Н України з провідними зарубіжни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центрами та організаціями / НАН України, Центр досліджень наук.-техн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тенціалу і історі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и імені Г. М. Дуброва ; кер-к Онищенко О. С., Маліцький Б. А. 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кон. Маліцький Б. А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ищенко О. С., Попик В. І. [та ін.]. – Київ, 2008. – 178 с. – Д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10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004050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в. № ХХХХХХ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поновані наукові пра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ьїч Л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ування і реалізація трудового потенціалу України в умовах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мографічно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изи / Л. М. Ільїч ; Держ. акад. статистики, обліку та аудит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комстату України. – Киї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005. – 271 с. – Деп. у ДНТБ України 11.07.05, №4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2005. – Укр. – Бібліогр. : 154 на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івні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кладная запис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миссии по организации кабинета товароведения; список книг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ов, выделенных из фундаментальной библиотеки для кабинетов // Держархів 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єва, ф. 153, оп. 8, спр. 164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к. 3–5 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8"/>
          <p:cNvSpPr/>
          <p:nvPr/>
        </p:nvSpPr>
        <p:spPr>
          <a:xfrm>
            <a:off x="1222200" y="588960"/>
            <a:ext cx="96346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тандарти, що регламентую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кладання бібліографічного за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80:200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Заголовок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1:200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Бібліографічний опис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3582:201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опис. Скорочення слів і словосполучень українською мовою. Загальні вимоги та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7093:2009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Скорочення слів і словосполук, поданих іноземними європейськими мо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ГОСТ 7.12-9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иблиографическая запись. Сокращение слов на русском языке. Общие требования и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4260960" y="4584600"/>
            <a:ext cx="987480" cy="993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977760" y="1962000"/>
            <a:ext cx="4270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Укладач   Світлана  Ковал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упник директора НБ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НПУ імені Г. С. Сково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5157720" y="4711680"/>
            <a:ext cx="4496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717 10 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email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svetlana.kovalenko2018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276200" y="728640"/>
            <a:ext cx="97347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ог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торіна В. Г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фесійна компетентність учителя  математики  профільної  школ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 навч.  посіб.   для   студ.  природн. - мат.  спец.  пед.   ВНЗ  / В. Г. Моторіна ; Хар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ц. пед. ун-т  імені  Г. С. Сковороди. – Харків : ХНПУ, 2014. – 267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в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сак К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нови екології : навч. посіб. / К. В. Корсак, О. В. Плахотнік ; Міжрегіо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. упр. персоналом. – 3-тє вид., переробл. і допов. – Київ : [б. в.], 2002. – 296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бовик В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а  математика : у 3-х 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ібник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и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лад. Ч. І / В. П. Дубовик, І. І. Юрик. – 2-е вид. – Харків : Веста, 2008    . – 196 с. : іл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Серія «Вища школ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менко К. І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ading for Psychologists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посіб. / К. І. Фоменко, О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ецов ; Харк. нац. пед. ун-т імені Г. С. Сковороди. – Харків : Діса-плюс, 2017. – 183 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іл., портр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кст ан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ьох ав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йчук Ю. Д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кологія і охорона навколишнього середовища : навч. посіб. для 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. навч. закл. / Ю. Д. Бойчук, Е. М. Солошенко, О. В. Бугай. – 3-тє вид., випр. і доп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– Суми : Унів. кн. ; Київ : Княгиня Ольга, 2005. – 30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285920" y="650880"/>
            <a:ext cx="974412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отирь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волюція  деяких  екологічних  систе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 впливом природних факторів : посіб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н.  ф-тів  пед. та  аграрн.  ун-тів / О. І. Завгородній,   В. В. Миро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П. Пришляк, Т. Д. Пришляк ; Харк. Нац. аграр. ун-т  імені В. В. Докучаєва,  Харк. нац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хн.  ун-т с.-г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  П. М. Василенка,  Харк. нац. пед. ун-т  імені  Г. С. Сковороди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: [б. в.], 2010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49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'яти і більше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ївщинознав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 навч. посіб. / В. П. Коцур, В. В. Куйбіда, Б. О.  Чернов [та ін.]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яслав-Хмельн.  держ.  пед.  ун-т  імені  Г.  С. Сковороди  ;  за  заг. наук. ред.  В. 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цура. –  Київ : Міленіум,  2007. – 30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кладені ви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ндер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Всемирная история / Г. Киндер, В. Хильгеман ; науч. ред. пер. А. 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юсаренко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Ф. Иванов ; пер. с нем. – Москва : Рыбари, 2003. – 638 с. : ил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к практическому применению преобразования Лапласа : 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е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, составленных Р. Гершелем / Г. Деч ; пер. со 2-го нем. изд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ьперта. – Москва 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а, 1965. – 288 с. : ил. – (Физико-математическ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ли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жене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1344600" y="797040"/>
            <a:ext cx="9753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нига за ред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прац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навч. посіб. / В. М. Данюк, А. С. Тельнов, С. Л. Решміділова та ін. 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 ред. В. М. Данюк. – Київ : КНЕУ, 2009. – 33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одна економі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/ за ред. Ю. Г. Козака. – Київ : ЦУЛ, 2008. – 111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з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вято-Михайлівського Золотоверхого монастиря / [авт. тексту В. Клос]. – Киї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рані-Т, 2007. – 119 с. – (Грані сві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ик С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 епітетів української мови / С. П. Бибик, С. Я. Єрмоленко, Л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овіт. – Київ : Довіра, 1998. – 431 с. – (Словники Україн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 В. О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а України : словник-довідник для вчителів та учнів / В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Грицайчук. – Харків : Основа, 2009. – Ч. 1. – 96 с.  – (Біблі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у "Географія" ; вип. 10 (70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ий тлумачний словн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ської мови : для шк., абітур., студ., викл. 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: Л. П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лексієнко, О. Л. Шумейко. – Київ : Кобза, 2004. – 54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457280" y="800280"/>
            <a:ext cx="908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етодичні вказівки та рекоменд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Н. В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равлінська  практика  бакалаврів.  Програма та  методич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комендації  :  для  студ. екон. ф-ту галузі  знань 0305 «Економіка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приємництво»,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ец. 6.030501 – «Екон.  теор.  Менедж.  освіти» /  Н. 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; Харк. нац. пед. ун-т імені  Г. С. Сковороди. – Харків : ХНПУ, 2017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5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наетова О. 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he move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рек. для студ. 2-го курсу ф-ту інозем. філо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. А. Панаетова, В. В. Пантюхін, О. О. Українська ; Харк. нац. пед. ун-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. Сковороди. –  Харків  :  ХНПУ,  2005.  –  6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та методи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грової діяльності : метод. вказівки до вивч. курсу 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у культурології / М-во культури і мистецтв України [та ін.] ; уклад. Л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ишевськ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–  Харків  :  ХДІК, 1998. – 2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ізіологія кров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 внутрішнього середовища : метод. рек. для студ. вищ. 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кл. д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аб. занять з курсу «Фізіологія людини». Ч. 3. Фізіологія   крові   та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ішнього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редовища  / Харків.  нац.  пед.  ун-т  імені  Г.  С. Сковороди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 :   І.  А.  Іонов,  Т. Є.  Комісова,   В.  Ф.  Слюсарев,  С.  О.  Шаповалов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 :  ХНПУ,  2017.  – 48 с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1243080" y="498600"/>
            <a:ext cx="9583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агатотомні ви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едений оп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ненко-Давидович Б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вори : в 2 т. / Б. Д. Антоненко-Давидович. – Київ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мка, 1999. – (Бібліотека української літератури). – Т. 1–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Яворницький Д. І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 запорізьких козаків : у 3 т. / Д. І. Яворницький ; з рос. пер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арник. – Львів : Світ, 1992. – 3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рубіжна літерату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стислий виклад змісту всіх творів за новою шкільно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о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10–11 кл. : у 2 т. : повна зб. за сучасною програмою / авт.–упоряд. І. 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й. – Харків : Ранок, 2000. – 672 с. – (Дайдже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ремий 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лог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української юридичної думки : в 10 т. / Інститут держави і права імені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ецького НАН України. – Київ : Юридична книга, 2002 . – Т. 1 : Загальна теорі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ави і права, філософія та енциклопедія права. – 56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ортивні іг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для студ. вищ. навч. закл. : [у 2 т.] / Ж. Л. Козіна, Ю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ярков, О. В. Церковна, В. О. Воробйова ; Харк. нац. пед. ун-т імені Г. С. Сковород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; під заг. ред. Ж. Л. Козіної. – Харків : Точка, 2010. – Т. 1 : Загальні основи теорії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ики спортивних ігор. – 200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335240" y="690480"/>
            <a:ext cx="94820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бірки наукових праць, матеріалів конференц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ологія та валеологі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наук. пр. / Харк. нац. пед. ун-т імені Г. С. Сковороди ; [редкол. : Л. П. Харченко (голов. ред.) та ін.]. – Харків : ХНПУ, 2015. – Вип. 17. – 147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истість студен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 соціокультурне середовище університету в суспільному контексті : матер. Всеукр. наук.-практ. конф., Київ, 2 черв. 2017 р. / Ін-т вищої освіти НАПН України ; вступ. сл. В. І. Рябченка. – Київ : ІВО НАПНУ, 2017. – 14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і технології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фері фізичного виховання, спорту та валеології : зб. наук. пр. учасн-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. Інтернет наук.-метод. конф. / Нац. Акад. Нац. Гвардії України ; за ред. В. П. Бізіна. – Харків : НАНГУ, 2016. – Вип. 10. – 34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ьмі сумцовські читанн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матеріалів наук. конф., присвяч. 100-річч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еологічного з’їзду 12 квіт. 2002 р. / М-во культури і мистецтв України [та ін.]. – Харків : ХНАДУ,  2003. – 13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246320" y="555480"/>
            <a:ext cx="95803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исертації, автореферати та монограф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азан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світницько-виховна діяльність Лавр як духовних осередків на українських землях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VIII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чато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ття) : дис. на здоб. наук. ступеня д-ра пед. наук : спец. 13.00.01 – заг. теор. та іст. пед. / В. В. Фазан ; Харк. нац. пед. ун-т імені Г. С. Сковороди. – Харків : ХНПУ, 2015. – 646 с. + дод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інгвокомунікативний аспект українського мовознавчого дискурсу : автореф. дис. на здоб. наук. ступеня канд. філол. наук : спец. 10.02.01 – укр. мова / В. А. Борисов ; Харк. нац. пед. ун-т імені Г. С. Сковороди. – Харків : ХНПУ, 2011. – 2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єцов М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моційне ставлення студентів до навчання : монографія / М. А. Кузнєцов, Я. В. Козуб ; Харк. нац. пед. ун-т імені Г. С. Сковороди. – Харків : Діса плюс, 2017. – 28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лий розвито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риторіальної громади : управлінський аспект : кол. моногр. / Нац. акад. держ. упр. при Президентові України, Харк. регіон. ін-т держ. упр. ; [Ю. О. Куц, В. В. Мамонова, О. К. Чаплигін та ін. ; за заг. ред. Ю. О. Куца, В. В. Мамонової]. – Харків : ХарРі НАДУ Магістр, 2008. – 23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4T11:09:03Z</dcterms:created>
  <dc:creator>Chief</dc:creator>
  <dc:description/>
  <dc:language>en-US</dc:language>
  <cp:lastModifiedBy>RePack by Diakov</cp:lastModifiedBy>
  <dcterms:modified xsi:type="dcterms:W3CDTF">2018-12-15T10:07:40Z</dcterms:modified>
  <cp:revision>113</cp:revision>
  <dc:subject/>
  <dc:title>Презентация PowerPoint</dc:title>
</cp:coreProperties>
</file>