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3484-724E-45B8-817B-432A05326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590B-BDE5-4EFD-8AF7-B6CD552A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4D76-B5D8-4DD3-B5D5-EE8FEF8C5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2D97-2E7C-4463-A02C-999FCA69F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23D9-3B19-4266-A922-E2A47A755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9ADD-7883-4E1D-A8B6-FFEEFEB8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F78C-EAD0-43D7-B9BE-6021AB90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7FDC-61A4-4BB4-A703-2FDE6145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197D-4521-41AE-9BDC-1352CFCF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81F3-55E7-46AB-A6D6-2A92CD15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88F0-AD33-4DB3-A3BB-AE75AE60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3A46-3E37-465C-A32A-4449E416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B0EA-D51B-49B8-A287-C5DBC4F1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2A5A-4C11-47DE-99FA-25636454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DBA7-9915-43F0-9680-9E4DF2CA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6D18-3077-443C-B467-9C7E4E49F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9B9E-FC1B-4A5C-A466-D58CAFACB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70099-C20F-480D-9363-8C71D83DB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8A9C7-925B-4C92-B457-80862224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B185D-AFA7-4875-BF9A-0810E625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58A2F-4A95-48DF-9FEF-FED8EC47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662AD-8A64-428D-88B7-838F2476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0BBD-AD9F-44A0-B4DF-7817506B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79511-FE3A-4C23-AA00-B10C2F8E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9C573-1AF2-4ED2-8D81-B3514C38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9D405-8FE4-49F7-B72A-F980D3EE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AB4CA-66E3-4395-95FA-88B16BBC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0A8A8-082C-4C00-BEED-81C7EF71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1DB31-CFDD-4E8B-8A6E-244F8A79B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05C28-C0DD-45B1-85D6-EAA8E6C37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B7E03-A78C-4D89-A2C4-0BC56050A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77C4E-288D-41A0-8F74-F9BF69DA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0395C-A4FB-450E-A19E-47374EA4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9A89-473C-4FAF-9068-3C25A8EC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8A543-3425-4CA7-9E57-7E12E14C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4906F-07D1-473B-8338-8282BC8C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D1BA6-3A1B-48AC-9CEC-6423CA8F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4C461-FE17-4A2D-9100-82B09A73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0DCAE-34D0-42F2-83C8-AE2278FA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9A5A2-C8E3-451B-8F5E-472E6175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11D53-7B32-4C79-AC27-FB31B917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F215E-CF85-4065-A90B-B4BE5D155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3B32C-044B-4D1D-ADB4-0FBDBDC98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48E1-601B-4F4E-8B29-7FA72165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6D1D-C948-4233-BDB7-B6E0925F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6874-8D32-4FB8-A7C7-2BD7B018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2226-250F-48BD-8EEB-EF964500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582C-60C1-4242-97D8-B4A296FF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3494b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8b6c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f98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7fc1d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3494b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3494ba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494b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3494b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692B88-CC0B-466D-94C4-027441E76C30}" type="slidenum">
              <a:rPr b="0" lang="ru-RU" sz="900" spc="-1" strike="noStrike">
                <a:solidFill>
                  <a:srgbClr val="3494ba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3494b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8b6c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f98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7fc1d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3494b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3494ba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64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3494b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8b6c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f98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7fc1d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3494b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3494ba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494b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3494b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6F5AD1-53FD-4AFF-AFCC-5CDE042F8F83}" type="slidenum">
              <a:rPr b="0" lang="ru-RU" sz="900" spc="-1" strike="noStrike">
                <a:solidFill>
                  <a:srgbClr val="3494ba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16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3494b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8b6c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f98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7fc1d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3494b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3494ba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19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7fc1d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1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7fc1d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494b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3494b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61981D-AA9F-4809-BAFA-31F481347A82}" type="slidenum">
              <a:rPr b="0" lang="ru-RU" sz="900" spc="-1" strike="noStrike">
                <a:solidFill>
                  <a:srgbClr val="3494ba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70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3494b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8b6c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f98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7fc1d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3494b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3494ba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Box 23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7fc1d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4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7fc1d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494b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3494b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27168C-57D7-4A0E-A192-AEFE1BB7F3FB}" type="slidenum">
              <a:rPr b="0" lang="ru-RU" sz="900" spc="-1" strike="noStrike">
                <a:solidFill>
                  <a:srgbClr val="3494ba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buv.gov.ua/articles/2003/03klinko.htm." TargetMode="External"/><Relationship Id="rId2" Type="http://schemas.openxmlformats.org/officeDocument/2006/relationships/hyperlink" Target="http://www.health-ua.com/articles/1331.html.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svetlana.kovalenko2018@gmail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3"/>
          <p:cNvSpPr/>
          <p:nvPr/>
        </p:nvSpPr>
        <p:spPr>
          <a:xfrm>
            <a:off x="1362240" y="1690560"/>
            <a:ext cx="9208800" cy="46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Calibri"/>
                <a:ea typeface="Arial Unicode MS"/>
              </a:rPr>
              <a:t>Приклади бібліографіч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alibri"/>
                <a:ea typeface="Arial Unicode MS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Calibri"/>
                <a:ea typeface="Arial Unicode MS"/>
              </a:rPr>
              <a:t>опису документ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99"/>
              </a:lnSpc>
              <a:spcBef>
                <a:spcPts val="117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1"/>
          <p:cNvSpPr/>
          <p:nvPr/>
        </p:nvSpPr>
        <p:spPr>
          <a:xfrm>
            <a:off x="1347840" y="941400"/>
            <a:ext cx="96980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Законодавчі і нормативні докумен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 освіту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Закон України від 05.09.2017 р. № 2145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VIII 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з зм. і доп.) // Відомості Верховної Ради України. – 2017. – № 38–39, ст. 380. – С.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 вищу освіту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Закон України від 01.07.2014 р. № 1556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VII 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з зм. і доп.) / Верховна Рада України. – Офіц. вид. – Київ : Парламентське вид-во, 2017. – 108 с. – (Закони Україн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удент і закон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зб. законодавчо-правових док. / уклад. Г. Ф. Труханов, С. М. Романюк ; Асоц. профспілкових організацій студентів України . – Київ : Четверта хвиля, 1997. – 240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СТ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3008-95. Документація. Звіти у сфері науки і техніки. Структура і правила оформлення. – Введ. 23.02.95. – Київ : Держстандарт України, 2005. – 38 с. – (Державні стандарти Україн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1"/>
          <p:cNvSpPr/>
          <p:nvPr/>
        </p:nvSpPr>
        <p:spPr>
          <a:xfrm>
            <a:off x="1209600" y="932040"/>
            <a:ext cx="975384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Патентні докумен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ат. 76915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U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ПК А61К 31/198 (2006.01) А61Р 11/06 (2006.01) Спосіб лікування хворих на тяжку персистувальну бронхіальну астму із застосуванням ацетилцистеїну / Ю. І. Фещенко, Л. О. Яшина, В. І. Ігнатьєва, І. Ф. Ільїнська, Ю. О. Матвієнко, С. М. Москаленко, Г. В. Сідун ; заявник Інститут фтизіатрії і пульмонології імені Ф. Г. Яновського Академії медичних наук України. – № а 200503501 ; заявл. 14.04.2005 ; опубл. 15.09.2006, Бюл. № 9, 2006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ат. 81883 Україн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, МПК С 2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 5/02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живне середовище для культивування стовбурових  клітин  / А. А. Сколожабський, В. М. Лісовий. –  № 200703097 ; заявл. 23.03.07 ; опубл. 11.02.08, Бюл. №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ат. 2179027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оссийская Федерация, МПК А 61К 35/14. Гематоген / О. И. Кочерга. – № 20000131551/14 ; заявл. 18.12.00 ; опубл. 10.02.02, Бюл. №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1"/>
          <p:cNvSpPr/>
          <p:nvPr/>
        </p:nvSpPr>
        <p:spPr>
          <a:xfrm>
            <a:off x="1338120" y="1200240"/>
            <a:ext cx="979992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Інформаційні ли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дагогіка здоров’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ІІ Всеукраїнська наук.-практ. конф., м. Харків, 18–19 трав. 2018 р. :  інформаційний лист / Харк. нац. пед. ун-т імені Г. С. Сковороди. – Харків : ХНПУ, 2018. – 3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сіння школ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ля молодих науковців : інформаційний лист про проведення лекційних і тренінгових занять для молодих учених / Г. С. Дідоренко ; Харк. нац. пед. ун-т імені Г. С. Сковороди. – Харків : ХНПУ, 2018. – 3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укова  спадщин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кадеміка Івана Зязюна у вимірах сучасності та майбутнього :  І Міжнародна наук.-практ. конф.,  м.  Київ,  30–31  берез. 2017 р.  :  інформаційний лист / М-во освіти і науки України  ;  Нац. пед. ун-т  імені  М. П. Драгоманова.  – Київ, 2017. – 2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1"/>
          <p:cNvSpPr/>
          <p:nvPr/>
        </p:nvSpPr>
        <p:spPr>
          <a:xfrm>
            <a:off x="950760" y="468360"/>
            <a:ext cx="10231560" cy="59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Електронні ресурс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Локального досту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инаходи  в  Україні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Національний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D-ROM [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лектронний ресурс] / М-во  освіти і науки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країни,  Держ.  Департамент  інтелектуал. власності,  Держ. Підприємство «Укр. Ін-т пром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ласності». – Київ, 2005. – № 1–12. – 2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D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и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огомольний Б. Р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едицина екстремальних ситуацій [Електронний ресурс] : навч. посіб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ля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уд. мед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узі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–IV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івнів акредитації / Б. Р. Богомольний, В. В. Кононенко, П. М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Чуєв. – 8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in / 700 MB.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деса : Одес. мед. ун-т, 2003. – (Бібліотека студента-медика =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edical student'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ibrary 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апочатк. 1999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.). – 1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лектрон. опт. диск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D-RO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іддаленого досту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ібліотека і доступність інформації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  сучасному світі : електронні ресурси в науці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ультурі т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світі : (підсумки 10-ї Міжнар. конф. „Крим-2003”) [Електронний ресурс] / Л. Й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остенко, А. О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Чекмарьов, А. Г. Бровкін, І. А. Павлуша // Бібліотечний вісник – 2003. – 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. – С. 43. – Режим доступу до журн. : </a:t>
            </a:r>
            <a:r>
              <a:rPr b="0" lang="en-US" sz="1800" spc="-1" strike="noStrike" u="sng">
                <a:solidFill>
                  <a:srgbClr val="2683c6"/>
                </a:solidFill>
                <a:uFillTx/>
                <a:latin typeface="Calibri"/>
                <a:ea typeface="Arial"/>
                <a:hlinkClick r:id="rId1"/>
              </a:rPr>
              <a:t>http://www.nbuv.gov.ua/articles/2003/03klinko.ht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Ходош Э. М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рачебная деятельность : проблемы и задачи [Электронный ресурс] / Э. М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Ходош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. П. Кидонь // Здоров'я України. – 2006. – № 145. – Режим доступа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 u="sng">
                <a:solidFill>
                  <a:srgbClr val="2683c6"/>
                </a:solidFill>
                <a:uFillTx/>
                <a:latin typeface="Calibri"/>
                <a:ea typeface="Arial"/>
                <a:hlinkClick r:id="rId2"/>
              </a:rPr>
              <a:t>http://www.health-ua.com/articles/1331.htm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1335240" y="452520"/>
            <a:ext cx="944532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Статті з періодичних видан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лексєєнко А. П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дагогічні ідеї Григорія Сковороди у контексті сучасної гуманітарної освіти / А. П. Алексєєнко // Новий Колегіум : наук. інформ. журн. : вих. раз на два міс. / Харк. нац. ун-т радіоелектрон. – Харків : [б. в], 2016. – №1. – С. 3–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астосування кейс-методу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 професійній підготовці майбутніх учителів фізичної культури / І. Б. Гринченко, А. В. Попова, О. І. Чуприна [та ін.] // Здоровье, спорт, реабилитация / Харьков. нац. техн. ун-т сельск. хоз-ва имени П. Василенко, Харьков. нац. пед. ун-т имени Г. С. Сковороды, Харьков. гос. акад. дизайна и искусств ; [редкол. : Козина Ж. Л. (гл. ред.) и др.]. ‒ Харьков : Мадрид, 2015. ‒    № 1. ‒ С. 20‒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alyova H. Y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eculiarities of interconnection of self-actualizaation and psychopathological symptomatology of women and men from the crisis families / H. Y. Falyova, H. V. Vysotckaya // Modern European Researches : scientific journal. – Salzburg, 2016. – Is. 1. – P. 11–1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 reactivity of propyl ester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of N-[(2-oxoindolin-3-ylidene)- 2-oxiacetyl]amino acids / O. M. Svechnikova and etc. //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існик фармації : наук. журн. / МОЗ України, Нац. фармац. ун-т ; [редкол.: Черних В. П. (голов. ред.) та ін.]. – Харків : НФаУ, 2017. – №2 (90). – С. 3–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1147680" y="0"/>
            <a:ext cx="969480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Статті із збіро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орисов В. А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искурс і текст : формально-змістові диференціації // Іноземні мови у вищій освіті : лінгвістичні, психолого-педагогічні та методичні перспективи : матеріали ІІІ Всеукр. наук.-практ. конф. / Нац. юрид. ун-т імені Я. Мудрого. – Харків : НЮУ, 2016. – С. 29–3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апенко А. А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нфографіка як ефективний засіб запам'ятовування учнями навчального матеріалу / А. А. Сапенко, С. Т. Золотухіна // Наумовські читання : матеріал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XIV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удентської наук.-метод. конф., Харків, 24–25 листоп. 2016 р. / Харк. нац. пед. ун-т імені Г. С. Сковороди. – Харків : ХНПУ, 2017  . – С. 21–2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іддубний О. Г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собливості організації відбору в команду з аеронавтичного багатоборства в ВВНЗ / О. Г. Піддубний, Ж. О. Цимбалюк // Стратегічне управління розвитком фізичної культури і спорту : матеріал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V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егіон. наук.-практ. інтернет-конф. з міжнар. участю, Харків, 26–28 квіт. 2017 р. / Харк. держ. акад. фіз. культури – Харків : ХДАФК, 2017. – С. 89–9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сихолого-педагогические аспект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блемы формирования здоровьесберегающей ответственности  у  студентов / О. В. Костикова, С. Н. Корсун, И. И. Шапошникова,  Я. В. Суворова // Актуальні проблеми медико-біологічного забезпечення фізичної культури, спорту  та  фізичної  реабілітації : зб. ст. ІІ Міжнар. наук.-практ. інтернет-конф., присвяч. 25-річчю  Незалежності  України  та  20-річчю  Дня Конституції, Харків, 21 квіт. 2016 р. / Харк. держ. акад. фіз. культури. – Харків : ХДАФК, 2016. – С. 545–55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1"/>
          <p:cNvSpPr/>
          <p:nvPr/>
        </p:nvSpPr>
        <p:spPr>
          <a:xfrm>
            <a:off x="1344600" y="420840"/>
            <a:ext cx="9418680" cy="60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Розділи, глави, те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деологічні імперативи політичної культур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 контексті формування соціальної ідентичності / Г. М. Куц, І. В. Головко, Т. В. Панченко, О. М. Кузь, К. Г. Яцура // Правова і політична культура українського соціуму за умов модернізації політико-правового життя : монографія / [О. О. Безрук, Л. М. Герасіна, І. В. Головко та ін.] ; Нац. юрид. ун-т імені Я. Мудрого ; за ред. М. П. Требіна. – Харків : Право, 2017. – Розд. 4. – С. 358–5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Желібо Є. П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еоретичні основи безпеки життєдіяльності / Є. П. Желібо, Н. М. Заверуха, В. В. Зацарний // Безпека життєдіяльності : навч. посіб. для студ. вищ. навч. закл. ; за ред. Є. П. Желібо. – 6-те вид. – Київ : Каравела, 2010. – Розд. 1. – С. 14–5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овгань Г. Д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еография : учебник для 7 кл. общеобразоват. учеб.  заведений с обучением на рус. яз. / Г. Д. Довгань, А. Г. Стадник. — Харьков : Ранок, 2015. – Разд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V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кеаны, тема 1. Тихий океан. – С. 257–267. : ил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ubin Lewis I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Легочная гипертензия /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ewis I. Rubin //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арсонз Полли Э. Секреты пульманологии / Полли Э. Парсонз, Джон Э. Хеффнер. – Москва, 2004. – Гл. 40. – С. 307–31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вєчникова О. М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дсорбційні індикатори / О. М. Свєчнікова // Фармацевтична енциклопедія / Нац. фарм. ун-т ; редкол. : В. П. Черних (голов. ред.) та ін. – Вид. 2-ге, допов. – Київ : МОРІОН, 2010. – С. 2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1407960" y="809640"/>
            <a:ext cx="9472680" cy="54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Образотворчі, картографічні, аудіо- та відеоматеріа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Харків і харків’ян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[Образотворчий матеріал] : фотоальбом / [фото Р. Т. Папік’яна ; текст Р. Б. Гнатишина]. – Київ : Мистецтво, 1989. – 184 с. : іл. – Загол. на авантит., зміст парал. укр., рос., англ. мо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агальногеографічний атлас Україн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[Карти] / [уклад. та підгот. до друку Держ. наук.-виробн. підпр. «Картографія» у 2004 р. ; гол. ред. І. Руденко ; відпов. ред. Л. Марченко]. – Київ : ДНВП «Картографія» : Укргеодезкартографія, 2004. – 112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уерда Х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Атлас ботаніки / Хосе Куерда ; [пер. з ісп. В. Й. Шовкун]. – Харків : Ранок, 2005. – 96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усалоч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[Видеозапись] : мультфильм /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Walt Disney Co. – L. Angeles, 1994. – 90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ин. – 1 в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omantic collecti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Millennium ed. [Sound recording]. – Germany, 2001. – 45 min. – 1 mc. – Title from label casset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1"/>
          <p:cNvSpPr/>
          <p:nvPr/>
        </p:nvSpPr>
        <p:spPr>
          <a:xfrm>
            <a:off x="1308240" y="325440"/>
            <a:ext cx="955512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Бібліографічні покажчики та каталог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уц О. С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ібліографічний покажчик та анотації кандидатських дисертацій, захищених у спеціалізованій вченій раді Львівського державного університету фізичної культури у 2006 році / О. Куц, О. Вацеба. – Львів : Укр. Технології, 2007. – 74 с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истематизований покажчик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атеріалів з кримінального права, опублікованих у Віснику Конституційного Суду України за 1997–2005 роки / [уклад. Б. О. Кирись, О. С. Потлань]. – Львів : Львів. держ. ун-т внутр. справ, 2006. – 11 с. – (Серія : Бібліографічні довідники ; вип. 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ам’ятк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історії та мистецтва Львівської області : каталог-довідник / [ав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поряд. М. Зобків та ін.]. – Львів : Новий час, 2003. – 160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ніверситетська книг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осінь, 2003 р. : [каталог]. – [Суми : Університет. кн., 2003]. – 11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орницкая И. П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аталог растений для работ по фитодизайну / Донец. ботан. сад НАН Украины. – Донецк : Лебедь, 2005. – 228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сторико-правова спадщина Україн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кат. вист. / Харків. держ. наук. б-ка імені В. Г. Короленка ; уклад. : Л. І. Романова, О. В. Земляніщина. – Харків, 1996. – 64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1"/>
          <p:cNvSpPr/>
          <p:nvPr/>
        </p:nvSpPr>
        <p:spPr>
          <a:xfrm>
            <a:off x="1050840" y="347760"/>
            <a:ext cx="1004904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Неопубліковані докумен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езента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'ясоєдов В. В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інливість як властивість життя і генетичне явище : слайд-лекція для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удентів [Електронний ресурс] : [презентація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owerPoint] /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. В. М'ясоєдов. – Електр. дані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(125 слайдів). – Харків, 20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віт про науково-дослідну робо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озвиток наукового співробітництв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НАН України з провідними зарубіжним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уковим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центрами та організаціями / НАН України, Центр досліджень наук.-техн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тенціалу і історії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уки імені Г. М. Дуброва ; кер-к Онищенко О. С., Маліцький Б. А. ;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икон. Маліцький Б. А.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нищенко О. С., Попик В. І. [та ін.]. – Київ, 2008. – 178 с. – ДР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108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U004050.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нв. № ХХХХХХ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епоновані наукові прац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льїч Л. М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ормування і реалізація трудового потенціалу України в умовах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емографічної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ризи / Л. М. Ільїч ; Держ. акад. статистики, обліку та аудиту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ержкомстату України. – Київ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005. – 271 с. – Деп. у ДНТБ України 11.07.05, №43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к2005. – Укр. – Бібліогр. : 154 наз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рхівні докумен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окладная записк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омиссии по организации кабинета товароведения; список книг 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журналов, выделенных из фундаментальной библиотеки для кабинетов // Держархів м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иєва, ф. 153, оп. 8, спр. 164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рк. 3–5 з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8"/>
          <p:cNvSpPr/>
          <p:nvPr/>
        </p:nvSpPr>
        <p:spPr>
          <a:xfrm>
            <a:off x="1222200" y="588960"/>
            <a:ext cx="963468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Стандарти, що регламентую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складання бібліографічного за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ДСТУ ГОСТ 7.80:2007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Бібліографічний запис. Заголовок. Загальні вимоги та правила складан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ДСТУ ГОСТ 7.1:2006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Бібліографічний запис. Бібліографічний опис. Загальні вимоги та правила складан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ДСТУ 3582:2013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Бібліографічний опис. Скорочення слів і словосполучень українською мовою. Загальні вимоги та прави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ДСТУ 7093:2009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Бібліографічний запис. Скорочення слів і словосполук, поданих іноземними європейськими мов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ГОСТ 7.12-93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Библиографическая запись. Сокращение слов на русском языке. Общие требования и прави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Рисунок 3" descr=""/>
          <p:cNvPicPr/>
          <p:nvPr/>
        </p:nvPicPr>
        <p:blipFill>
          <a:blip r:embed="rId1"/>
          <a:stretch/>
        </p:blipFill>
        <p:spPr>
          <a:xfrm>
            <a:off x="4260960" y="4584600"/>
            <a:ext cx="987480" cy="99396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1"/>
          <p:cNvSpPr/>
          <p:nvPr/>
        </p:nvSpPr>
        <p:spPr>
          <a:xfrm>
            <a:off x="977760" y="1962000"/>
            <a:ext cx="4270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Укладач   Світлана  Коваленк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аступник директора НБ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ХНПУ імені Г. С. Сковоро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2"/>
          <p:cNvSpPr/>
          <p:nvPr/>
        </p:nvSpPr>
        <p:spPr>
          <a:xfrm>
            <a:off x="5157720" y="4711680"/>
            <a:ext cx="4496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  <a:ea typeface="Arial"/>
              </a:rPr>
              <a:t>717 10 3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Arial"/>
              </a:rPr>
              <a:t>email: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fr-FR" sz="1800" spc="-1" strike="noStrike" u="sng">
                <a:solidFill>
                  <a:srgbClr val="2683c6"/>
                </a:solidFill>
                <a:uFillTx/>
                <a:latin typeface="Calibri"/>
                <a:ea typeface="Arial"/>
                <a:hlinkClick r:id="rId2"/>
              </a:rPr>
              <a:t>svetlana.kovalenko2018@g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1"/>
          <p:cNvSpPr/>
          <p:nvPr/>
        </p:nvSpPr>
        <p:spPr>
          <a:xfrm>
            <a:off x="1276200" y="728640"/>
            <a:ext cx="973476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Книг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дного ав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оторіна В. Г.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фесійна компетентність учителя  математики  профільної  школи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 навч.  посіб.   для   студ.  природн. - мат.  спец.  пед.   ВНЗ  / В. Г. Моторіна ; Харк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ц. пед. ун-т  імені  Г. С. Сковороди. – Харків : ХНПУ, 2014. – 267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вох авто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орсак К. В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снови екології : навч. посіб. / К. В. Корсак, О. В. Плахотнік ; Міжрегіон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кад. упр. персоналом. – 3-тє вид., переробл. і допов. – Київ : [б. в.], 2002. – 296 с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убовик В. П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ища  математика : у 3-х ч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вч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сібник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л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уд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ищих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вч.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клад. Ч. І / В. П. Дубовик, І. І. Юрик. – 2-е вид. – Харків : Веста, 2008    . – 196 с. : іл.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(Серія «Вища школа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оменко К. І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eading for Psychologists 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в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етод. посіб. / К. І. Фоменко, О. І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узнецов ; Харк. нац. пед. ун-т імені Г. С. Сковороди. – Харків : Діса-плюс, 2017. – 183 с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іл., портр. 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екст анг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рьох автор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ойчук Ю. Д.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кологія і охорона навколишнього середовища : навч. посіб. для студ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ищ. навч. закл. / Ю. Д. Бойчук, Е. М. Солошенко, О. В. Бугай. – 3-тє вид., випр. і допов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– Суми : Унів. кн. ; Київ : Княгиня Ольга, 2005. – 302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1"/>
          <p:cNvSpPr/>
          <p:nvPr/>
        </p:nvSpPr>
        <p:spPr>
          <a:xfrm>
            <a:off x="1285920" y="650880"/>
            <a:ext cx="9744120" cy="54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Книг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Чотирьох авто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волюція  деяких  екологічних  систем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ід впливом природних факторів : посіб.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ля студ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иродн.  ф-тів  пед. та  аграрн.  ун-тів / О. І. Завгородній,   В. В. Мирось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. П. Пришляк, Т. Д. Пришляк ; Харк. Нац. аграр. ун-т  імені В. В. Докучаєва,  Харк. нац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ехн.  ун-т с.-г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мені  П. М. Василенка,  Харк. нац. пед. ун-т  імені  Г. С. Сковороди.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Харків : [б. в.], 2010. 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49 с. : і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'яти і більше авто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иївщинознавств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:  навч. посіб. / В. П. Коцур, В. В. Куйбіда, Б. О.  Чернов [та ін.]  ;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реяслав-Хмельн.  держ.  пед.  ун-т  імені  Г.  С. Сковороди  ;  за  заг. наук. ред.  В. П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оцура. –  Київ : Міленіум,  2007. – 309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рекладені ви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индер Г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Всемирная история / Г. Киндер, В. Хильгеман ; науч. ред. пер. А. И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люсаренко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. Ф. Иванов ; пер. с нем. – Москва : Рыбари, 2003. – 638 с. : ил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ар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уководств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к практическому применению преобразования Лапласа : 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иложением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аблиц, составленных Р. Гершелем / Г. Деч ; пер. со 2-го нем. изд. Г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ольперта. – Москва 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ука, 1965. – 288 с. : ил. – (Физико-математическа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иблиоте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нженер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1344600" y="797040"/>
            <a:ext cx="975348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Книг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нига за редакц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рганізація праці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: навч. посіб. / В. М. Данюк, А. С. Тельнов, С. Л. Решміділова та ін. 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а ред. В. М. Данюк. – Київ : КНЕУ, 2009. – 333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іжнародна економік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навч. посіб. / за ред. Ю. Г. Козака. – Київ : ЦУЛ, 2008. – 1118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ез ав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сторі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Свято-Михайлівського Золотоверхого монастиря / [авт. тексту В. Клос]. – Киї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рані-Т, 2007. – 119 с. – (Грані світ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лов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ибик С. П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ловник епітетів української мови / С. П. Бибик, С. Я. Єрмоленко, Л. О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устовіт. – Київ : Довіра, 1998. – 431 с. – (Словники Україн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оловйов В. О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ирода України : словник-довідник для вчителів та учнів / В. О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оловйов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. В. Грицайчук. – Харків : Основа, 2009. – Ч. 1. – 96 с.  – (Бібліоте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журналу "Географія" ; вип. 10 (70)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учасний тлумачний словник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країнської мови : для шк., абітур., студ., викл. /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клад. : Л. П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лексієнко, О. Л. Шумейко. – Київ : Кобза, 2004. – 543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1"/>
          <p:cNvSpPr/>
          <p:nvPr/>
        </p:nvSpPr>
        <p:spPr>
          <a:xfrm>
            <a:off x="1457280" y="800280"/>
            <a:ext cx="9085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64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4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Методичні вказівки та рекомендаці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4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4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4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Шиловцева Н. В.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правлінська  практика  бакалаврів.  Програма та  методичні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екомендації  :  для  студ. екон. ф-ту галузі  знань 0305 «Економіка 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ідприємництво»,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пец. 6.030501 – «Екон.  теор.  Менедж.  освіти» /  Н.  В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Шиловцева ; Харк. нац. пед. ун-т імені  Г. С. Сковороди. – Харків : ХНПУ, 2017. –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35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4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анаетова О. А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On the move 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етод. рек. для студ. 2-го курсу ф-ту інозем. філол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. А. Панаетова, В. В. Пантюхін, О. О. Українська ; Харк. нац. пед. ун-т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мені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. Сковороди. –  Харків  :  ХНПУ,  2005.  –  61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4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рганізація та методик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грової діяльності : метод. вказівки до вивч. курсу дл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уд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у культурології / М-во культури і мистецтв України [та ін.] ; уклад. Л. Г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ишевська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–  Харків  :  ХДІК, 1998. – 24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4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ізіологія крові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а внутрішнього середовища : метод. рек. для студ. вищ. навч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акл. до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лаб. занять з курсу «Фізіологія людини». Ч. 3. Фізіологія   крові   та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нутрішнього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ередовища  / Харків.  нац.  пед.  ун-т  імені  Г.  С. Сковороди  ;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клад.  :   І.  А.  Іонов,  Т. Є.  Комісова,   В.  Ф.  Слюсарев,  С.  О.  Шаповалов. –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Харків  :  ХНПУ,  2017.  – 48 с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2"/>
          <p:cNvSpPr/>
          <p:nvPr/>
        </p:nvSpPr>
        <p:spPr>
          <a:xfrm>
            <a:off x="1243080" y="498600"/>
            <a:ext cx="958356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Багатотомні видан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ведений оп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нтоненко-Давидович Б. Д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вори : в 2 т. / Б. Д. Антоненко-Давидович. – Київ 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ук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умка, 1999. – (Бібліотека української літератури). – Т. 1–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Яворницький Д. І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сторія запорізьких козаків : у 3 т. / Д. І. Яворницький ; з рос. пер. І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варник. – Львів : Світ, 1992. – 3 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арубіжна літератур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стислий виклад змісту всіх творів за новою шкільною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грамою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10–11 кл. : у 2 т. : повна зб. за сучасною програмою / авт.–упоряд. І. Л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олій. – Харків : Ранок, 2000. – 672 с. – (Дайджес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кремий 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нтологі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української юридичної думки : в 10 т. / Інститут держави і права імені В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орецького НАН України. – Київ : Юридична книга, 2002 . – Т. 1 : Загальна теорі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ержави і права, філософія та енциклопедія права. – 568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портивні ігр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навч. посіб. для студ. вищ. навч. закл. : [у 2 т.] / Ж. Л. Козіна, Ю. М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ярков, О. В. Церковна, В. О. Воробйова ; Харк. нац. пед. ун-т імені Г. С. Сковород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; під заг. ред. Ж. Л. Козіної. – Харків : Точка, 2010. – Т. 1 : Загальні основи теорії 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етодики спортивних ігор. – 200 с. : і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1335240" y="690480"/>
            <a:ext cx="948204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Збірки наукових праць, матеріалів конференці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іологія та валеологі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зб. наук. пр. / Харк. нац. пед. ун-т імені Г. С. Сковороди ; [редкол. : Л. П. Харченко (голов. ред.) та ін.]. – Харків : ХНПУ, 2015. – Вип. 17. – 147 с. : і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собистість студент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 соціокультурне середовище університету в суспільному контексті : матер. Всеукр. наук.-практ. конф., Київ, 2 черв. 2017 р. / Ін-т вищої освіти НАПН України ; вступ. сл. В. І. Рябченка. – Київ : ІВО НАПНУ, 2017. – 148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учасні технології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 сфері фізичного виховання, спорту та валеології : зб. наук. пр. учасн-в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X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іжнар. Інтернет наук.-метод. конф. / Нац. Акад. Нац. Гвардії України ; за ред. В. П. Бізіна. – Харків : НАНГУ, 2016. – Вип. 10. – 34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осьмі сумцовські читанн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зб. матеріалів наук. конф., присвяч. 100-річчю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XII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рхеологічного з’їзду 12 квіт. 2002 р. / М-во культури і мистецтв України [та ін.]. – Харків : ХНАДУ,  2003. – 138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1"/>
          <p:cNvSpPr/>
          <p:nvPr/>
        </p:nvSpPr>
        <p:spPr>
          <a:xfrm>
            <a:off x="1246320" y="555480"/>
            <a:ext cx="958032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Дисертації, автореферати та монографі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азан В. В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світницько-виховна діяльність Лавр як духовних осередків на українських землях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XVIII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чаток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XX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оліття) : дис. на здоб. наук. ступеня д-ра пед. наук : спец. 13.00.01 – заг. теор. та іст. пед. / В. В. Фазан ; Харк. нац. пед. ун-т імені Г. С. Сковороди. – Харків : ХНПУ, 2015. – 646 с. + дод.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D-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орисов В. А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Лінгвокомунікативний аспект українського мовознавчого дискурсу : автореф. дис. на здоб. наук. ступеня канд. філол. наук : спец. 10.02.01 – укр. мова / В. А. Борисов ; Харк. нац. пед. ун-т імені Г. С. Сковороди. – Харків : ХНПУ, 2011. – 20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узнєцов М. А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моційне ставлення студентів до навчання : монографія / М. А. Кузнєцов, Я. В. Козуб ; Харк. нац. пед. ун-т імені Г. С. Сковороди. – Харків : Діса плюс, 2017. – 282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алий розвиток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ериторіальної громади : управлінський аспект : кол. моногр. / Нац. акад. держ. упр. при Президентові України, Харк. регіон. ін-т держ. упр. ; [Ю. О. Куц, В. В. Мамонова, О. К. Чаплигін та ін. ; за заг. ред. Ю. О. Куца, В. В. Мамонової]. – Харків : ХарРі НАДУ Магістр, 2008. – 236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4T11:09:03Z</dcterms:created>
  <dc:creator>Chief</dc:creator>
  <dc:description/>
  <dc:language>en-US</dc:language>
  <cp:lastModifiedBy>RePack by Diakov</cp:lastModifiedBy>
  <dcterms:modified xsi:type="dcterms:W3CDTF">2018-12-15T10:07:40Z</dcterms:modified>
  <cp:revision>113</cp:revision>
  <dc:subject/>
  <dc:title>Презентация PowerPoint</dc:title>
</cp:coreProperties>
</file>