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0CC11-062B-47B3-8EA9-752A05F8F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494ba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D9DC5-9842-4EC4-91D5-164EE78E9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494ba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46BCE-2A0F-4E2E-A704-43445AD5C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494ba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156EE-341F-48EE-A802-D7DF31A33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E9A27-A114-4A72-BC1A-B55D9A858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494ba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8DBFF-C7BA-42D5-A80B-F945A40DD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494ba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94C0A-9F52-455C-B4F3-902FBED78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494ba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BC3B0-B200-4E66-A00C-2D68FC214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494b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7865F-3B1F-48CE-8EDC-7558AE6AD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886A8-5565-4998-811C-B7DFFE2B0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494ba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A0361-152F-4FF1-A96A-68E226259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494ba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48F3A-757D-4FA2-B7A6-F59D89DD4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494ba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C0B22-523B-4E68-AA69-CE07F0D52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494ba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ADC8D-E8F5-4E92-937A-08BC10759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494ba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5A4A4-3503-455E-B2F9-F0DD37814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494ba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5AAB7-F02B-41AA-98A5-F7D2E7E3E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494ba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1453A-95D9-46DB-B3BF-86D76007E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E6A4BC-F79E-471E-A453-6A36F38B6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494ba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E259EB-7715-4C6D-BBBC-5630D5207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494ba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5AAFBC-57ED-49F9-8C1F-50D7109B3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494ba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7CF78E-929C-4B01-92BA-317DF7BA9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494b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BD90E3-7FD7-4880-A5FE-268396D1C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494ba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359E5-5AFB-4AA2-A109-3052CB9D8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797707-86CC-45E4-BB5E-6F8CC5948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494ba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89886A-B667-48E6-B14B-294E400F2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494ba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AF4615-364A-43C3-81D1-0D2426D19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494ba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6118A8-37F9-4C8C-AD08-9261AC1F6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494ba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D24E6D-9799-45AD-9A18-A6387D0FB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494ba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689A5C-65BB-488D-98B8-25B2E7489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494ba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62220E-EAD0-4378-A4C5-EED3F7C1D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E8FA1B-A43C-4604-9D1E-A9D128308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494ba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93A312-7308-4337-97DD-E23BD7FBE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494ba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84DB5B-AC7A-4BFB-8A18-AB0F2E962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494ba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0B5CB-9595-4872-BD60-D8CC94877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494ba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A8DCE7-A94D-4595-B721-BB2371991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494b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5BF2CF-4003-4689-AF52-8463CEF05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086789-D823-4760-A571-8E781F241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494ba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06C7C5-5431-4C9C-BDED-3B7B131DD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494ba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E9F044-ABD4-4166-AB7A-E999D463E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494ba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8BC998-07BE-4FF4-A72F-350C1972F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494ba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52E412-A3AF-4116-AC76-9D5798109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494ba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6A178D-FFA9-4582-BE6C-52A62B367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494ba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E123A0-7E88-4986-BA23-C918AD2F5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494b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A6751-1B82-4D83-A5AF-9A12587E1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9B812-71C8-4C3A-B368-EA0915B50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494ba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60070-B16E-4D28-A3E7-180131827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494ba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B1C54-DD1A-489E-80BF-9E15B4D65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494ba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3C1FF-9226-429B-B138-526A813FC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1" name="Straight Connector 19"/>
            <p:cNvSpPr/>
            <p:nvPr/>
          </p:nvSpPr>
          <p:spPr>
            <a:xfrm>
              <a:off x="937116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Straight Connector 20"/>
            <p:cNvSpPr/>
            <p:nvPr/>
          </p:nvSpPr>
          <p:spPr>
            <a:xfrm flipH="1">
              <a:off x="7425000" y="3681360"/>
              <a:ext cx="4764240" cy="317664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Rectangle 23"/>
            <p:cNvSpPr/>
            <p:nvPr/>
          </p:nvSpPr>
          <p:spPr>
            <a:xfrm>
              <a:off x="9182160" y="-7920"/>
              <a:ext cx="300672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3494b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25"/>
            <p:cNvSpPr/>
            <p:nvPr/>
          </p:nvSpPr>
          <p:spPr>
            <a:xfrm>
              <a:off x="9603000" y="-7920"/>
              <a:ext cx="258912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494b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Isosceles Triangle 23"/>
            <p:cNvSpPr/>
            <p:nvPr/>
          </p:nvSpPr>
          <p:spPr>
            <a:xfrm>
              <a:off x="8933040" y="3048120"/>
              <a:ext cx="3259080" cy="3809880"/>
            </a:xfrm>
            <a:prstGeom prst="triangle">
              <a:avLst>
                <a:gd name="adj" fmla="val 100000"/>
              </a:avLst>
            </a:prstGeom>
            <a:solidFill>
              <a:srgbClr val="58b6c0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a8f98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28"/>
            <p:cNvSpPr/>
            <p:nvPr/>
          </p:nvSpPr>
          <p:spPr>
            <a:xfrm>
              <a:off x="10898280" y="-7920"/>
              <a:ext cx="129060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7fc1db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29"/>
            <p:cNvSpPr/>
            <p:nvPr/>
          </p:nvSpPr>
          <p:spPr>
            <a:xfrm>
              <a:off x="10939680" y="-7920"/>
              <a:ext cx="124920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494ba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Isosceles Triangle 27"/>
            <p:cNvSpPr/>
            <p:nvPr/>
          </p:nvSpPr>
          <p:spPr>
            <a:xfrm>
              <a:off x="10371240" y="3589200"/>
              <a:ext cx="1817640" cy="3268800"/>
            </a:xfrm>
            <a:prstGeom prst="triangle">
              <a:avLst>
                <a:gd name="adj" fmla="val 100000"/>
              </a:avLst>
            </a:prstGeom>
            <a:solidFill>
              <a:srgbClr val="3494ba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Isosceles Triangle 28"/>
            <p:cNvSpPr/>
            <p:nvPr/>
          </p:nvSpPr>
          <p:spPr>
            <a:xfrm>
              <a:off x="0" y="4013280"/>
              <a:ext cx="449280" cy="2844720"/>
            </a:xfrm>
            <a:prstGeom prst="triangle">
              <a:avLst>
                <a:gd name="adj" fmla="val 0"/>
              </a:avLst>
            </a:prstGeom>
            <a:solidFill>
              <a:srgbClr val="3494ba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494ba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3494ba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494ba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spcBef>
                <a:spcPts val="1001"/>
              </a:spcBef>
              <a:buClr>
                <a:srgbClr val="3494ba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spcBef>
                <a:spcPts val="1001"/>
              </a:spcBef>
              <a:buClr>
                <a:srgbClr val="3494ba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spcBef>
                <a:spcPts val="1001"/>
              </a:spcBef>
              <a:buClr>
                <a:srgbClr val="3494ba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spcBef>
                <a:spcPts val="1001"/>
              </a:spcBef>
              <a:buClr>
                <a:srgbClr val="3494ba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3494ba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5E1F1A0-F663-40E5-BAC3-29DCEE24FBAC}" type="slidenum">
              <a:rPr b="0" lang="ru-RU" sz="900" spc="-1" strike="noStrike">
                <a:solidFill>
                  <a:srgbClr val="3494ba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53" name="Straight Connector 19"/>
            <p:cNvSpPr/>
            <p:nvPr/>
          </p:nvSpPr>
          <p:spPr>
            <a:xfrm>
              <a:off x="937116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Straight Connector 20"/>
            <p:cNvSpPr/>
            <p:nvPr/>
          </p:nvSpPr>
          <p:spPr>
            <a:xfrm flipH="1">
              <a:off x="7425000" y="3681360"/>
              <a:ext cx="4764240" cy="317664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23"/>
            <p:cNvSpPr/>
            <p:nvPr/>
          </p:nvSpPr>
          <p:spPr>
            <a:xfrm>
              <a:off x="9182160" y="-7920"/>
              <a:ext cx="300672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3494b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25"/>
            <p:cNvSpPr/>
            <p:nvPr/>
          </p:nvSpPr>
          <p:spPr>
            <a:xfrm>
              <a:off x="9603000" y="-7920"/>
              <a:ext cx="258912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494b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Isosceles Triangle 23"/>
            <p:cNvSpPr/>
            <p:nvPr/>
          </p:nvSpPr>
          <p:spPr>
            <a:xfrm>
              <a:off x="8933040" y="3048120"/>
              <a:ext cx="3259080" cy="3809880"/>
            </a:xfrm>
            <a:prstGeom prst="triangle">
              <a:avLst>
                <a:gd name="adj" fmla="val 100000"/>
              </a:avLst>
            </a:prstGeom>
            <a:solidFill>
              <a:srgbClr val="58b6c0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a8f98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28"/>
            <p:cNvSpPr/>
            <p:nvPr/>
          </p:nvSpPr>
          <p:spPr>
            <a:xfrm>
              <a:off x="10898280" y="-7920"/>
              <a:ext cx="129060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7fc1db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29"/>
            <p:cNvSpPr/>
            <p:nvPr/>
          </p:nvSpPr>
          <p:spPr>
            <a:xfrm>
              <a:off x="10939680" y="-7920"/>
              <a:ext cx="124920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494ba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Isosceles Triangle 27"/>
            <p:cNvSpPr/>
            <p:nvPr/>
          </p:nvSpPr>
          <p:spPr>
            <a:xfrm>
              <a:off x="10371240" y="3589200"/>
              <a:ext cx="1817640" cy="3268800"/>
            </a:xfrm>
            <a:prstGeom prst="triangle">
              <a:avLst>
                <a:gd name="adj" fmla="val 100000"/>
              </a:avLst>
            </a:prstGeom>
            <a:solidFill>
              <a:srgbClr val="3494ba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Isosceles Triangle 28"/>
            <p:cNvSpPr/>
            <p:nvPr/>
          </p:nvSpPr>
          <p:spPr>
            <a:xfrm>
              <a:off x="0" y="4013280"/>
              <a:ext cx="449280" cy="2844720"/>
            </a:xfrm>
            <a:prstGeom prst="triangle">
              <a:avLst>
                <a:gd name="adj" fmla="val 0"/>
              </a:avLst>
            </a:prstGeom>
            <a:solidFill>
              <a:srgbClr val="3494ba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Group 6"/>
          <p:cNvGrpSpPr/>
          <p:nvPr/>
        </p:nvGrpSpPr>
        <p:grpSpPr>
          <a:xfrm>
            <a:off x="-360" y="-7920"/>
            <a:ext cx="12192480" cy="6865920"/>
            <a:chOff x="-360" y="-7920"/>
            <a:chExt cx="12192480" cy="6865920"/>
          </a:xfrm>
        </p:grpSpPr>
        <p:sp>
          <p:nvSpPr>
            <p:cNvPr id="64" name="Straight Connector 31"/>
            <p:cNvSpPr/>
            <p:nvPr/>
          </p:nvSpPr>
          <p:spPr>
            <a:xfrm>
              <a:off x="937116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Straight Connector 20"/>
            <p:cNvSpPr/>
            <p:nvPr/>
          </p:nvSpPr>
          <p:spPr>
            <a:xfrm flipH="1">
              <a:off x="7425000" y="3681360"/>
              <a:ext cx="4764240" cy="317664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Rectangle 23"/>
            <p:cNvSpPr/>
            <p:nvPr/>
          </p:nvSpPr>
          <p:spPr>
            <a:xfrm>
              <a:off x="9182160" y="-7920"/>
              <a:ext cx="300672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3494b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Rectangle 25"/>
            <p:cNvSpPr/>
            <p:nvPr/>
          </p:nvSpPr>
          <p:spPr>
            <a:xfrm>
              <a:off x="9603000" y="-7920"/>
              <a:ext cx="258912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494b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Isosceles Triangle 26"/>
            <p:cNvSpPr/>
            <p:nvPr/>
          </p:nvSpPr>
          <p:spPr>
            <a:xfrm>
              <a:off x="8933040" y="3048120"/>
              <a:ext cx="3259080" cy="3809880"/>
            </a:xfrm>
            <a:prstGeom prst="triangle">
              <a:avLst>
                <a:gd name="adj" fmla="val 100000"/>
              </a:avLst>
            </a:prstGeom>
            <a:solidFill>
              <a:srgbClr val="58b6c0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a8f98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Rectangle 28"/>
            <p:cNvSpPr/>
            <p:nvPr/>
          </p:nvSpPr>
          <p:spPr>
            <a:xfrm>
              <a:off x="10898280" y="-7920"/>
              <a:ext cx="129060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7fc1db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Rectangle 29"/>
            <p:cNvSpPr/>
            <p:nvPr/>
          </p:nvSpPr>
          <p:spPr>
            <a:xfrm>
              <a:off x="10939680" y="-7920"/>
              <a:ext cx="124920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494ba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Isosceles Triangle 30"/>
            <p:cNvSpPr/>
            <p:nvPr/>
          </p:nvSpPr>
          <p:spPr>
            <a:xfrm>
              <a:off x="10371240" y="3589200"/>
              <a:ext cx="1817640" cy="3268800"/>
            </a:xfrm>
            <a:prstGeom prst="triangle">
              <a:avLst>
                <a:gd name="adj" fmla="val 100000"/>
              </a:avLst>
            </a:prstGeom>
            <a:solidFill>
              <a:srgbClr val="3494ba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Isosceles Triangle 18"/>
            <p:cNvSpPr/>
            <p:nvPr/>
          </p:nvSpPr>
          <p:spPr>
            <a:xfrm rot="10800000">
              <a:off x="0" y="-360"/>
              <a:ext cx="842760" cy="5666040"/>
            </a:xfrm>
            <a:prstGeom prst="triangle">
              <a:avLst>
                <a:gd name="adj" fmla="val 100000"/>
              </a:avLst>
            </a:prstGeom>
            <a:solidFill>
              <a:srgbClr val="3494ba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494ba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3494ba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494ba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spcBef>
                <a:spcPts val="1001"/>
              </a:spcBef>
              <a:buClr>
                <a:srgbClr val="3494ba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spcBef>
                <a:spcPts val="1001"/>
              </a:spcBef>
              <a:buClr>
                <a:srgbClr val="3494ba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spcBef>
                <a:spcPts val="1001"/>
              </a:spcBef>
              <a:buClr>
                <a:srgbClr val="3494ba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spcBef>
                <a:spcPts val="1001"/>
              </a:spcBef>
              <a:buClr>
                <a:srgbClr val="3494ba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dt" idx="4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ftr" idx="5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 type="sldNum" idx="6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3494ba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B571AF-635B-4AF0-A824-5DE9012075B8}" type="slidenum">
              <a:rPr b="0" lang="ru-RU" sz="900" spc="-1" strike="noStrike">
                <a:solidFill>
                  <a:srgbClr val="3494ba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" name="Group 6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116" name="Straight Connector 19"/>
            <p:cNvSpPr/>
            <p:nvPr/>
          </p:nvSpPr>
          <p:spPr>
            <a:xfrm>
              <a:off x="937116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Straight Connector 20"/>
            <p:cNvSpPr/>
            <p:nvPr/>
          </p:nvSpPr>
          <p:spPr>
            <a:xfrm flipH="1">
              <a:off x="7425000" y="3681360"/>
              <a:ext cx="4764240" cy="317664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Rectangle 23"/>
            <p:cNvSpPr/>
            <p:nvPr/>
          </p:nvSpPr>
          <p:spPr>
            <a:xfrm>
              <a:off x="9182160" y="-7920"/>
              <a:ext cx="300672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3494b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Rectangle 25"/>
            <p:cNvSpPr/>
            <p:nvPr/>
          </p:nvSpPr>
          <p:spPr>
            <a:xfrm>
              <a:off x="9603000" y="-7920"/>
              <a:ext cx="258912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494b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Isosceles Triangle 23"/>
            <p:cNvSpPr/>
            <p:nvPr/>
          </p:nvSpPr>
          <p:spPr>
            <a:xfrm>
              <a:off x="8933040" y="3048120"/>
              <a:ext cx="3259080" cy="3809880"/>
            </a:xfrm>
            <a:prstGeom prst="triangle">
              <a:avLst>
                <a:gd name="adj" fmla="val 100000"/>
              </a:avLst>
            </a:prstGeom>
            <a:solidFill>
              <a:srgbClr val="58b6c0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a8f98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28"/>
            <p:cNvSpPr/>
            <p:nvPr/>
          </p:nvSpPr>
          <p:spPr>
            <a:xfrm>
              <a:off x="10898280" y="-7920"/>
              <a:ext cx="129060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7fc1db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29"/>
            <p:cNvSpPr/>
            <p:nvPr/>
          </p:nvSpPr>
          <p:spPr>
            <a:xfrm>
              <a:off x="10939680" y="-7920"/>
              <a:ext cx="124920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494ba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Isosceles Triangle 27"/>
            <p:cNvSpPr/>
            <p:nvPr/>
          </p:nvSpPr>
          <p:spPr>
            <a:xfrm>
              <a:off x="10371240" y="3589200"/>
              <a:ext cx="1817640" cy="3268800"/>
            </a:xfrm>
            <a:prstGeom prst="triangle">
              <a:avLst>
                <a:gd name="adj" fmla="val 100000"/>
              </a:avLst>
            </a:prstGeom>
            <a:solidFill>
              <a:srgbClr val="3494ba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Isosceles Triangle 28"/>
            <p:cNvSpPr/>
            <p:nvPr/>
          </p:nvSpPr>
          <p:spPr>
            <a:xfrm>
              <a:off x="0" y="4013280"/>
              <a:ext cx="449280" cy="2844720"/>
            </a:xfrm>
            <a:prstGeom prst="triangle">
              <a:avLst>
                <a:gd name="adj" fmla="val 0"/>
              </a:avLst>
            </a:prstGeom>
            <a:solidFill>
              <a:srgbClr val="3494ba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TextBox 19"/>
          <p:cNvSpPr/>
          <p:nvPr/>
        </p:nvSpPr>
        <p:spPr>
          <a:xfrm>
            <a:off x="541440" y="79056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7fc1db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21"/>
          <p:cNvSpPr/>
          <p:nvPr/>
        </p:nvSpPr>
        <p:spPr>
          <a:xfrm>
            <a:off x="8893080" y="2886120"/>
            <a:ext cx="6098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7fc1db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494ba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3494ba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494ba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spcBef>
                <a:spcPts val="1001"/>
              </a:spcBef>
              <a:buClr>
                <a:srgbClr val="3494ba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spcBef>
                <a:spcPts val="1001"/>
              </a:spcBef>
              <a:buClr>
                <a:srgbClr val="3494ba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spcBef>
                <a:spcPts val="1001"/>
              </a:spcBef>
              <a:buClr>
                <a:srgbClr val="3494ba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spcBef>
                <a:spcPts val="1001"/>
              </a:spcBef>
              <a:buClr>
                <a:srgbClr val="3494ba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7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8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9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3494ba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1315DB-49E0-463F-ADEA-40959D225270}" type="slidenum">
              <a:rPr b="0" lang="ru-RU" sz="900" spc="-1" strike="noStrike">
                <a:solidFill>
                  <a:srgbClr val="3494ba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9" name="Group 6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170" name="Straight Connector 19"/>
            <p:cNvSpPr/>
            <p:nvPr/>
          </p:nvSpPr>
          <p:spPr>
            <a:xfrm>
              <a:off x="937116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Straight Connector 20"/>
            <p:cNvSpPr/>
            <p:nvPr/>
          </p:nvSpPr>
          <p:spPr>
            <a:xfrm flipH="1">
              <a:off x="7425000" y="3681360"/>
              <a:ext cx="4764240" cy="317664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Rectangle 23"/>
            <p:cNvSpPr/>
            <p:nvPr/>
          </p:nvSpPr>
          <p:spPr>
            <a:xfrm>
              <a:off x="9182160" y="-7920"/>
              <a:ext cx="300672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3494b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Rectangle 25"/>
            <p:cNvSpPr/>
            <p:nvPr/>
          </p:nvSpPr>
          <p:spPr>
            <a:xfrm>
              <a:off x="9603000" y="-7920"/>
              <a:ext cx="258912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494b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Isosceles Triangle 23"/>
            <p:cNvSpPr/>
            <p:nvPr/>
          </p:nvSpPr>
          <p:spPr>
            <a:xfrm>
              <a:off x="8933040" y="3048120"/>
              <a:ext cx="3259080" cy="3809880"/>
            </a:xfrm>
            <a:prstGeom prst="triangle">
              <a:avLst>
                <a:gd name="adj" fmla="val 100000"/>
              </a:avLst>
            </a:prstGeom>
            <a:solidFill>
              <a:srgbClr val="58b6c0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a8f98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Rectangle 28"/>
            <p:cNvSpPr/>
            <p:nvPr/>
          </p:nvSpPr>
          <p:spPr>
            <a:xfrm>
              <a:off x="10898280" y="-7920"/>
              <a:ext cx="129060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7fc1db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Rectangle 29"/>
            <p:cNvSpPr/>
            <p:nvPr/>
          </p:nvSpPr>
          <p:spPr>
            <a:xfrm>
              <a:off x="10939680" y="-7920"/>
              <a:ext cx="124920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494ba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Isosceles Triangle 27"/>
            <p:cNvSpPr/>
            <p:nvPr/>
          </p:nvSpPr>
          <p:spPr>
            <a:xfrm>
              <a:off x="10371240" y="3589200"/>
              <a:ext cx="1817640" cy="3268800"/>
            </a:xfrm>
            <a:prstGeom prst="triangle">
              <a:avLst>
                <a:gd name="adj" fmla="val 100000"/>
              </a:avLst>
            </a:prstGeom>
            <a:solidFill>
              <a:srgbClr val="3494ba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Isosceles Triangle 28"/>
            <p:cNvSpPr/>
            <p:nvPr/>
          </p:nvSpPr>
          <p:spPr>
            <a:xfrm>
              <a:off x="0" y="4013280"/>
              <a:ext cx="449280" cy="2844720"/>
            </a:xfrm>
            <a:prstGeom prst="triangle">
              <a:avLst>
                <a:gd name="adj" fmla="val 0"/>
              </a:avLst>
            </a:prstGeom>
            <a:solidFill>
              <a:srgbClr val="3494ba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0" name="TextBox 23"/>
          <p:cNvSpPr/>
          <p:nvPr/>
        </p:nvSpPr>
        <p:spPr>
          <a:xfrm>
            <a:off x="541440" y="79056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7fc1db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24"/>
          <p:cNvSpPr/>
          <p:nvPr/>
        </p:nvSpPr>
        <p:spPr>
          <a:xfrm>
            <a:off x="8893080" y="2886120"/>
            <a:ext cx="6098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7fc1db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494ba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3494ba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494ba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spcBef>
                <a:spcPts val="1001"/>
              </a:spcBef>
              <a:buClr>
                <a:srgbClr val="3494ba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spcBef>
                <a:spcPts val="1001"/>
              </a:spcBef>
              <a:buClr>
                <a:srgbClr val="3494ba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spcBef>
                <a:spcPts val="1001"/>
              </a:spcBef>
              <a:buClr>
                <a:srgbClr val="3494ba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spcBef>
                <a:spcPts val="1001"/>
              </a:spcBef>
              <a:buClr>
                <a:srgbClr val="3494ba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dt" idx="10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 type="ftr" idx="11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 type="sldNum" idx="12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3494ba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1BB3546-9696-4D5E-85AC-8E471CC34C94}" type="slidenum">
              <a:rPr b="0" lang="ru-RU" sz="900" spc="-1" strike="noStrike">
                <a:solidFill>
                  <a:srgbClr val="3494ba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nbuv.gov.ua/articles/2003/03klinko.htm." TargetMode="External"/><Relationship Id="rId2" Type="http://schemas.openxmlformats.org/officeDocument/2006/relationships/hyperlink" Target="http://www.health-ua.com/articles/1331.html." TargetMode="External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mailto:svetlana.kovalenko2018@gmail.com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Прямоугольник 3"/>
          <p:cNvSpPr/>
          <p:nvPr/>
        </p:nvSpPr>
        <p:spPr>
          <a:xfrm>
            <a:off x="1362240" y="1690560"/>
            <a:ext cx="9208800" cy="462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uk-UA" sz="4400" spc="-1" strike="noStrike">
                <a:solidFill>
                  <a:srgbClr val="ff0000"/>
                </a:solidFill>
                <a:latin typeface="Calibri"/>
                <a:ea typeface="Arial Unicode MS"/>
              </a:rPr>
              <a:t>Приклади бібліографічног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uk-UA" sz="3600" spc="-1" strike="noStrike">
                <a:solidFill>
                  <a:srgbClr val="ff0000"/>
                </a:solidFill>
                <a:latin typeface="Calibri"/>
                <a:ea typeface="Arial Unicode MS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uk-UA" sz="4400" spc="-1" strike="noStrike">
                <a:solidFill>
                  <a:srgbClr val="ff0000"/>
                </a:solidFill>
                <a:latin typeface="Calibri"/>
                <a:ea typeface="Arial Unicode MS"/>
              </a:rPr>
              <a:t>опису документі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899"/>
              </a:lnSpc>
              <a:spcBef>
                <a:spcPts val="117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20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Прямоугольник 1"/>
          <p:cNvSpPr/>
          <p:nvPr/>
        </p:nvSpPr>
        <p:spPr>
          <a:xfrm>
            <a:off x="1347840" y="941400"/>
            <a:ext cx="969804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  <a:ea typeface="Arial"/>
              </a:rPr>
              <a:t>Приклади бібліографічного опис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  <a:ea typeface="Arial"/>
              </a:rPr>
              <a:t>Законодавчі і нормативні документ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Про освіту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: Закон України від 05.09.2017 р. № 2145-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VIII (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із зм. і доп.) // Відомості Верховної Ради України. – 2017. – № 38–39, ст. 380. – С. 5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Про вищу освіту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: Закон України від 01.07.2014 р. № 1556-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VII (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із зм. і доп.) / Верховна Рада України. – Офіц. вид. – Київ : Парламентське вид-во, 2017. – 108 с. – (Закони України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Студент і закон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: зб. законодавчо-правових док. / уклад. Г. Ф. Труханов, С. М. Романюк ; Асоц. профспілкових організацій студентів України . – Київ : Четверта хвиля, 1997. – 240 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ДСТУ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 3008-95. Документація. Звіти у сфері науки і техніки. Структура і правила оформлення. – Введ. 23.02.95. – Київ : Держстандарт України, 2005. – 38 с. – (Державні стандарти України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рямоугольник 1"/>
          <p:cNvSpPr/>
          <p:nvPr/>
        </p:nvSpPr>
        <p:spPr>
          <a:xfrm>
            <a:off x="1209600" y="932040"/>
            <a:ext cx="9753840" cy="49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  <a:ea typeface="Arial"/>
              </a:rPr>
              <a:t>Приклади бібліографічного опис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  <a:ea typeface="Arial"/>
              </a:rPr>
              <a:t>Патентні документ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Пат. 76915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UA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,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МПК А61К 31/198 (2006.01) А61Р 11/06 (2006.01) Спосіб лікування хворих на тяжку персистувальну бронхіальну астму із застосуванням ацетилцистеїну / Ю. І. Фещенко, Л. О. Яшина, В. І. Ігнатьєва, І. Ф. Ільїнська, Ю. О. Матвієнко, С. М. Москаленко, Г. В. Сідун ; заявник Інститут фтизіатрії і пульмонології імені Ф. Г. Яновського Академії медичних наук України. – № а 200503501 ; заявл. 14.04.2005 ; опубл. 15.09.2006, Бюл. № 9, 2006 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Пат. 81883 Україна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, МПК С 21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N 5/02.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Поживне середовище для культивування стовбурових  клітин  / А. А. Сколожабський, В. М. Лісовий. –  № 200703097 ; заявл. 23.03.07 ; опубл. 11.02.08, Бюл. № 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Пат. 2179027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Российская Федерация, МПК А 61К 35/14. Гематоген / О. И. Кочерга. – № 20000131551/14 ; заявл. 18.12.00 ; опубл. 10.02.02, Бюл. № 5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Прямоугольник 1"/>
          <p:cNvSpPr/>
          <p:nvPr/>
        </p:nvSpPr>
        <p:spPr>
          <a:xfrm>
            <a:off x="1338120" y="1200240"/>
            <a:ext cx="9799920" cy="436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  <a:ea typeface="Arial"/>
              </a:rPr>
              <a:t>Приклади бібліографічного опис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  <a:ea typeface="Arial"/>
              </a:rPr>
              <a:t>Інформаційні лист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Педагогіка здоров’я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: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V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ІІІ Всеукраїнська наук.-практ. конф., м. Харків, 18–19 трав. 2018 р. :  інформаційний лист / Харк. нац. пед. ун-т імені Г. С. Сковороди. – Харків : ХНПУ, 2018. – 3 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Осіння школа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для молодих науковців : інформаційний лист про проведення лекційних і тренінгових занять для молодих учених / Г. С. Дідоренко ; Харк. нац. пед. ун-т імені Г. С. Сковороди. – Харків : ХНПУ, 2018. – 3 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Наукова  спадщина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академіка Івана Зязюна у вимірах сучасності та майбутнього :  І Міжнародна наук.-практ. конф.,  м.  Київ,  30–31  берез. 2017 р.  :  інформаційний лист / М-во освіти і науки України  ;  Нац. пед. ун-т  імені  М. П. Драгоманова.  – Київ, 2017. – 2 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Прямоугольник 1"/>
          <p:cNvSpPr/>
          <p:nvPr/>
        </p:nvSpPr>
        <p:spPr>
          <a:xfrm>
            <a:off x="950760" y="468360"/>
            <a:ext cx="10231560" cy="59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  <a:ea typeface="Arial"/>
              </a:rPr>
              <a:t>Приклади бібліографічного опис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  <a:ea typeface="Arial"/>
              </a:rPr>
              <a:t>Електронні ресурс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Локального доступ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Винаходи  в  Україні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: Національний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CD-ROM [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Електронний ресурс] / М-во  освіти і науки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України,  Держ.  Департамент  інтелектуал. власності,  Держ. Підприємство «Укр. Ін-т пром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власності». – Київ, 2005. – № 1–12. – 2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CD-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дис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Богомольний Б. Р.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Медицина екстремальних ситуацій [Електронний ресурс] : навч. посіб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для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студ. мед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вузів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II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–IV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рівнів акредитації / Б. Р. Богомольний, В. В. Кононенко, П. М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Чуєв. – 80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Min / 700 MB. –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Одеса : Одес. мед. ун-т, 2003. – (Бібліотека студента-медика =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Medical student's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library :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започатк. 1999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p.). – 1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електрон. опт. диск (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CD-ROM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Віддаленого доступ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Бібліотека і доступність інформації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у  сучасному світі : електронні ресурси в науці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культурі та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освіті : (підсумки 10-ї Міжнар. конф. „Крим-2003”) [Електронний ресурс] / Л. Й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Костенко, А. О.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Чекмарьов, А. Г. Бровкін, І. А. Павлуша // Бібліотечний вісник – 2003. – №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4. – С. 43. – Режим доступу до журн. : </a:t>
            </a:r>
            <a:r>
              <a:rPr b="0" lang="en-US" sz="1800" spc="-1" strike="noStrike" u="sng">
                <a:solidFill>
                  <a:srgbClr val="2683c6"/>
                </a:solidFill>
                <a:uFillTx/>
                <a:latin typeface="Calibri"/>
                <a:ea typeface="Arial"/>
                <a:hlinkClick r:id="rId1"/>
              </a:rPr>
              <a:t>http://www.nbuv.gov.ua/articles/2003/03klinko.ht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Ходош Э. М.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Врачебная деятельность : проблемы и задачи [Электронный ресурс] / Э. М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Ходош,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В. П. Кидонь // Здоров'я України. – 2006. – № 145. – Режим доступа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 u="sng">
                <a:solidFill>
                  <a:srgbClr val="2683c6"/>
                </a:solidFill>
                <a:uFillTx/>
                <a:latin typeface="Calibri"/>
                <a:ea typeface="Arial"/>
                <a:hlinkClick r:id="rId2"/>
              </a:rPr>
              <a:t>http://www.health-ua.com/articles/1331.htm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Прямоугольник 1"/>
          <p:cNvSpPr/>
          <p:nvPr/>
        </p:nvSpPr>
        <p:spPr>
          <a:xfrm>
            <a:off x="1335240" y="452520"/>
            <a:ext cx="9445320" cy="600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  <a:ea typeface="Arial"/>
              </a:rPr>
              <a:t>Приклади бібліографічного опис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  <a:ea typeface="Arial"/>
              </a:rPr>
              <a:t>Статті з періодичних видан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Алексєєнко А. П.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Педагогічні ідеї Григорія Сковороди у контексті сучасної гуманітарної освіти / А. П. Алексєєнко // Новий Колегіум : наук. інформ. журн. : вих. раз на два міс. / Харк. нац. ун-т радіоелектрон. – Харків : [б. в], 2016. – №1. – С. 3–7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Застосування кейс-методу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в професійній підготовці майбутніх учителів фізичної культури / І. Б. Гринченко, А. В. Попова, О. І. Чуприна [та ін.] // Здоровье, спорт, реабилитация / Харьков. нац. техн. ун-т сельск. хоз-ва имени П. Василенко, Харьков. нац. пед. ун-т имени Г. С. Сковороды, Харьков. гос. акад. дизайна и искусств ; [редкол. : Козина Ж. Л. (гл. ред.) и др.]. ‒ Харьков : Мадрид, 2015. ‒    № 1. ‒ С. 20‒2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Falyova H. Y.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Peculiarities of interconnection of self-actualizaation and psychopathological symptomatology of women and men from the crisis families / H. Y. Falyova, H. V. Vysotckaya // Modern European Researches : scientific journal. – Salzburg, 2016. – Is. 1. – P. 11–1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The reactivity of propyl esters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of N-[(2-oxoindolin-3-ylidene)- 2-oxiacetyl]amino acids / O. M. Svechnikova and etc. //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Вісник фармації : наук. журн. / МОЗ України, Нац. фармац. ун-т ; [редкол.: Черних В. П. (голов. ред.) та ін.]. – Харків : НФаУ, 2017. – №2 (90). – С. 3–6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Прямоугольник 1"/>
          <p:cNvSpPr/>
          <p:nvPr/>
        </p:nvSpPr>
        <p:spPr>
          <a:xfrm>
            <a:off x="1147680" y="0"/>
            <a:ext cx="9694800" cy="624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  <a:ea typeface="Arial"/>
              </a:rPr>
              <a:t>Приклади бібліографічного опис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  <a:ea typeface="Arial"/>
              </a:rPr>
              <a:t>Статті із збірок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Борисов В. А.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Дискурс і текст : формально-змістові диференціації // Іноземні мови у вищій освіті : лінгвістичні, психолого-педагогічні та методичні перспективи : матеріали ІІІ Всеукр. наук.-практ. конф. / Нац. юрид. ун-т імені Я. Мудрого. – Харків : НЮУ, 2016. – С. 29–3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Сапенко А. А.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Інфографіка як ефективний засіб запам'ятовування учнями навчального матеріалу / А. А. Сапенко, С. Т. Золотухіна // Наумовські читання : матеріали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XIV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студентської наук.-метод. конф., Харків, 24–25 листоп. 2016 р. / Харк. нац. пед. ун-т імені Г. С. Сковороди. – Харків : ХНПУ, 2017  . – С. 21–2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Піддубний О. Г.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Особливості організації відбору в команду з аеронавтичного багатоборства в ВВНЗ / О. Г. Піддубний, Ж. О. Цимбалюк // Стратегічне управління розвитком фізичної культури і спорту : матеріали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V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регіон. наук.-практ. інтернет-конф. з міжнар. участю, Харків, 26–28 квіт. 2017 р. / Харк. держ. акад. фіз. культури – Харків : ХДАФК, 2017. – С. 89–9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Психолого-педагогические аспекты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проблемы формирования здоровьесберегающей ответственности  у  студентов / О. В. Костикова, С. Н. Корсун, И. И. Шапошникова,  Я. В. Суворова // Актуальні проблеми медико-біологічного забезпечення фізичної культури, спорту  та  фізичної  реабілітації : зб. ст. ІІ Міжнар. наук.-практ. інтернет-конф., присвяч. 25-річчю  Незалежності  України  та  20-річчю  Дня Конституції, Харків, 21 квіт. 2016 р. / Харк. держ. акад. фіз. культури. – Харків : ХДАФК, 2016. – С. 545–55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Прямоугольник 1"/>
          <p:cNvSpPr/>
          <p:nvPr/>
        </p:nvSpPr>
        <p:spPr>
          <a:xfrm>
            <a:off x="1344600" y="420840"/>
            <a:ext cx="9418680" cy="60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  <a:ea typeface="Arial"/>
              </a:rPr>
              <a:t>Приклади бібліографічного опис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  <a:ea typeface="Arial"/>
              </a:rPr>
              <a:t>Розділи, глави, тем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Ідеологічні імперативи політичної культури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у контексті формування соціальної ідентичності / Г. М. Куц, І. В. Головко, Т. В. Панченко, О. М. Кузь, К. Г. Яцура // Правова і політична культура українського соціуму за умов модернізації політико-правового життя : монографія / [О. О. Безрук, Л. М. Герасіна, І. В. Головко та ін.] ; Нац. юрид. ун-т імені Я. Мудрого ; за ред. М. П. Требіна. – Харків : Право, 2017. – Розд. 4. – С. 358–506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Желібо Є. П.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Теоретичні основи безпеки життєдіяльності / Є. П. Желібо, Н. М. Заверуха, В. В. Зацарний // Безпека життєдіяльності : навч. посіб. для студ. вищ. навч. закл. ; за ред. Є. П. Желібо. – 6-те вид. – Київ : Каравела, 2010. – Розд. 1. – С. 14–55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Довгань Г. Д.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География : учебник для 7 кл. общеобразоват. учеб.  заведений с обучением на рус. яз. / Г. Д. Довгань, А. Г. Стадник. — Харьков : Ранок, 2015. – Разд.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V.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Океаны, тема 1. Тихий океан. – С. 257–267. : ил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Rubin Lewis I.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Легочная гипертензия /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Lewis I. Rubin //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Парсонз Полли Э. Секреты пульманологии / Полли Э. Парсонз, Джон Э. Хеффнер. – Москва, 2004. – Гл. 40. – С. 307–31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Свєчникова О. М.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Адсорбційні індикатори / О. М. Свєчнікова // Фармацевтична енциклопедія / Нац. фарм. ун-т ; редкол. : В. П. Черних (голов. ред.) та ін. – Вид. 2-ге, допов. – Київ : МОРІОН, 2010. – С. 26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Прямоугольник 1"/>
          <p:cNvSpPr/>
          <p:nvPr/>
        </p:nvSpPr>
        <p:spPr>
          <a:xfrm>
            <a:off x="1407960" y="809640"/>
            <a:ext cx="9472680" cy="545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  <a:ea typeface="Arial"/>
              </a:rPr>
              <a:t>Приклади бібліографічного опис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  <a:ea typeface="Arial"/>
              </a:rPr>
              <a:t>Образотворчі, картографічні, аудіо- та відеоматеріал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Харків і харків’яни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[Образотворчий матеріал] : фотоальбом / [фото Р. Т. Папік’яна ; текст Р. Б. Гнатишина]. – Київ : Мистецтво, 1989. – 184 с. : іл. – Загол. на авантит., зміст парал. укр., рос., англ. мов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Загальногеографічний атлас України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[Карти] / [уклад. та підгот. до друку Держ. наук.-виробн. підпр. «Картографія» у 2004 р. ; гол. ред. І. Руденко ; відпов. ред. Л. Марченко]. – Київ : ДНВП «Картографія» : Укргеодезкартографія, 2004. – 112 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Куерда Х.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 Атлас ботаніки / Хосе Куерда ; [пер. з ісп. В. Й. Шовкун]. – Харків : Ранок, 2005. – 96 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Русалочка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 [Видеозапись] : мультфильм /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Walt Disney Co. – L. Angeles, 1994. – 90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мин. – 1 в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Romantic collection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: Millennium ed. [Sound recording]. – Germany, 2001. – 45 min. – 1 mc. – Title from label casset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Прямоугольник 1"/>
          <p:cNvSpPr/>
          <p:nvPr/>
        </p:nvSpPr>
        <p:spPr>
          <a:xfrm>
            <a:off x="1308240" y="325440"/>
            <a:ext cx="9555120" cy="551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  <a:ea typeface="Arial"/>
              </a:rPr>
              <a:t>Приклади бібліографічного опис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  <a:ea typeface="Arial"/>
              </a:rPr>
              <a:t>Бібліографічні покажчики та каталог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Куц О. С.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Бібліографічний покажчик та анотації кандидатських дисертацій, захищених у спеціалізованій вченій раді Львівського державного університету фізичної культури у 2006 році / О. Куц, О. Вацеба. – Львів : Укр. Технології, 2007. – 74 с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Систематизований покажчик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матеріалів з кримінального права, опублікованих у Віснику Конституційного Суду України за 1997–2005 роки / [уклад. Б. О. Кирись, О. С. Потлань]. – Львів : Львів. держ. ун-т внутр. справ, 2006. – 11 с. – (Серія : Бібліографічні довідники ; вип. 2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Пам’ятки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 історії та мистецтва Львівської області : каталог-довідник / [ав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.-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упоряд. М. Зобків та ін.]. – Львів : Новий час, 2003. – 160 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Університетська книга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: осінь, 2003 р. : [каталог]. – [Суми : Університет. кн., 2003]. – 11 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Горницкая И. П.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Каталог растений для работ по фитодизайну / Донец. ботан. сад НАН Украины. – Донецк : Лебедь, 2005. – 228 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Історико-правова спадщина України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: кат. вист. / Харків. держ. наук. б-ка імені В. Г. Короленка ; уклад. : Л. І. Романова, О. В. Земляніщина. – Харків, 1996. – 64 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Прямоугольник 1"/>
          <p:cNvSpPr/>
          <p:nvPr/>
        </p:nvSpPr>
        <p:spPr>
          <a:xfrm>
            <a:off x="1050840" y="347760"/>
            <a:ext cx="10049040" cy="57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  <a:ea typeface="Arial"/>
              </a:rPr>
              <a:t>Приклади бібліографічного опис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  <a:ea typeface="Arial"/>
              </a:rPr>
              <a:t>Неопубліковані документ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Презентаці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М'ясоєдов В. В.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Мінливість як властивість життя і генетичне явище : слайд-лекція для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студентів [Електронний ресурс] : [презентація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PowerPoint] /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В. В. М'ясоєдов. – Електр. дані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(125 слайдів). – Харків, 201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Звіт про науково-дослідну робот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Розвиток наукового співробітництва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 НАН України з провідними зарубіжними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науковим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центрами та організаціями / НАН України, Центр досліджень наук.-техн.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потенціалу і історії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науки імені Г. М. Дуброва ; кер-к Онищенко О. С., Маліцький Б. А. ;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викон. Маліцький Б. А.,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Онищенко О. С., Попик В. І. [та ін.]. – Київ, 2008. – 178 с. – ДР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0108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U004050. –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Інв. № ХХХХХХХ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Депоновані наукові прац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Ільїч Л. М.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Формування і реалізація трудового потенціалу України в умовах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демографічної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кризи / Л. М. Ільїч ; Держ. акад. статистики, обліку та аудиту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Держкомстату України. – Київ,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2005. – 271 с. – Деп. у ДНТБ України 11.07.05, №43-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Ук2005. – Укр. – Бібліогр. : 154 наз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Архівні докумен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Докладная записка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комиссии по организации кабинета товароведения; список книг и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журналов, выделенных из фундаментальной библиотеки для кабинетов // Держархів м.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Києва, ф. 153, оп. 8, спр. 164,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арк. 3–5 з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Прямоугольник 8"/>
          <p:cNvSpPr/>
          <p:nvPr/>
        </p:nvSpPr>
        <p:spPr>
          <a:xfrm>
            <a:off x="1222200" y="588960"/>
            <a:ext cx="9634680" cy="58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Calibri"/>
                <a:ea typeface="Arial"/>
              </a:rPr>
              <a:t> </a:t>
            </a:r>
            <a:r>
              <a:rPr b="1" lang="ru-RU" sz="22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  <a:ea typeface="Arial"/>
              </a:rPr>
              <a:t>Стандарти, що регламентую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   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  <a:ea typeface="Arial"/>
              </a:rPr>
              <a:t>складання бібліографічного запис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  <a:ea typeface="Arial"/>
              </a:rPr>
              <a:t>ДСТУ ГОСТ 7.80:2007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Arial"/>
              </a:rPr>
              <a:t>Бібліографічний запис. Заголовок. Загальні вимоги та правила складанн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  <a:ea typeface="Arial"/>
              </a:rPr>
              <a:t>ДСТУ ГОСТ 7.1:2006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Arial"/>
              </a:rPr>
              <a:t>Бібліографічний запис. Бібліографічний опис. Загальні вимоги та правила складанн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  <a:ea typeface="Arial"/>
              </a:rPr>
              <a:t>ДСТУ 3582:2013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Arial"/>
              </a:rPr>
              <a:t>Бібліографічний опис. Скорочення слів і словосполучень українською мовою. Загальні вимоги та правил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  <a:ea typeface="Arial"/>
              </a:rPr>
              <a:t>ДСТУ 7093:2009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Arial"/>
              </a:rPr>
              <a:t>Бібліографічний запис. Скорочення слів і словосполук, поданих іноземними європейськими мовам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  <a:ea typeface="Arial"/>
              </a:rPr>
              <a:t>ГОСТ 7.12-93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Arial"/>
              </a:rPr>
              <a:t>Библиографическая запись. Сокращение слов на русском языке. Общие требования и правил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Рисунок 3" descr=""/>
          <p:cNvPicPr/>
          <p:nvPr/>
        </p:nvPicPr>
        <p:blipFill>
          <a:blip r:embed="rId1"/>
          <a:stretch/>
        </p:blipFill>
        <p:spPr>
          <a:xfrm>
            <a:off x="4260960" y="4584600"/>
            <a:ext cx="987480" cy="993960"/>
          </a:xfrm>
          <a:prstGeom prst="rect">
            <a:avLst/>
          </a:prstGeom>
          <a:ln w="0">
            <a:noFill/>
          </a:ln>
        </p:spPr>
      </p:pic>
      <p:sp>
        <p:nvSpPr>
          <p:cNvPr id="243" name="Прямоугольник 1"/>
          <p:cNvSpPr/>
          <p:nvPr/>
        </p:nvSpPr>
        <p:spPr>
          <a:xfrm>
            <a:off x="977760" y="1962000"/>
            <a:ext cx="427068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  <a:ea typeface="Arial"/>
              </a:rPr>
              <a:t>Укладач   Світлана  Коваленко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заступник директора НБ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ХНПУ імені Г. С. Сковород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Прямоугольник 2"/>
          <p:cNvSpPr/>
          <p:nvPr/>
        </p:nvSpPr>
        <p:spPr>
          <a:xfrm>
            <a:off x="5157720" y="4711680"/>
            <a:ext cx="44960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Calibri"/>
                <a:ea typeface="Arial"/>
              </a:rPr>
              <a:t>717 10 3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Arial"/>
              </a:rPr>
              <a:t>email: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fr-FR" sz="1800" spc="-1" strike="noStrike" u="sng">
                <a:solidFill>
                  <a:srgbClr val="2683c6"/>
                </a:solidFill>
                <a:uFillTx/>
                <a:latin typeface="Calibri"/>
                <a:ea typeface="Arial"/>
                <a:hlinkClick r:id="rId2"/>
              </a:rPr>
              <a:t>svetlana.kovalenko2018@gmail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Прямоугольник 1"/>
          <p:cNvSpPr/>
          <p:nvPr/>
        </p:nvSpPr>
        <p:spPr>
          <a:xfrm>
            <a:off x="1276200" y="728640"/>
            <a:ext cx="9734760" cy="57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  <a:ea typeface="Arial"/>
              </a:rPr>
              <a:t>Приклади бібліографічного опис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  <a:ea typeface="Arial"/>
              </a:rPr>
              <a:t>Книг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Одного авто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Моторіна В. Г.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Професійна компетентність учителя  математики  профільної  школи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:  навч.  посіб.   для   студ.  природн. - мат.  спец.  пед.   ВНЗ  / В. Г. Моторіна ; Харк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нац. пед. ун-т  імені  Г. С. Сковороди. – Харків : ХНПУ, 2014. – 267 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Двох авторі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Корсак К. В.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Основи екології : навч. посіб. / К. В. Корсак, О. В. Плахотнік ; Міжрегіон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Акад. упр. персоналом. – 3-тє вид., переробл. і допов. – Київ : [б. в.], 2002. – 296 с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 :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і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Дубовик В. П.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Вища  математика : у 3-х ч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: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навч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посібник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для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студ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вищих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навч.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з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аклад. Ч. І / В. П. Дубовик, І. І. Юрик. – 2-е вид. – Харків : Веста, 2008    . – 196 с. : іл. –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(Серія «Вища школа»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Фоменко К. І.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Reading for Psychologists :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навч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.-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метод. посіб. / К. І. Фоменко, О. І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Кузнецов ; Харк. нац. пед. ун-т імені Г. С. Сковороди. – Харків : Діса-плюс, 2017. – 183 с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: іл., портр. –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Текст анг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Трьох авторі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Бойчук Ю. Д.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Екологія і охорона навколишнього середовища : навч. посіб. для студ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вищ. навч. закл. / Ю. Д. Бойчук, Е. М. Солошенко, О. В. Бугай. – 3-тє вид., випр. і допов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– Суми : Унів. кн. ; Київ : Княгиня Ольга, 2005. – 302 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Прямоугольник 1"/>
          <p:cNvSpPr/>
          <p:nvPr/>
        </p:nvSpPr>
        <p:spPr>
          <a:xfrm>
            <a:off x="1285920" y="650880"/>
            <a:ext cx="9744120" cy="545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  <a:ea typeface="Arial"/>
              </a:rPr>
              <a:t>Приклади бібліографічного опис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  <a:ea typeface="Arial"/>
              </a:rPr>
              <a:t>Книг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Чотирьох авторі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Еволюція  деяких  екологічних  систем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під впливом природних факторів : посіб.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для студ.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природн.  ф-тів  пед. та  аграрн.  ун-тів / О. І. Завгородній,   В. В. Мирось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М. П. Пришляк, Т. Д. Пришляк ; Харк. Нац. аграр. ун-т  імені В. В. Докучаєва,  Харк. нац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техн.  ун-т с.-г.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імені  П. М. Василенка,  Харк. нац. пед. ун-т  імені  Г. С. Сковороди. –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Харків : [б. в.], 2010. –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149 с. : і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П'яти і більше авторі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Київщинознавство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 :  навч. посіб. / В. П. Коцур, В. В. Куйбіда, Б. О.  Чернов [та ін.]  ;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Переяслав-Хмельн.  держ.  пед.  ун-т  імені  Г.  С. Сковороди  ;  за  заг. наук. ред.  В. П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Коцура. –  Київ : Міленіум,  2007. – 309 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Перекладені видан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Киндер Г.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  Всемирная история / Г. Киндер, В. Хильгеман ; науч. ред. пер. А. И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Слюсаренко,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А. Ф. Иванов ; пер. с нем. – Москва : Рыбари, 2003. – 638 с. : ил.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карт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Руководство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 к практическому применению преобразования Лапласа : с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приложением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таблиц, составленных Р. Гершелем / Г. Деч ; пер. со 2-го нем. изд. Г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А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Вольперта. – Москва :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Наука, 1965. – 288 с. : ил. – (Физико-математическая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библиотека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инженера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Прямоугольник 1"/>
          <p:cNvSpPr/>
          <p:nvPr/>
        </p:nvSpPr>
        <p:spPr>
          <a:xfrm>
            <a:off x="1344600" y="797040"/>
            <a:ext cx="9753480" cy="518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  <a:ea typeface="Arial"/>
              </a:rPr>
              <a:t>Приклади бібліографічного опис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  <a:ea typeface="Arial"/>
              </a:rPr>
              <a:t>Книг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Книга за редакціє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Організація праці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 : навч. посіб. / В. М. Данюк, А. С. Тельнов, С. Л. Решміділова та ін. ;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за ред. В. М. Данюк. – Київ : КНЕУ, 2009. – 333 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Міжнародна економіка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: навч. посіб. / за ред. Ю. Г. Козака. – Київ : ЦУЛ, 2008. – 1118 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Без авто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Історія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 Свято-Михайлівського Золотоверхого монастиря / [авт. тексту В. Клос]. – Київ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Грані-Т, 2007. – 119 с. – (Грані світу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Словн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Бибик С. П.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Словник епітетів української мови / С. П. Бибик, С. Я. Єрмоленко, Л. О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Пустовіт. – Київ : Довіра, 1998. – 431 с. – (Словники України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Соловйов В. О.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Природа України : словник-довідник для вчителів та учнів / В. О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Соловйов,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В. В. Грицайчук. – Харків : Основа, 2009. – Ч. 1. – 96 с.  – (Бібліотека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журналу "Географія" ; вип. 10 (70)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Сучасний тлумачний словник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української мови : для шк., абітур., студ., викл. /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уклад. : Л. П.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Олексієнко, О. Л. Шумейко. – Київ : Кобза, 2004. – 543 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Прямоугольник 1"/>
          <p:cNvSpPr/>
          <p:nvPr/>
        </p:nvSpPr>
        <p:spPr>
          <a:xfrm>
            <a:off x="1457280" y="800280"/>
            <a:ext cx="90853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6496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  <a:ea typeface="Arial"/>
              </a:rPr>
              <a:t>Приклади бібліографічного опис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6496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  <a:ea typeface="Arial"/>
              </a:rPr>
              <a:t>Методичні вказівки та рекомендації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6496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6496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6496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Шиловцева Н. В.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Управлінська  практика  бакалаврів.  Програма та  методичні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рекомендації  :  для  студ. екон. ф-ту галузі  знань 0305 «Економіка і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підприємництво»,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спец. 6.030501 – «Екон.  теор.  Менедж.  освіти» /  Н.  В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Шиловцева ; Харк. нац. пед. ун-т імені  Г. С. Сковороди. – Харків : ХНПУ, 2017. –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35 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6496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Панаетова О. А.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On the move :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метод. рек. для студ. 2-го курсу ф-ту інозем. філол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/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О. А. Панаетова, В. В. Пантюхін, О. О. Українська ; Харк. нац. пед. ун-т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імені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Г.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С. Сковороди. –  Харків  :  ХНПУ,  2005.  –  61 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6496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Організація та методика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ігрової діяльності : метод. вказівки до вивч. курсу для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студ.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ф-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ту культурології / М-во культури і мистецтв України [та ін.] ; уклад. Л. Г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Тишевська.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 –  Харків  :  ХДІК, 1998. – 24 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6496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Фізіологія крові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та внутрішнього середовища : метод. рек. для студ. вищ. навч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закл. до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лаб. занять з курсу «Фізіологія людини». Ч. 3. Фізіологія   крові   та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внутрішнього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середовища  / Харків.  нац.  пед.  ун-т  імені  Г.  С. Сковороди  ;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уклад.  :   І.  А.  Іонов,  Т. Є.  Комісова,   В.  Ф.  Слюсарев,  С.  О.  Шаповалов. –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Харків  :  ХНПУ,  2017.  – 48 с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Прямоугольник 2"/>
          <p:cNvSpPr/>
          <p:nvPr/>
        </p:nvSpPr>
        <p:spPr>
          <a:xfrm>
            <a:off x="1243080" y="498600"/>
            <a:ext cx="9583560" cy="57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  <a:ea typeface="Arial"/>
              </a:rPr>
              <a:t>Приклади бібліографічного опис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  <a:ea typeface="Arial"/>
              </a:rPr>
              <a:t>Багатотомні виданн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Зведений опи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Антоненко-Давидович Б. Д.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Твори : в 2 т. / Б. Д. Антоненко-Давидович. – Київ :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Наук.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думка, 1999. – (Бібліотека української літератури). – Т. 1–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Яворницький Д. І.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Історія запорізьких козаків : у 3 т. / Д. І. Яворницький ; з рос. пер. І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Сварник. – Львів : Світ, 1992. – 3 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Зарубіжна література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: стислий виклад змісту всіх творів за новою шкільною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програмою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: 10–11 кл. : у 2 т. : повна зб. за сучасною програмою / авт.–упоряд. І. Л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Столій. – Харків : Ранок, 2000. – 672 с. – (Дайджест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Окремий т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Антологія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 української юридичної думки : в 10 т. / Інститут держави і права імені В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М.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Корецького НАН України. – Київ : Юридична книга, 2002 . – Т. 1 : Загальна теорія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держави і права, філософія та енциклопедія права. – 568 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Спортивні ігри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: навч. посіб. для студ. вищ. навч. закл. : [у 2 т.] / Ж. Л. Козіна, Ю. М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Поярков, О. В. Церковна, В. О. Воробйова ; Харк. нац. пед. ун-т імені Г. С. Сковороди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; під заг. ред. Ж. Л. Козіної. – Харків : Точка, 2010. – Т. 1 : Загальні основи теорії і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методики спортивних ігор. – 200 с. : і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Прямоугольник 1"/>
          <p:cNvSpPr/>
          <p:nvPr/>
        </p:nvSpPr>
        <p:spPr>
          <a:xfrm>
            <a:off x="1335240" y="690480"/>
            <a:ext cx="9482040" cy="54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  <a:ea typeface="Arial"/>
              </a:rPr>
              <a:t>Приклади бібліографічного опис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  <a:ea typeface="Arial"/>
              </a:rPr>
              <a:t>  </a:t>
            </a:r>
            <a:r>
              <a:rPr b="1" lang="ru-RU" sz="2200" spc="-1" strike="noStrike">
                <a:solidFill>
                  <a:srgbClr val="000000"/>
                </a:solidFill>
                <a:latin typeface="Calibri"/>
                <a:ea typeface="Arial"/>
              </a:rPr>
              <a:t>Збірки наукових праць, матеріалів конференці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Біологія та валеологія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: зб. наук. пр. / Харк. нац. пед. ун-т імені Г. С. Сковороди ; [редкол. : Л. П. Харченко (голов. ред.) та ін.]. – Харків : ХНПУ, 2015. – Вип. 17. – 147 с. : і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Особистість студента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і соціокультурне середовище університету в суспільному контексті : матер. Всеукр. наук.-практ. конф., Київ, 2 черв. 2017 р. / Ін-т вищої освіти НАПН України ; вступ. сл. В. І. Рябченка. – Київ : ІВО НАПНУ, 2017. – 148 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Сучасні технології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в сфері фізичного виховання, спорту та валеології : зб. наук. пр. учасн-в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X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міжнар. Інтернет наук.-метод. конф. / Нац. Акад. Нац. Гвардії України ; за ред. В. П. Бізіна. – Харків : НАНГУ, 2016. – Вип. 10. – 340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Восьмі сумцовські читання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: зб. матеріалів наук. конф., присвяч. 100-річчю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XII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Археологічного з’їзду 12 квіт. 2002 р. / М-во культури і мистецтв України [та ін.]. – Харків : ХНАДУ,  2003. – 138 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Прямоугольник 1"/>
          <p:cNvSpPr/>
          <p:nvPr/>
        </p:nvSpPr>
        <p:spPr>
          <a:xfrm>
            <a:off x="1246320" y="555480"/>
            <a:ext cx="9580320" cy="573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  <a:ea typeface="Arial"/>
              </a:rPr>
              <a:t>Приклади бібліографічного опис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  <a:ea typeface="Arial"/>
              </a:rPr>
              <a:t>Дисертації, автореферати та монографії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Фазан В. В.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Просвітницько-виховна діяльність Лавр як духовних осередків на українських землях (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XVIII –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початок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XX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століття) : дис. на здоб. наук. ступеня д-ра пед. наук : спец. 13.00.01 – заг. теор. та іст. пед. / В. В. Фазан ; Харк. нац. пед. ун-т імені Г. С. Сковороди. – Харків : ХНПУ, 2015. – 646 с. + дод.,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CD-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Борисов В. А.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Лінгвокомунікативний аспект українського мовознавчого дискурсу : автореф. дис. на здоб. наук. ступеня канд. філол. наук : спец. 10.02.01 – укр. мова / В. А. Борисов ; Харк. нац. пед. ун-т імені Г. С. Сковороди. – Харків : ХНПУ, 2011. – 20 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Кузнєцов М. А.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Емоційне ставлення студентів до навчання : монографія / М. А. Кузнєцов, Я. В. Козуб ; Харк. нац. пед. ун-т імені Г. С. Сковороди. – Харків : Діса плюс, 2017. – 282 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Сталий розвиток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територіальної громади : управлінський аспект : кол. моногр. / Нац. акад. держ. упр. при Президентові України, Харк. регіон. ін-т держ. упр. ; [Ю. О. Куц, В. В. Мамонова, О. К. Чаплигін та ін. ; за заг. ред. Ю. О. Куца, В. В. Мамонової]. – Харків : ХарРі НАДУ Магістр, 2008. – 236 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1-04T11:09:03Z</dcterms:created>
  <dc:creator>Chief</dc:creator>
  <dc:description/>
  <dc:language>en-US</dc:language>
  <cp:lastModifiedBy>RePack by Diakov</cp:lastModifiedBy>
  <dcterms:modified xsi:type="dcterms:W3CDTF">2018-12-15T10:07:40Z</dcterms:modified>
  <cp:revision>113</cp:revision>
  <dc:subject/>
  <dc:title>Презентация PowerPoint</dc:title>
</cp:coreProperties>
</file>